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C9F-E4AA-4F29-8F16-67F63FBB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1C0-B2A3-4A98-B0D1-E39E260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FA8-D354-4C09-9CC1-5DD6CE49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204-0FFF-47B0-9A4D-0558F92A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8BD-F3CA-4C48-9E90-FD7882DA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D9A-2A95-47EB-BB61-21C20676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D99-7458-4EFD-99CF-E3154DD3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AD4-AC42-451B-B5BE-93DDB18E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F61-9C4C-4CEB-9A44-722CF85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F5D7-FB05-4221-AC02-1D95CB1B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D1D-C30A-4679-99DF-9957D20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286-8EF5-4B60-9B22-49FC1E6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3B7-EB1B-4F07-A01C-BF672E034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863640" cy="74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164360" y="404640"/>
            <a:ext cx="1008000" cy="9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ru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133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nges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76720" y="1916280"/>
            <a:ext cx="1079280" cy="102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19640" y="2205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l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877080" y="1916280"/>
            <a:ext cx="1035000" cy="82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1280" y="51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5084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3716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pi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3645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ka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340000" y="3429000"/>
            <a:ext cx="747720" cy="101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804000" y="3500280"/>
            <a:ext cx="1206360" cy="89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340000" y="486900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308720" y="4941720"/>
            <a:ext cx="13320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62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ru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133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nges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2205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l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1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8464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716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pi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645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ka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87640" y="620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620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2421000"/>
            <a:ext cx="68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36572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863640" cy="74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72360" y="907920"/>
            <a:ext cx="1008000" cy="9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2852640"/>
            <a:ext cx="1079640" cy="102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1035000" cy="82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924360" y="981000"/>
            <a:ext cx="747720" cy="101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187280" y="1052640"/>
            <a:ext cx="120672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619280" y="278136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780000" y="4869000"/>
            <a:ext cx="133164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443640" y="4941720"/>
            <a:ext cx="863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2:24:42Z</dcterms:created>
  <dc:creator> </dc:creator>
  <dc:description/>
  <dc:language>en-US</dc:language>
  <cp:lastModifiedBy> </cp:lastModifiedBy>
  <dcterms:modified xsi:type="dcterms:W3CDTF">2009-06-21T12:35:00Z</dcterms:modified>
  <cp:revision>2</cp:revision>
  <dc:subject/>
  <dc:title>Slide 1</dc:title>
</cp:coreProperties>
</file>