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74C-1D96-44D9-AF4A-F5F068AD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779-D390-4DEB-89D6-26590B88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71A-8071-4A7A-903E-61787271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20E-8226-45AC-8D6D-160546EE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EE65-E714-4B7B-B88F-A69E7759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9083-222F-4A69-B3E6-57752118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E8D8-6CB5-49EC-ADF5-D1219944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90DF-C7F4-489F-895E-61588CE6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D153-4970-46DA-B2A2-E0AC4DC3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EEC3-8794-4495-8C88-A1D6773B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2CA3-91BD-46D9-80FC-B39B9A1F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9A9-1D07-4B3C-B3CB-EA9846AA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7BB4-60BA-41A4-917A-3AD433DE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6607-B218-46B7-9367-23E5F172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EA8C-A1FE-44EB-8EB0-580E1AAB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E8B4-D2BC-4230-9B2A-49BC0021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E4BC-3921-44B2-937D-A664AB29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96856-B706-4317-AAD3-0CC23CFC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BF92-6BC1-4595-A9CB-035DADD9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CF320-E5E5-4307-A1C9-539CF33F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A25F-1175-4B67-A026-B12C46C3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E807B-5143-4094-A26C-1FDD52B6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D25-A55E-475F-A577-35DF0A98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5F4B-B2A4-4F4D-B009-859A2091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824E-DCA4-4AD9-AB68-10B0C1B6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3011C-9BE5-4984-8DBB-47A3CA87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937FB-9B9D-4F8E-96D7-89251475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6E9A9-6E48-4BB6-BED3-F10E2C41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EF45D-0342-484B-8EF3-0CF8B121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4D0F5-CB75-4DC3-97D2-22766E25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7CE-1B60-4DEE-A8F1-F23E0F55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601-3BC3-421A-94DB-E5567358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09D-47AB-4F89-8451-01890E8A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F1C-2E02-4A87-B717-99C61184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533-F126-4BF2-9B24-BF37B9D4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E01-8D3B-41FB-9C7F-5FE57F95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9601-E148-4610-AA14-B8A9968A37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B29C-7868-4B5B-BB4D-46DD3C38C2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6455-CD52-4BCB-A342-12BA1F2C778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co.uk/imgres?imgurl=http://www.enchantedlearning.com/europe/france/flag/Flagbig.GIF&amp;imgrefurl=http://www.enchantedlearning.com/europe/france/flag/flaganswers.shtml&amp;h=219&amp;w=321&amp;sz=4&amp;tbnid=kxYm6yqCVoHI_M:&amp;tbnh=81&amp;tbnw=118&amp;prev=/images%3Fq%3Dfrance%2Bflags%26um%3D1&amp;start=3&amp;sa=X&amp;oi=images&amp;ct=image&amp;cd=3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o.uk/imgres?imgurl=http://www.appliedlanguage.com/flags_of_the_world/large_flag_of_germany.gif&amp;imgrefurl=http://www.appliedlanguage.com/flags_of_the_world/flag_of_germany.shtml&amp;h=302&amp;w=495&amp;sz=2&amp;tbnid=DXCmv7HRUgNJHM:&amp;tbnh=79&amp;tbnw=130&amp;prev=/images%3Fq%3Dgermany%2Bflags%26um%3D1&amp;start=1&amp;sa=X&amp;oi=images&amp;ct=image&amp;cd=1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2007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ffff"/>
                </a:solidFill>
                <a:latin typeface="Arial"/>
              </a:rPr>
              <a:t>The Foreign Language Leader Award</a:t>
            </a: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53" name="Picture 5" descr="menulogo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1400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http://www.enchantedlearning.com/europe/france/flag/flaganswers.shtm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6165720"/>
            <a:ext cx="1224000" cy="692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http://www.appliedlanguage.com/flags_of_the_world/flag_of_germany.shtm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08720" y="6105600"/>
            <a:ext cx="1167120" cy="752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http://www.learn-spanish-help.com/flags-of-spanish-speaking-countries.html"/>
          <p:cNvPicPr/>
          <p:nvPr/>
        </p:nvPicPr>
        <p:blipFill>
          <a:blip r:embed="rId6"/>
          <a:stretch/>
        </p:blipFill>
        <p:spPr>
          <a:xfrm>
            <a:off x="2484360" y="6138720"/>
            <a:ext cx="1209600" cy="719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http://www.chevroncars.com/learn/flags/Italy"/>
          <p:cNvPicPr/>
          <p:nvPr/>
        </p:nvPicPr>
        <p:blipFill>
          <a:blip r:embed="rId7"/>
          <a:stretch/>
        </p:blipFill>
        <p:spPr>
          <a:xfrm>
            <a:off x="250920" y="6192720"/>
            <a:ext cx="1209600" cy="6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ecff"/>
                </a:solidFill>
                <a:uFillTx/>
                <a:latin typeface="Arial"/>
              </a:rPr>
              <a:t>What will I do over the cours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 how to plan, deliver and evaluate les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 Year 7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 primary pupi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n a language festi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eate a presentation on the culture of a country using 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ow will I be assesse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continuous assessment from the beginning of the course based on 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titu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am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gan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king the initi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1 hour’s teaching (minimum) will be ob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ow long will it tak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course takes about 30 hours which you will do in less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 the end of this you will receive a certificate stating that you have passed the Language Leader Aw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7" descr="clapsmiley"/>
          <p:cNvPicPr/>
          <p:nvPr/>
        </p:nvPicPr>
        <p:blipFill>
          <a:blip r:embed="rId1"/>
          <a:stretch/>
        </p:blipFill>
        <p:spPr>
          <a:xfrm>
            <a:off x="5796000" y="4005360"/>
            <a:ext cx="4572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Future benef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will have useful skills which employers and colleges are keen to s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ious language leaders have commented on increased confidence and better study skills after having done the cour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will become a responsible member of the Languages  Department and can choose to help in leading even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Comments or questions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0:12:02Z</dcterms:created>
  <dc:creator>Staff</dc:creator>
  <dc:description/>
  <dc:language>en-US</dc:language>
  <cp:lastModifiedBy>stevenke</cp:lastModifiedBy>
  <dcterms:modified xsi:type="dcterms:W3CDTF">2010-07-26T13:11:04Z</dcterms:modified>
  <cp:revision>3</cp:revision>
  <dc:subject/>
  <dc:title>The Foreign Language Leader Award </dc:title>
</cp:coreProperties>
</file>