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19.png" ContentType="image/png"/>
  <Override PartName="/ppt/media/image17.wmf" ContentType="image/x-wmf"/>
  <Override PartName="/ppt/media/image16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15.png" ContentType="image/png"/>
  <Override PartName="/ppt/media/image5.jpeg" ContentType="image/jpeg"/>
  <Override PartName="/ppt/media/image4.jpeg" ContentType="image/jpeg"/>
  <Override PartName="/ppt/media/image6.jpeg" ContentType="image/jpeg"/>
  <Override PartName="/ppt/media/image18.png" ContentType="image/png"/>
  <Override PartName="/ppt/media/image7.jpeg" ContentType="image/jpeg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8ED4-385B-4ED1-9933-7D8F68552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14360" y="20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D95E-5A5A-40FE-9AA1-A461E2BDB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14360" y="20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3783-95BA-45C7-BACA-2B677833F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14360" y="20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945B-9EB0-4616-B822-34B8618C2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237EA-4D57-40CA-BC25-DC2E83B98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314360" y="20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82EE9-9C4E-4284-AED5-6F9447D00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314360" y="20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E2FE7-D496-4C30-94B3-F7457E0B0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14360" y="20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892E6-BFBE-4F13-9EA5-90E3E7FB3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314360" y="20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0C0C4-4DEE-4CCD-B9C3-771569B2E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1314360" y="201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BD0F9-8A63-4246-A1AE-BDE10578F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314360" y="20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289D4-954B-452C-9B0F-DC49EE172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14360" y="20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CF19-B089-4D7F-BEDB-F05D73626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314360" y="20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2FBED-C54B-4280-90E3-5A0172485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314360" y="20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72104-7DA3-41CF-8E68-67F09319E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314360" y="20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73CAC-9678-4EBE-A79C-833FC5027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314360" y="20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F4639-E1A1-4221-BD30-4981EEAEE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14360" y="20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A9DEB-FA77-42D2-9068-726E45910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14360" y="20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D4BB-4C00-4344-95AE-F37681515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14360" y="20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C77C-F7E3-4398-84BF-C224A166A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14360" y="20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8ED7-BD2B-48C2-A241-99EA84D0F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314360" y="201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80AB-ABC5-4394-A952-9DE2C3D1F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14360" y="20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6196-72C5-4531-934C-3A9FFA181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14360" y="20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455F-3396-4F0D-9252-22FA948AA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14360" y="20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7CBD-573D-4D2D-B0B2-0C1BECC23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e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5560" y="-56880"/>
            <a:ext cx="9166320" cy="7189920"/>
            <a:chOff x="-25560" y="-56880"/>
            <a:chExt cx="9166320" cy="7189920"/>
          </a:xfrm>
        </p:grpSpPr>
        <p:grpSp>
          <p:nvGrpSpPr>
            <p:cNvPr id="1" name=""/>
            <p:cNvGrpSpPr/>
            <p:nvPr/>
          </p:nvGrpSpPr>
          <p:grpSpPr>
            <a:xfrm>
              <a:off x="-25560" y="-56880"/>
              <a:ext cx="9161640" cy="7189920"/>
              <a:chOff x="-25560" y="-56880"/>
              <a:chExt cx="9161640" cy="718992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2908080" y="1080"/>
                <a:ext cx="331920" cy="6852240"/>
                <a:chOff x="2908080" y="1080"/>
                <a:chExt cx="331920" cy="68522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2908080" y="4680"/>
                  <a:ext cx="331920" cy="6848640"/>
                </a:xfrm>
                <a:custGeom>
                  <a:avLst/>
                  <a:gdLst/>
                  <a:ahLst/>
                  <a:rect l="l" t="t" r="r" b="b"/>
                  <a:pathLst>
                    <a:path w="209" h="4314">
                      <a:moveTo>
                        <a:pt x="14" y="4314"/>
                      </a:moveTo>
                      <a:cubicBezTo>
                        <a:pt x="11" y="4130"/>
                        <a:pt x="21" y="3515"/>
                        <a:pt x="19" y="3207"/>
                      </a:cubicBezTo>
                      <a:cubicBezTo>
                        <a:pt x="17" y="2899"/>
                        <a:pt x="5" y="2613"/>
                        <a:pt x="3" y="2467"/>
                      </a:cubicBezTo>
                      <a:cubicBezTo>
                        <a:pt x="0" y="2321"/>
                        <a:pt x="2" y="2360"/>
                        <a:pt x="3" y="2330"/>
                      </a:cubicBezTo>
                      <a:cubicBezTo>
                        <a:pt x="3" y="2300"/>
                        <a:pt x="7" y="2302"/>
                        <a:pt x="8" y="2288"/>
                      </a:cubicBezTo>
                      <a:cubicBezTo>
                        <a:pt x="10" y="2274"/>
                        <a:pt x="11" y="2260"/>
                        <a:pt x="10" y="2244"/>
                      </a:cubicBezTo>
                      <a:cubicBezTo>
                        <a:pt x="9" y="2228"/>
                        <a:pt x="4" y="2217"/>
                        <a:pt x="3" y="2193"/>
                      </a:cubicBezTo>
                      <a:cubicBezTo>
                        <a:pt x="1" y="2169"/>
                        <a:pt x="1" y="2159"/>
                        <a:pt x="3" y="2103"/>
                      </a:cubicBezTo>
                      <a:cubicBezTo>
                        <a:pt x="4" y="2046"/>
                        <a:pt x="11" y="1988"/>
                        <a:pt x="12" y="1849"/>
                      </a:cubicBezTo>
                      <a:cubicBezTo>
                        <a:pt x="13" y="1710"/>
                        <a:pt x="10" y="1578"/>
                        <a:pt x="10" y="1270"/>
                      </a:cubicBezTo>
                      <a:cubicBezTo>
                        <a:pt x="10" y="961"/>
                        <a:pt x="8" y="211"/>
                        <a:pt x="12" y="0"/>
                      </a:cubicBezTo>
                      <a:lnTo>
                        <a:pt x="34" y="4"/>
                      </a:lnTo>
                      <a:cubicBezTo>
                        <a:pt x="38" y="175"/>
                        <a:pt x="37" y="711"/>
                        <a:pt x="37" y="1026"/>
                      </a:cubicBezTo>
                      <a:cubicBezTo>
                        <a:pt x="38" y="1342"/>
                        <a:pt x="38" y="1717"/>
                        <a:pt x="36" y="1897"/>
                      </a:cubicBezTo>
                      <a:cubicBezTo>
                        <a:pt x="39" y="1973"/>
                        <a:pt x="29" y="2051"/>
                        <a:pt x="25" y="2105"/>
                      </a:cubicBezTo>
                      <a:cubicBezTo>
                        <a:pt x="22" y="2164"/>
                        <a:pt x="20" y="2202"/>
                        <a:pt x="39" y="2212"/>
                      </a:cubicBezTo>
                      <a:cubicBezTo>
                        <a:pt x="57" y="2226"/>
                        <a:pt x="81" y="2231"/>
                        <a:pt x="102" y="2228"/>
                      </a:cubicBezTo>
                      <a:cubicBezTo>
                        <a:pt x="123" y="2231"/>
                        <a:pt x="150" y="2235"/>
                        <a:pt x="163" y="2228"/>
                      </a:cubicBezTo>
                      <a:cubicBezTo>
                        <a:pt x="176" y="2221"/>
                        <a:pt x="178" y="2209"/>
                        <a:pt x="181" y="2184"/>
                      </a:cubicBezTo>
                      <a:cubicBezTo>
                        <a:pt x="184" y="2159"/>
                        <a:pt x="180" y="2113"/>
                        <a:pt x="180" y="2077"/>
                      </a:cubicBezTo>
                      <a:cubicBezTo>
                        <a:pt x="179" y="2041"/>
                        <a:pt x="179" y="2012"/>
                        <a:pt x="178" y="1969"/>
                      </a:cubicBezTo>
                      <a:cubicBezTo>
                        <a:pt x="174" y="1922"/>
                        <a:pt x="175" y="2145"/>
                        <a:pt x="173" y="1817"/>
                      </a:cubicBezTo>
                      <a:cubicBezTo>
                        <a:pt x="171" y="1490"/>
                        <a:pt x="163" y="305"/>
                        <a:pt x="167" y="3"/>
                      </a:cubicBezTo>
                      <a:lnTo>
                        <a:pt x="202" y="6"/>
                      </a:lnTo>
                      <a:cubicBezTo>
                        <a:pt x="206" y="122"/>
                        <a:pt x="195" y="395"/>
                        <a:pt x="195" y="701"/>
                      </a:cubicBezTo>
                      <a:cubicBezTo>
                        <a:pt x="194" y="1006"/>
                        <a:pt x="196" y="1600"/>
                        <a:pt x="198" y="1841"/>
                      </a:cubicBezTo>
                      <a:cubicBezTo>
                        <a:pt x="197" y="1985"/>
                        <a:pt x="209" y="2095"/>
                        <a:pt x="209" y="2148"/>
                      </a:cubicBezTo>
                      <a:cubicBezTo>
                        <a:pt x="209" y="2201"/>
                        <a:pt x="203" y="2212"/>
                        <a:pt x="198" y="2264"/>
                      </a:cubicBezTo>
                      <a:cubicBezTo>
                        <a:pt x="208" y="2285"/>
                        <a:pt x="205" y="2289"/>
                        <a:pt x="206" y="2330"/>
                      </a:cubicBezTo>
                      <a:cubicBezTo>
                        <a:pt x="208" y="2371"/>
                        <a:pt x="209" y="2352"/>
                        <a:pt x="206" y="2512"/>
                      </a:cubicBezTo>
                      <a:cubicBezTo>
                        <a:pt x="204" y="2672"/>
                        <a:pt x="194" y="2987"/>
                        <a:pt x="193" y="3287"/>
                      </a:cubicBezTo>
                      <a:cubicBezTo>
                        <a:pt x="192" y="3587"/>
                        <a:pt x="200" y="4143"/>
                        <a:pt x="197" y="4314"/>
                      </a:cubicBezTo>
                      <a:lnTo>
                        <a:pt x="176" y="4313"/>
                      </a:lnTo>
                      <a:cubicBezTo>
                        <a:pt x="172" y="4225"/>
                        <a:pt x="176" y="3940"/>
                        <a:pt x="175" y="3786"/>
                      </a:cubicBezTo>
                      <a:cubicBezTo>
                        <a:pt x="174" y="3632"/>
                        <a:pt x="171" y="3568"/>
                        <a:pt x="171" y="3391"/>
                      </a:cubicBezTo>
                      <a:cubicBezTo>
                        <a:pt x="172" y="3213"/>
                        <a:pt x="176" y="2892"/>
                        <a:pt x="178" y="2720"/>
                      </a:cubicBezTo>
                      <a:cubicBezTo>
                        <a:pt x="180" y="2547"/>
                        <a:pt x="186" y="2428"/>
                        <a:pt x="185" y="2356"/>
                      </a:cubicBezTo>
                      <a:cubicBezTo>
                        <a:pt x="183" y="2332"/>
                        <a:pt x="187" y="2295"/>
                        <a:pt x="170" y="2288"/>
                      </a:cubicBezTo>
                      <a:cubicBezTo>
                        <a:pt x="158" y="2275"/>
                        <a:pt x="125" y="2307"/>
                        <a:pt x="103" y="2308"/>
                      </a:cubicBezTo>
                      <a:cubicBezTo>
                        <a:pt x="82" y="2309"/>
                        <a:pt x="54" y="2270"/>
                        <a:pt x="41" y="2296"/>
                      </a:cubicBezTo>
                      <a:cubicBezTo>
                        <a:pt x="27" y="2322"/>
                        <a:pt x="23" y="2357"/>
                        <a:pt x="23" y="2467"/>
                      </a:cubicBezTo>
                      <a:cubicBezTo>
                        <a:pt x="22" y="2577"/>
                        <a:pt x="35" y="2745"/>
                        <a:pt x="37" y="2955"/>
                      </a:cubicBezTo>
                      <a:cubicBezTo>
                        <a:pt x="40" y="3166"/>
                        <a:pt x="39" y="3503"/>
                        <a:pt x="39" y="3730"/>
                      </a:cubicBezTo>
                      <a:cubicBezTo>
                        <a:pt x="39" y="3957"/>
                        <a:pt x="41" y="4216"/>
                        <a:pt x="37" y="4313"/>
                      </a:cubicBezTo>
                      <a:lnTo>
                        <a:pt x="14" y="4314"/>
                      </a:ln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 flipV="1">
                  <a:off x="3081240" y="360"/>
                  <a:ext cx="74520" cy="3490920"/>
                </a:xfrm>
                <a:custGeom>
                  <a:avLst/>
                  <a:gdLst/>
                  <a:ahLst/>
                  <a:rect l="l" t="t" r="r" b="b"/>
                  <a:pathLst>
                    <a:path w="110" h="2131">
                      <a:moveTo>
                        <a:pt x="27" y="477"/>
                      </a:moveTo>
                      <a:cubicBezTo>
                        <a:pt x="24" y="266"/>
                        <a:pt x="26" y="283"/>
                        <a:pt x="23" y="217"/>
                      </a:cubicBezTo>
                      <a:cubicBezTo>
                        <a:pt x="20" y="151"/>
                        <a:pt x="14" y="112"/>
                        <a:pt x="11" y="81"/>
                      </a:cubicBezTo>
                      <a:cubicBezTo>
                        <a:pt x="8" y="50"/>
                        <a:pt x="0" y="42"/>
                        <a:pt x="3" y="29"/>
                      </a:cubicBezTo>
                      <a:cubicBezTo>
                        <a:pt x="6" y="16"/>
                        <a:pt x="18" y="9"/>
                        <a:pt x="31" y="5"/>
                      </a:cubicBezTo>
                      <a:cubicBezTo>
                        <a:pt x="44" y="1"/>
                        <a:pt x="71" y="0"/>
                        <a:pt x="83" y="5"/>
                      </a:cubicBezTo>
                      <a:cubicBezTo>
                        <a:pt x="95" y="10"/>
                        <a:pt x="99" y="12"/>
                        <a:pt x="103" y="33"/>
                      </a:cubicBezTo>
                      <a:cubicBezTo>
                        <a:pt x="107" y="54"/>
                        <a:pt x="110" y="77"/>
                        <a:pt x="107" y="133"/>
                      </a:cubicBezTo>
                      <a:cubicBezTo>
                        <a:pt x="104" y="189"/>
                        <a:pt x="90" y="249"/>
                        <a:pt x="87" y="369"/>
                      </a:cubicBezTo>
                      <a:cubicBezTo>
                        <a:pt x="84" y="489"/>
                        <a:pt x="88" y="646"/>
                        <a:pt x="87" y="853"/>
                      </a:cubicBezTo>
                      <a:cubicBezTo>
                        <a:pt x="86" y="1060"/>
                        <a:pt x="79" y="1414"/>
                        <a:pt x="79" y="1613"/>
                      </a:cubicBezTo>
                      <a:cubicBezTo>
                        <a:pt x="79" y="1812"/>
                        <a:pt x="87" y="1959"/>
                        <a:pt x="87" y="2045"/>
                      </a:cubicBezTo>
                      <a:cubicBezTo>
                        <a:pt x="87" y="2131"/>
                        <a:pt x="87" y="2115"/>
                        <a:pt x="79" y="2129"/>
                      </a:cubicBezTo>
                      <a:lnTo>
                        <a:pt x="39" y="2129"/>
                      </a:lnTo>
                      <a:cubicBezTo>
                        <a:pt x="32" y="2021"/>
                        <a:pt x="42" y="1757"/>
                        <a:pt x="39" y="1481"/>
                      </a:cubicBezTo>
                      <a:cubicBezTo>
                        <a:pt x="36" y="1205"/>
                        <a:pt x="30" y="688"/>
                        <a:pt x="27" y="477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" name=""/>
              <p:cNvGrpSpPr/>
              <p:nvPr/>
            </p:nvGrpSpPr>
            <p:grpSpPr>
              <a:xfrm>
                <a:off x="8429400" y="4680"/>
                <a:ext cx="509760" cy="6854400"/>
                <a:chOff x="8429400" y="4680"/>
                <a:chExt cx="509760" cy="6854400"/>
              </a:xfrm>
            </p:grpSpPr>
            <p:sp>
              <p:nvSpPr>
                <p:cNvPr id="6" name=""/>
                <p:cNvSpPr/>
                <p:nvPr/>
              </p:nvSpPr>
              <p:spPr>
                <a:xfrm flipV="1">
                  <a:off x="8429400" y="7200"/>
                  <a:ext cx="509760" cy="6851520"/>
                </a:xfrm>
                <a:custGeom>
                  <a:avLst/>
                  <a:gdLst/>
                  <a:ahLst/>
                  <a:rect l="l" t="t" r="r" b="b"/>
                  <a:pathLst>
                    <a:path w="493" h="4323">
                      <a:moveTo>
                        <a:pt x="40" y="7"/>
                      </a:moveTo>
                      <a:cubicBezTo>
                        <a:pt x="33" y="192"/>
                        <a:pt x="50" y="804"/>
                        <a:pt x="44" y="1111"/>
                      </a:cubicBezTo>
                      <a:cubicBezTo>
                        <a:pt x="38" y="1418"/>
                        <a:pt x="12" y="1706"/>
                        <a:pt x="6" y="1852"/>
                      </a:cubicBezTo>
                      <a:cubicBezTo>
                        <a:pt x="0" y="1998"/>
                        <a:pt x="4" y="1959"/>
                        <a:pt x="6" y="1989"/>
                      </a:cubicBezTo>
                      <a:cubicBezTo>
                        <a:pt x="8" y="2019"/>
                        <a:pt x="17" y="2017"/>
                        <a:pt x="20" y="2031"/>
                      </a:cubicBezTo>
                      <a:cubicBezTo>
                        <a:pt x="23" y="2045"/>
                        <a:pt x="26" y="2059"/>
                        <a:pt x="24" y="2075"/>
                      </a:cubicBezTo>
                      <a:cubicBezTo>
                        <a:pt x="22" y="2091"/>
                        <a:pt x="9" y="2102"/>
                        <a:pt x="6" y="2126"/>
                      </a:cubicBezTo>
                      <a:cubicBezTo>
                        <a:pt x="3" y="2150"/>
                        <a:pt x="2" y="2160"/>
                        <a:pt x="6" y="2217"/>
                      </a:cubicBezTo>
                      <a:cubicBezTo>
                        <a:pt x="10" y="2274"/>
                        <a:pt x="25" y="2332"/>
                        <a:pt x="28" y="2471"/>
                      </a:cubicBezTo>
                      <a:cubicBezTo>
                        <a:pt x="31" y="2610"/>
                        <a:pt x="24" y="2742"/>
                        <a:pt x="24" y="3051"/>
                      </a:cubicBezTo>
                      <a:cubicBezTo>
                        <a:pt x="24" y="3360"/>
                        <a:pt x="19" y="4112"/>
                        <a:pt x="28" y="4323"/>
                      </a:cubicBezTo>
                      <a:lnTo>
                        <a:pt x="80" y="4319"/>
                      </a:lnTo>
                      <a:cubicBezTo>
                        <a:pt x="90" y="4148"/>
                        <a:pt x="87" y="3611"/>
                        <a:pt x="88" y="3295"/>
                      </a:cubicBezTo>
                      <a:cubicBezTo>
                        <a:pt x="89" y="2979"/>
                        <a:pt x="89" y="2603"/>
                        <a:pt x="84" y="2423"/>
                      </a:cubicBezTo>
                      <a:cubicBezTo>
                        <a:pt x="92" y="2347"/>
                        <a:pt x="69" y="2269"/>
                        <a:pt x="60" y="2215"/>
                      </a:cubicBezTo>
                      <a:cubicBezTo>
                        <a:pt x="52" y="2155"/>
                        <a:pt x="48" y="2117"/>
                        <a:pt x="92" y="2107"/>
                      </a:cubicBezTo>
                      <a:cubicBezTo>
                        <a:pt x="134" y="2093"/>
                        <a:pt x="190" y="2088"/>
                        <a:pt x="240" y="2091"/>
                      </a:cubicBezTo>
                      <a:cubicBezTo>
                        <a:pt x="289" y="2088"/>
                        <a:pt x="353" y="2084"/>
                        <a:pt x="384" y="2091"/>
                      </a:cubicBezTo>
                      <a:cubicBezTo>
                        <a:pt x="415" y="2098"/>
                        <a:pt x="421" y="2110"/>
                        <a:pt x="428" y="2135"/>
                      </a:cubicBezTo>
                      <a:cubicBezTo>
                        <a:pt x="435" y="2160"/>
                        <a:pt x="425" y="2207"/>
                        <a:pt x="424" y="2243"/>
                      </a:cubicBezTo>
                      <a:cubicBezTo>
                        <a:pt x="423" y="2279"/>
                        <a:pt x="423" y="2308"/>
                        <a:pt x="420" y="2351"/>
                      </a:cubicBezTo>
                      <a:cubicBezTo>
                        <a:pt x="411" y="2398"/>
                        <a:pt x="412" y="2175"/>
                        <a:pt x="408" y="2503"/>
                      </a:cubicBezTo>
                      <a:cubicBezTo>
                        <a:pt x="404" y="2831"/>
                        <a:pt x="384" y="4018"/>
                        <a:pt x="395" y="4320"/>
                      </a:cubicBezTo>
                      <a:lnTo>
                        <a:pt x="476" y="4317"/>
                      </a:lnTo>
                      <a:cubicBezTo>
                        <a:pt x="486" y="4201"/>
                        <a:pt x="460" y="3927"/>
                        <a:pt x="459" y="3621"/>
                      </a:cubicBezTo>
                      <a:cubicBezTo>
                        <a:pt x="458" y="3315"/>
                        <a:pt x="462" y="2720"/>
                        <a:pt x="468" y="2479"/>
                      </a:cubicBezTo>
                      <a:cubicBezTo>
                        <a:pt x="464" y="2335"/>
                        <a:pt x="493" y="2225"/>
                        <a:pt x="493" y="2172"/>
                      </a:cubicBezTo>
                      <a:cubicBezTo>
                        <a:pt x="493" y="2118"/>
                        <a:pt x="480" y="2107"/>
                        <a:pt x="468" y="2055"/>
                      </a:cubicBezTo>
                      <a:cubicBezTo>
                        <a:pt x="490" y="2034"/>
                        <a:pt x="484" y="2030"/>
                        <a:pt x="487" y="1989"/>
                      </a:cubicBezTo>
                      <a:cubicBezTo>
                        <a:pt x="490" y="1948"/>
                        <a:pt x="492" y="1967"/>
                        <a:pt x="487" y="1807"/>
                      </a:cubicBezTo>
                      <a:cubicBezTo>
                        <a:pt x="482" y="1647"/>
                        <a:pt x="458" y="1332"/>
                        <a:pt x="456" y="1031"/>
                      </a:cubicBezTo>
                      <a:cubicBezTo>
                        <a:pt x="454" y="730"/>
                        <a:pt x="479" y="171"/>
                        <a:pt x="472" y="0"/>
                      </a:cubicBezTo>
                      <a:lnTo>
                        <a:pt x="416" y="3"/>
                      </a:lnTo>
                      <a:cubicBezTo>
                        <a:pt x="406" y="91"/>
                        <a:pt x="414" y="377"/>
                        <a:pt x="412" y="531"/>
                      </a:cubicBezTo>
                      <a:cubicBezTo>
                        <a:pt x="410" y="685"/>
                        <a:pt x="403" y="749"/>
                        <a:pt x="404" y="927"/>
                      </a:cubicBezTo>
                      <a:cubicBezTo>
                        <a:pt x="405" y="1105"/>
                        <a:pt x="415" y="1426"/>
                        <a:pt x="420" y="1599"/>
                      </a:cubicBezTo>
                      <a:cubicBezTo>
                        <a:pt x="425" y="1772"/>
                        <a:pt x="439" y="1891"/>
                        <a:pt x="436" y="1963"/>
                      </a:cubicBezTo>
                      <a:cubicBezTo>
                        <a:pt x="432" y="1987"/>
                        <a:pt x="441" y="2024"/>
                        <a:pt x="400" y="2031"/>
                      </a:cubicBezTo>
                      <a:cubicBezTo>
                        <a:pt x="373" y="2044"/>
                        <a:pt x="295" y="2012"/>
                        <a:pt x="244" y="2011"/>
                      </a:cubicBezTo>
                      <a:cubicBezTo>
                        <a:pt x="193" y="2010"/>
                        <a:pt x="128" y="2049"/>
                        <a:pt x="96" y="2023"/>
                      </a:cubicBezTo>
                      <a:cubicBezTo>
                        <a:pt x="64" y="1997"/>
                        <a:pt x="55" y="1962"/>
                        <a:pt x="54" y="1852"/>
                      </a:cubicBezTo>
                      <a:cubicBezTo>
                        <a:pt x="53" y="1742"/>
                        <a:pt x="82" y="1574"/>
                        <a:pt x="88" y="1363"/>
                      </a:cubicBezTo>
                      <a:cubicBezTo>
                        <a:pt x="94" y="1152"/>
                        <a:pt x="92" y="814"/>
                        <a:pt x="92" y="587"/>
                      </a:cubicBezTo>
                      <a:cubicBezTo>
                        <a:pt x="92" y="360"/>
                        <a:pt x="97" y="100"/>
                        <a:pt x="88" y="3"/>
                      </a:cubicBezTo>
                      <a:lnTo>
                        <a:pt x="40" y="7"/>
                      </a:ln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 flipV="1">
                  <a:off x="8695080" y="3960"/>
                  <a:ext cx="113400" cy="3491640"/>
                </a:xfrm>
                <a:custGeom>
                  <a:avLst/>
                  <a:gdLst/>
                  <a:ahLst/>
                  <a:rect l="l" t="t" r="r" b="b"/>
                  <a:pathLst>
                    <a:path w="110" h="2131">
                      <a:moveTo>
                        <a:pt x="27" y="477"/>
                      </a:moveTo>
                      <a:cubicBezTo>
                        <a:pt x="24" y="266"/>
                        <a:pt x="26" y="283"/>
                        <a:pt x="23" y="217"/>
                      </a:cubicBezTo>
                      <a:cubicBezTo>
                        <a:pt x="20" y="151"/>
                        <a:pt x="14" y="112"/>
                        <a:pt x="11" y="81"/>
                      </a:cubicBezTo>
                      <a:cubicBezTo>
                        <a:pt x="8" y="50"/>
                        <a:pt x="0" y="42"/>
                        <a:pt x="3" y="29"/>
                      </a:cubicBezTo>
                      <a:cubicBezTo>
                        <a:pt x="6" y="16"/>
                        <a:pt x="18" y="9"/>
                        <a:pt x="31" y="5"/>
                      </a:cubicBezTo>
                      <a:cubicBezTo>
                        <a:pt x="44" y="1"/>
                        <a:pt x="71" y="0"/>
                        <a:pt x="83" y="5"/>
                      </a:cubicBezTo>
                      <a:cubicBezTo>
                        <a:pt x="95" y="10"/>
                        <a:pt x="99" y="12"/>
                        <a:pt x="103" y="33"/>
                      </a:cubicBezTo>
                      <a:cubicBezTo>
                        <a:pt x="107" y="54"/>
                        <a:pt x="110" y="77"/>
                        <a:pt x="107" y="133"/>
                      </a:cubicBezTo>
                      <a:cubicBezTo>
                        <a:pt x="104" y="189"/>
                        <a:pt x="90" y="249"/>
                        <a:pt x="87" y="369"/>
                      </a:cubicBezTo>
                      <a:cubicBezTo>
                        <a:pt x="84" y="489"/>
                        <a:pt x="88" y="646"/>
                        <a:pt x="87" y="853"/>
                      </a:cubicBezTo>
                      <a:cubicBezTo>
                        <a:pt x="86" y="1060"/>
                        <a:pt x="79" y="1414"/>
                        <a:pt x="79" y="1613"/>
                      </a:cubicBezTo>
                      <a:cubicBezTo>
                        <a:pt x="79" y="1812"/>
                        <a:pt x="87" y="1959"/>
                        <a:pt x="87" y="2045"/>
                      </a:cubicBezTo>
                      <a:cubicBezTo>
                        <a:pt x="87" y="2131"/>
                        <a:pt x="87" y="2115"/>
                        <a:pt x="79" y="2129"/>
                      </a:cubicBezTo>
                      <a:lnTo>
                        <a:pt x="39" y="2129"/>
                      </a:lnTo>
                      <a:cubicBezTo>
                        <a:pt x="32" y="2021"/>
                        <a:pt x="42" y="1757"/>
                        <a:pt x="39" y="1481"/>
                      </a:cubicBezTo>
                      <a:cubicBezTo>
                        <a:pt x="36" y="1205"/>
                        <a:pt x="30" y="688"/>
                        <a:pt x="27" y="477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" name=""/>
              <p:cNvGrpSpPr/>
              <p:nvPr/>
            </p:nvGrpSpPr>
            <p:grpSpPr>
              <a:xfrm>
                <a:off x="1790640" y="6120"/>
                <a:ext cx="611280" cy="6848280"/>
                <a:chOff x="1790640" y="6120"/>
                <a:chExt cx="611280" cy="6848280"/>
              </a:xfrm>
            </p:grpSpPr>
            <p:sp>
              <p:nvSpPr>
                <p:cNvPr id="9" name=""/>
                <p:cNvSpPr/>
                <p:nvPr/>
              </p:nvSpPr>
              <p:spPr>
                <a:xfrm>
                  <a:off x="1816200" y="6120"/>
                  <a:ext cx="585720" cy="4150800"/>
                </a:xfrm>
                <a:custGeom>
                  <a:avLst/>
                  <a:gdLst/>
                  <a:ahLst/>
                  <a:rect l="l" t="t" r="r" b="b"/>
                  <a:pathLst>
                    <a:path w="369" h="2611">
                      <a:moveTo>
                        <a:pt x="22" y="0"/>
                      </a:moveTo>
                      <a:lnTo>
                        <a:pt x="14" y="1622"/>
                      </a:lnTo>
                      <a:cubicBezTo>
                        <a:pt x="14" y="1622"/>
                        <a:pt x="10" y="2084"/>
                        <a:pt x="6" y="2547"/>
                      </a:cubicBezTo>
                      <a:cubicBezTo>
                        <a:pt x="0" y="2588"/>
                        <a:pt x="8" y="2597"/>
                        <a:pt x="38" y="2604"/>
                      </a:cubicBezTo>
                      <a:cubicBezTo>
                        <a:pt x="68" y="2611"/>
                        <a:pt x="134" y="2589"/>
                        <a:pt x="184" y="2588"/>
                      </a:cubicBezTo>
                      <a:cubicBezTo>
                        <a:pt x="234" y="2587"/>
                        <a:pt x="309" y="2605"/>
                        <a:pt x="339" y="2596"/>
                      </a:cubicBezTo>
                      <a:cubicBezTo>
                        <a:pt x="369" y="2587"/>
                        <a:pt x="366" y="2567"/>
                        <a:pt x="363" y="2531"/>
                      </a:cubicBezTo>
                      <a:cubicBezTo>
                        <a:pt x="363" y="2378"/>
                        <a:pt x="343" y="2101"/>
                        <a:pt x="339" y="1679"/>
                      </a:cubicBezTo>
                      <a:lnTo>
                        <a:pt x="339" y="0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1960560" y="3460680"/>
                  <a:ext cx="398520" cy="619920"/>
                </a:xfrm>
                <a:custGeom>
                  <a:avLst/>
                  <a:gdLst/>
                  <a:ahLst/>
                  <a:rect l="l" t="t" r="r" b="b"/>
                  <a:pathLst>
                    <a:path w="251" h="390">
                      <a:moveTo>
                        <a:pt x="32" y="379"/>
                      </a:moveTo>
                      <a:cubicBezTo>
                        <a:pt x="43" y="377"/>
                        <a:pt x="57" y="366"/>
                        <a:pt x="77" y="364"/>
                      </a:cubicBezTo>
                      <a:cubicBezTo>
                        <a:pt x="97" y="362"/>
                        <a:pt x="130" y="366"/>
                        <a:pt x="152" y="370"/>
                      </a:cubicBezTo>
                      <a:cubicBezTo>
                        <a:pt x="174" y="374"/>
                        <a:pt x="194" y="386"/>
                        <a:pt x="209" y="388"/>
                      </a:cubicBezTo>
                      <a:cubicBezTo>
                        <a:pt x="224" y="390"/>
                        <a:pt x="235" y="389"/>
                        <a:pt x="242" y="379"/>
                      </a:cubicBezTo>
                      <a:cubicBezTo>
                        <a:pt x="249" y="369"/>
                        <a:pt x="251" y="362"/>
                        <a:pt x="248" y="328"/>
                      </a:cubicBezTo>
                      <a:cubicBezTo>
                        <a:pt x="245" y="294"/>
                        <a:pt x="236" y="208"/>
                        <a:pt x="227" y="175"/>
                      </a:cubicBezTo>
                      <a:cubicBezTo>
                        <a:pt x="218" y="142"/>
                        <a:pt x="202" y="110"/>
                        <a:pt x="194" y="130"/>
                      </a:cubicBezTo>
                      <a:cubicBezTo>
                        <a:pt x="186" y="150"/>
                        <a:pt x="186" y="266"/>
                        <a:pt x="179" y="295"/>
                      </a:cubicBezTo>
                      <a:cubicBezTo>
                        <a:pt x="172" y="324"/>
                        <a:pt x="159" y="329"/>
                        <a:pt x="152" y="307"/>
                      </a:cubicBezTo>
                      <a:cubicBezTo>
                        <a:pt x="145" y="285"/>
                        <a:pt x="149" y="212"/>
                        <a:pt x="134" y="163"/>
                      </a:cubicBezTo>
                      <a:cubicBezTo>
                        <a:pt x="119" y="114"/>
                        <a:pt x="82" y="26"/>
                        <a:pt x="65" y="13"/>
                      </a:cubicBezTo>
                      <a:cubicBezTo>
                        <a:pt x="48" y="0"/>
                        <a:pt x="35" y="42"/>
                        <a:pt x="29" y="85"/>
                      </a:cubicBezTo>
                      <a:cubicBezTo>
                        <a:pt x="23" y="128"/>
                        <a:pt x="30" y="229"/>
                        <a:pt x="26" y="271"/>
                      </a:cubicBezTo>
                      <a:cubicBezTo>
                        <a:pt x="22" y="313"/>
                        <a:pt x="4" y="319"/>
                        <a:pt x="2" y="337"/>
                      </a:cubicBezTo>
                      <a:cubicBezTo>
                        <a:pt x="0" y="355"/>
                        <a:pt x="5" y="373"/>
                        <a:pt x="11" y="379"/>
                      </a:cubicBezTo>
                      <a:cubicBezTo>
                        <a:pt x="17" y="385"/>
                        <a:pt x="21" y="381"/>
                        <a:pt x="32" y="379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d5e3c3"/>
                    </a:gs>
                    <a:gs pos="100000">
                      <a:srgbClr val="e5eed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1790640" y="4129920"/>
                  <a:ext cx="600120" cy="2724480"/>
                </a:xfrm>
                <a:custGeom>
                  <a:avLst/>
                  <a:gdLst/>
                  <a:ahLst/>
                  <a:rect l="l" t="t" r="r" b="b"/>
                  <a:pathLst>
                    <a:path w="378" h="1714">
                      <a:moveTo>
                        <a:pt x="0" y="1714"/>
                      </a:moveTo>
                      <a:cubicBezTo>
                        <a:pt x="15" y="1400"/>
                        <a:pt x="10" y="693"/>
                        <a:pt x="15" y="420"/>
                      </a:cubicBezTo>
                      <a:cubicBezTo>
                        <a:pt x="18" y="145"/>
                        <a:pt x="8" y="126"/>
                        <a:pt x="19" y="63"/>
                      </a:cubicBezTo>
                      <a:cubicBezTo>
                        <a:pt x="30" y="0"/>
                        <a:pt x="49" y="46"/>
                        <a:pt x="79" y="39"/>
                      </a:cubicBezTo>
                      <a:cubicBezTo>
                        <a:pt x="109" y="32"/>
                        <a:pt x="157" y="21"/>
                        <a:pt x="202" y="18"/>
                      </a:cubicBezTo>
                      <a:cubicBezTo>
                        <a:pt x="268" y="33"/>
                        <a:pt x="324" y="6"/>
                        <a:pt x="351" y="23"/>
                      </a:cubicBezTo>
                      <a:cubicBezTo>
                        <a:pt x="378" y="40"/>
                        <a:pt x="370" y="51"/>
                        <a:pt x="366" y="120"/>
                      </a:cubicBezTo>
                      <a:cubicBezTo>
                        <a:pt x="367" y="240"/>
                        <a:pt x="362" y="475"/>
                        <a:pt x="359" y="741"/>
                      </a:cubicBezTo>
                      <a:cubicBezTo>
                        <a:pt x="356" y="1007"/>
                        <a:pt x="351" y="1430"/>
                        <a:pt x="351" y="1714"/>
                      </a:cubicBezTo>
                      <a:cubicBezTo>
                        <a:pt x="351" y="1714"/>
                        <a:pt x="0" y="1714"/>
                        <a:pt x="0" y="1714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1989000" y="4207680"/>
                  <a:ext cx="231840" cy="244440"/>
                </a:xfrm>
                <a:custGeom>
                  <a:avLst/>
                  <a:gdLst/>
                  <a:ahLst/>
                  <a:rect l="l" t="t" r="r" b="b"/>
                  <a:pathLst>
                    <a:path w="146" h="154">
                      <a:moveTo>
                        <a:pt x="14" y="11"/>
                      </a:moveTo>
                      <a:cubicBezTo>
                        <a:pt x="28" y="2"/>
                        <a:pt x="71" y="2"/>
                        <a:pt x="92" y="2"/>
                      </a:cubicBezTo>
                      <a:cubicBezTo>
                        <a:pt x="113" y="2"/>
                        <a:pt x="134" y="0"/>
                        <a:pt x="140" y="14"/>
                      </a:cubicBezTo>
                      <a:cubicBezTo>
                        <a:pt x="146" y="28"/>
                        <a:pt x="132" y="67"/>
                        <a:pt x="128" y="89"/>
                      </a:cubicBezTo>
                      <a:cubicBezTo>
                        <a:pt x="124" y="111"/>
                        <a:pt x="125" y="138"/>
                        <a:pt x="116" y="146"/>
                      </a:cubicBezTo>
                      <a:cubicBezTo>
                        <a:pt x="107" y="154"/>
                        <a:pt x="88" y="137"/>
                        <a:pt x="74" y="134"/>
                      </a:cubicBezTo>
                      <a:cubicBezTo>
                        <a:pt x="60" y="131"/>
                        <a:pt x="44" y="141"/>
                        <a:pt x="32" y="128"/>
                      </a:cubicBezTo>
                      <a:cubicBezTo>
                        <a:pt x="20" y="115"/>
                        <a:pt x="8" y="75"/>
                        <a:pt x="5" y="56"/>
                      </a:cubicBezTo>
                      <a:cubicBezTo>
                        <a:pt x="2" y="37"/>
                        <a:pt x="0" y="20"/>
                        <a:pt x="14" y="1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e5eeda"/>
                    </a:gs>
                    <a:gs pos="100000">
                      <a:srgbClr val="d5e3c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" name=""/>
              <p:cNvGrpSpPr/>
              <p:nvPr/>
            </p:nvGrpSpPr>
            <p:grpSpPr>
              <a:xfrm>
                <a:off x="677880" y="4680"/>
                <a:ext cx="639720" cy="6854760"/>
                <a:chOff x="677880" y="4680"/>
                <a:chExt cx="639720" cy="6854760"/>
              </a:xfrm>
            </p:grpSpPr>
            <p:sp>
              <p:nvSpPr>
                <p:cNvPr id="14" name=""/>
                <p:cNvSpPr/>
                <p:nvPr/>
              </p:nvSpPr>
              <p:spPr>
                <a:xfrm>
                  <a:off x="677880" y="4680"/>
                  <a:ext cx="639720" cy="6851520"/>
                </a:xfrm>
                <a:custGeom>
                  <a:avLst/>
                  <a:gdLst/>
                  <a:ahLst/>
                  <a:rect l="l" t="t" r="r" b="b"/>
                  <a:pathLst>
                    <a:path w="493" h="4316">
                      <a:moveTo>
                        <a:pt x="40" y="0"/>
                      </a:moveTo>
                      <a:cubicBezTo>
                        <a:pt x="33" y="185"/>
                        <a:pt x="50" y="797"/>
                        <a:pt x="44" y="1104"/>
                      </a:cubicBezTo>
                      <a:cubicBezTo>
                        <a:pt x="38" y="1411"/>
                        <a:pt x="12" y="1699"/>
                        <a:pt x="6" y="1845"/>
                      </a:cubicBezTo>
                      <a:cubicBezTo>
                        <a:pt x="0" y="1991"/>
                        <a:pt x="4" y="1952"/>
                        <a:pt x="6" y="1982"/>
                      </a:cubicBezTo>
                      <a:cubicBezTo>
                        <a:pt x="8" y="2012"/>
                        <a:pt x="17" y="2010"/>
                        <a:pt x="20" y="2024"/>
                      </a:cubicBezTo>
                      <a:cubicBezTo>
                        <a:pt x="23" y="2038"/>
                        <a:pt x="26" y="2052"/>
                        <a:pt x="24" y="2068"/>
                      </a:cubicBezTo>
                      <a:cubicBezTo>
                        <a:pt x="22" y="2084"/>
                        <a:pt x="9" y="2095"/>
                        <a:pt x="6" y="2119"/>
                      </a:cubicBezTo>
                      <a:cubicBezTo>
                        <a:pt x="3" y="2143"/>
                        <a:pt x="2" y="2153"/>
                        <a:pt x="6" y="2210"/>
                      </a:cubicBezTo>
                      <a:cubicBezTo>
                        <a:pt x="10" y="2267"/>
                        <a:pt x="25" y="2325"/>
                        <a:pt x="28" y="2464"/>
                      </a:cubicBezTo>
                      <a:cubicBezTo>
                        <a:pt x="31" y="2603"/>
                        <a:pt x="24" y="2735"/>
                        <a:pt x="24" y="3044"/>
                      </a:cubicBezTo>
                      <a:cubicBezTo>
                        <a:pt x="24" y="3353"/>
                        <a:pt x="19" y="4105"/>
                        <a:pt x="28" y="4316"/>
                      </a:cubicBezTo>
                      <a:lnTo>
                        <a:pt x="80" y="4312"/>
                      </a:lnTo>
                      <a:cubicBezTo>
                        <a:pt x="90" y="4141"/>
                        <a:pt x="87" y="3604"/>
                        <a:pt x="88" y="3288"/>
                      </a:cubicBezTo>
                      <a:cubicBezTo>
                        <a:pt x="89" y="2972"/>
                        <a:pt x="89" y="2596"/>
                        <a:pt x="84" y="2416"/>
                      </a:cubicBezTo>
                      <a:cubicBezTo>
                        <a:pt x="92" y="2340"/>
                        <a:pt x="69" y="2262"/>
                        <a:pt x="60" y="2208"/>
                      </a:cubicBezTo>
                      <a:cubicBezTo>
                        <a:pt x="52" y="2148"/>
                        <a:pt x="48" y="2110"/>
                        <a:pt x="92" y="2100"/>
                      </a:cubicBezTo>
                      <a:cubicBezTo>
                        <a:pt x="134" y="2086"/>
                        <a:pt x="190" y="2081"/>
                        <a:pt x="240" y="2084"/>
                      </a:cubicBezTo>
                      <a:cubicBezTo>
                        <a:pt x="289" y="2081"/>
                        <a:pt x="353" y="2077"/>
                        <a:pt x="384" y="2084"/>
                      </a:cubicBezTo>
                      <a:cubicBezTo>
                        <a:pt x="415" y="2091"/>
                        <a:pt x="421" y="2103"/>
                        <a:pt x="428" y="2128"/>
                      </a:cubicBezTo>
                      <a:cubicBezTo>
                        <a:pt x="435" y="2153"/>
                        <a:pt x="425" y="2200"/>
                        <a:pt x="424" y="2236"/>
                      </a:cubicBezTo>
                      <a:cubicBezTo>
                        <a:pt x="423" y="2272"/>
                        <a:pt x="423" y="2301"/>
                        <a:pt x="420" y="2344"/>
                      </a:cubicBezTo>
                      <a:cubicBezTo>
                        <a:pt x="411" y="2391"/>
                        <a:pt x="412" y="2168"/>
                        <a:pt x="408" y="2496"/>
                      </a:cubicBezTo>
                      <a:cubicBezTo>
                        <a:pt x="404" y="2824"/>
                        <a:pt x="384" y="4011"/>
                        <a:pt x="395" y="4313"/>
                      </a:cubicBezTo>
                      <a:lnTo>
                        <a:pt x="476" y="4310"/>
                      </a:lnTo>
                      <a:cubicBezTo>
                        <a:pt x="486" y="4194"/>
                        <a:pt x="460" y="3920"/>
                        <a:pt x="459" y="3614"/>
                      </a:cubicBezTo>
                      <a:cubicBezTo>
                        <a:pt x="458" y="3308"/>
                        <a:pt x="462" y="2713"/>
                        <a:pt x="468" y="2472"/>
                      </a:cubicBezTo>
                      <a:cubicBezTo>
                        <a:pt x="464" y="2328"/>
                        <a:pt x="493" y="2218"/>
                        <a:pt x="493" y="2165"/>
                      </a:cubicBezTo>
                      <a:cubicBezTo>
                        <a:pt x="493" y="2111"/>
                        <a:pt x="480" y="2100"/>
                        <a:pt x="468" y="2048"/>
                      </a:cubicBezTo>
                      <a:cubicBezTo>
                        <a:pt x="490" y="2027"/>
                        <a:pt x="484" y="2023"/>
                        <a:pt x="487" y="1982"/>
                      </a:cubicBezTo>
                      <a:cubicBezTo>
                        <a:pt x="490" y="1941"/>
                        <a:pt x="492" y="1960"/>
                        <a:pt x="487" y="1800"/>
                      </a:cubicBezTo>
                      <a:cubicBezTo>
                        <a:pt x="482" y="1640"/>
                        <a:pt x="459" y="1324"/>
                        <a:pt x="456" y="1024"/>
                      </a:cubicBezTo>
                      <a:cubicBezTo>
                        <a:pt x="453" y="724"/>
                        <a:pt x="474" y="171"/>
                        <a:pt x="468" y="0"/>
                      </a:cubicBezTo>
                      <a:lnTo>
                        <a:pt x="420" y="0"/>
                      </a:lnTo>
                      <a:cubicBezTo>
                        <a:pt x="411" y="87"/>
                        <a:pt x="415" y="371"/>
                        <a:pt x="412" y="524"/>
                      </a:cubicBezTo>
                      <a:cubicBezTo>
                        <a:pt x="409" y="677"/>
                        <a:pt x="403" y="742"/>
                        <a:pt x="404" y="920"/>
                      </a:cubicBezTo>
                      <a:cubicBezTo>
                        <a:pt x="405" y="1098"/>
                        <a:pt x="415" y="1419"/>
                        <a:pt x="420" y="1592"/>
                      </a:cubicBezTo>
                      <a:cubicBezTo>
                        <a:pt x="425" y="1765"/>
                        <a:pt x="439" y="1884"/>
                        <a:pt x="436" y="1956"/>
                      </a:cubicBezTo>
                      <a:cubicBezTo>
                        <a:pt x="432" y="1980"/>
                        <a:pt x="441" y="2017"/>
                        <a:pt x="400" y="2024"/>
                      </a:cubicBezTo>
                      <a:cubicBezTo>
                        <a:pt x="373" y="2037"/>
                        <a:pt x="295" y="2005"/>
                        <a:pt x="244" y="2004"/>
                      </a:cubicBezTo>
                      <a:cubicBezTo>
                        <a:pt x="193" y="2003"/>
                        <a:pt x="128" y="2042"/>
                        <a:pt x="96" y="2016"/>
                      </a:cubicBezTo>
                      <a:cubicBezTo>
                        <a:pt x="64" y="1990"/>
                        <a:pt x="55" y="1955"/>
                        <a:pt x="54" y="1845"/>
                      </a:cubicBezTo>
                      <a:cubicBezTo>
                        <a:pt x="53" y="1735"/>
                        <a:pt x="82" y="1567"/>
                        <a:pt x="88" y="1356"/>
                      </a:cubicBezTo>
                      <a:cubicBezTo>
                        <a:pt x="94" y="1145"/>
                        <a:pt x="93" y="806"/>
                        <a:pt x="92" y="580"/>
                      </a:cubicBezTo>
                      <a:cubicBezTo>
                        <a:pt x="91" y="354"/>
                        <a:pt x="93" y="97"/>
                        <a:pt x="84" y="0"/>
                      </a:cubicBezTo>
                      <a:lnTo>
                        <a:pt x="40" y="0"/>
                      </a:ln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1011240" y="3362400"/>
                  <a:ext cx="142560" cy="3497040"/>
                </a:xfrm>
                <a:custGeom>
                  <a:avLst/>
                  <a:gdLst/>
                  <a:ahLst/>
                  <a:rect l="l" t="t" r="r" b="b"/>
                  <a:pathLst>
                    <a:path w="110" h="2131">
                      <a:moveTo>
                        <a:pt x="27" y="477"/>
                      </a:moveTo>
                      <a:cubicBezTo>
                        <a:pt x="24" y="266"/>
                        <a:pt x="26" y="283"/>
                        <a:pt x="23" y="217"/>
                      </a:cubicBezTo>
                      <a:cubicBezTo>
                        <a:pt x="20" y="151"/>
                        <a:pt x="14" y="112"/>
                        <a:pt x="11" y="81"/>
                      </a:cubicBezTo>
                      <a:cubicBezTo>
                        <a:pt x="8" y="50"/>
                        <a:pt x="0" y="42"/>
                        <a:pt x="3" y="29"/>
                      </a:cubicBezTo>
                      <a:cubicBezTo>
                        <a:pt x="6" y="16"/>
                        <a:pt x="18" y="9"/>
                        <a:pt x="31" y="5"/>
                      </a:cubicBezTo>
                      <a:cubicBezTo>
                        <a:pt x="44" y="1"/>
                        <a:pt x="71" y="0"/>
                        <a:pt x="83" y="5"/>
                      </a:cubicBezTo>
                      <a:cubicBezTo>
                        <a:pt x="95" y="10"/>
                        <a:pt x="99" y="12"/>
                        <a:pt x="103" y="33"/>
                      </a:cubicBezTo>
                      <a:cubicBezTo>
                        <a:pt x="107" y="54"/>
                        <a:pt x="110" y="77"/>
                        <a:pt x="107" y="133"/>
                      </a:cubicBezTo>
                      <a:cubicBezTo>
                        <a:pt x="104" y="189"/>
                        <a:pt x="90" y="249"/>
                        <a:pt x="87" y="369"/>
                      </a:cubicBezTo>
                      <a:cubicBezTo>
                        <a:pt x="84" y="489"/>
                        <a:pt x="88" y="646"/>
                        <a:pt x="87" y="853"/>
                      </a:cubicBezTo>
                      <a:cubicBezTo>
                        <a:pt x="86" y="1060"/>
                        <a:pt x="79" y="1414"/>
                        <a:pt x="79" y="1613"/>
                      </a:cubicBezTo>
                      <a:cubicBezTo>
                        <a:pt x="79" y="1812"/>
                        <a:pt x="87" y="1959"/>
                        <a:pt x="87" y="2045"/>
                      </a:cubicBezTo>
                      <a:cubicBezTo>
                        <a:pt x="87" y="2131"/>
                        <a:pt x="87" y="2115"/>
                        <a:pt x="79" y="2129"/>
                      </a:cubicBezTo>
                      <a:lnTo>
                        <a:pt x="39" y="2129"/>
                      </a:lnTo>
                      <a:cubicBezTo>
                        <a:pt x="32" y="2021"/>
                        <a:pt x="42" y="1757"/>
                        <a:pt x="39" y="1481"/>
                      </a:cubicBezTo>
                      <a:cubicBezTo>
                        <a:pt x="36" y="1205"/>
                        <a:pt x="30" y="688"/>
                        <a:pt x="27" y="477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" name=""/>
              <p:cNvGrpSpPr/>
              <p:nvPr/>
            </p:nvGrpSpPr>
            <p:grpSpPr>
              <a:xfrm>
                <a:off x="4546440" y="0"/>
                <a:ext cx="628920" cy="6854400"/>
                <a:chOff x="4546440" y="0"/>
                <a:chExt cx="628920" cy="6854400"/>
              </a:xfrm>
            </p:grpSpPr>
            <p:sp>
              <p:nvSpPr>
                <p:cNvPr id="17" name=""/>
                <p:cNvSpPr/>
                <p:nvPr/>
              </p:nvSpPr>
              <p:spPr>
                <a:xfrm flipV="1">
                  <a:off x="4546440" y="2520"/>
                  <a:ext cx="628920" cy="6851520"/>
                </a:xfrm>
                <a:custGeom>
                  <a:avLst/>
                  <a:gdLst/>
                  <a:ahLst/>
                  <a:rect l="l" t="t" r="r" b="b"/>
                  <a:pathLst>
                    <a:path w="493" h="4323">
                      <a:moveTo>
                        <a:pt x="40" y="7"/>
                      </a:moveTo>
                      <a:cubicBezTo>
                        <a:pt x="33" y="192"/>
                        <a:pt x="50" y="804"/>
                        <a:pt x="44" y="1111"/>
                      </a:cubicBezTo>
                      <a:cubicBezTo>
                        <a:pt x="38" y="1418"/>
                        <a:pt x="12" y="1706"/>
                        <a:pt x="6" y="1852"/>
                      </a:cubicBezTo>
                      <a:cubicBezTo>
                        <a:pt x="0" y="1998"/>
                        <a:pt x="4" y="1959"/>
                        <a:pt x="6" y="1989"/>
                      </a:cubicBezTo>
                      <a:cubicBezTo>
                        <a:pt x="8" y="2019"/>
                        <a:pt x="17" y="2017"/>
                        <a:pt x="20" y="2031"/>
                      </a:cubicBezTo>
                      <a:cubicBezTo>
                        <a:pt x="23" y="2045"/>
                        <a:pt x="26" y="2059"/>
                        <a:pt x="24" y="2075"/>
                      </a:cubicBezTo>
                      <a:cubicBezTo>
                        <a:pt x="22" y="2091"/>
                        <a:pt x="9" y="2102"/>
                        <a:pt x="6" y="2126"/>
                      </a:cubicBezTo>
                      <a:cubicBezTo>
                        <a:pt x="3" y="2150"/>
                        <a:pt x="2" y="2160"/>
                        <a:pt x="6" y="2217"/>
                      </a:cubicBezTo>
                      <a:cubicBezTo>
                        <a:pt x="10" y="2274"/>
                        <a:pt x="25" y="2332"/>
                        <a:pt x="28" y="2471"/>
                      </a:cubicBezTo>
                      <a:cubicBezTo>
                        <a:pt x="31" y="2610"/>
                        <a:pt x="24" y="2742"/>
                        <a:pt x="24" y="3051"/>
                      </a:cubicBezTo>
                      <a:cubicBezTo>
                        <a:pt x="24" y="3360"/>
                        <a:pt x="19" y="4112"/>
                        <a:pt x="28" y="4323"/>
                      </a:cubicBezTo>
                      <a:lnTo>
                        <a:pt x="80" y="4319"/>
                      </a:lnTo>
                      <a:cubicBezTo>
                        <a:pt x="90" y="4148"/>
                        <a:pt x="87" y="3611"/>
                        <a:pt x="88" y="3295"/>
                      </a:cubicBezTo>
                      <a:cubicBezTo>
                        <a:pt x="89" y="2979"/>
                        <a:pt x="89" y="2603"/>
                        <a:pt x="84" y="2423"/>
                      </a:cubicBezTo>
                      <a:cubicBezTo>
                        <a:pt x="92" y="2347"/>
                        <a:pt x="69" y="2269"/>
                        <a:pt x="60" y="2215"/>
                      </a:cubicBezTo>
                      <a:cubicBezTo>
                        <a:pt x="52" y="2155"/>
                        <a:pt x="48" y="2117"/>
                        <a:pt x="92" y="2107"/>
                      </a:cubicBezTo>
                      <a:cubicBezTo>
                        <a:pt x="134" y="2093"/>
                        <a:pt x="190" y="2088"/>
                        <a:pt x="240" y="2091"/>
                      </a:cubicBezTo>
                      <a:cubicBezTo>
                        <a:pt x="289" y="2088"/>
                        <a:pt x="353" y="2084"/>
                        <a:pt x="384" y="2091"/>
                      </a:cubicBezTo>
                      <a:cubicBezTo>
                        <a:pt x="415" y="2098"/>
                        <a:pt x="421" y="2110"/>
                        <a:pt x="428" y="2135"/>
                      </a:cubicBezTo>
                      <a:cubicBezTo>
                        <a:pt x="435" y="2160"/>
                        <a:pt x="425" y="2207"/>
                        <a:pt x="424" y="2243"/>
                      </a:cubicBezTo>
                      <a:cubicBezTo>
                        <a:pt x="423" y="2279"/>
                        <a:pt x="423" y="2308"/>
                        <a:pt x="420" y="2351"/>
                      </a:cubicBezTo>
                      <a:cubicBezTo>
                        <a:pt x="411" y="2398"/>
                        <a:pt x="412" y="2175"/>
                        <a:pt x="408" y="2503"/>
                      </a:cubicBezTo>
                      <a:cubicBezTo>
                        <a:pt x="404" y="2831"/>
                        <a:pt x="384" y="4018"/>
                        <a:pt x="395" y="4320"/>
                      </a:cubicBezTo>
                      <a:lnTo>
                        <a:pt x="476" y="4317"/>
                      </a:lnTo>
                      <a:cubicBezTo>
                        <a:pt x="486" y="4201"/>
                        <a:pt x="460" y="3927"/>
                        <a:pt x="459" y="3621"/>
                      </a:cubicBezTo>
                      <a:cubicBezTo>
                        <a:pt x="458" y="3315"/>
                        <a:pt x="462" y="2720"/>
                        <a:pt x="468" y="2479"/>
                      </a:cubicBezTo>
                      <a:cubicBezTo>
                        <a:pt x="464" y="2335"/>
                        <a:pt x="493" y="2225"/>
                        <a:pt x="493" y="2172"/>
                      </a:cubicBezTo>
                      <a:cubicBezTo>
                        <a:pt x="493" y="2118"/>
                        <a:pt x="480" y="2107"/>
                        <a:pt x="468" y="2055"/>
                      </a:cubicBezTo>
                      <a:cubicBezTo>
                        <a:pt x="490" y="2034"/>
                        <a:pt x="484" y="2030"/>
                        <a:pt x="487" y="1989"/>
                      </a:cubicBezTo>
                      <a:cubicBezTo>
                        <a:pt x="490" y="1948"/>
                        <a:pt x="492" y="1967"/>
                        <a:pt x="487" y="1807"/>
                      </a:cubicBezTo>
                      <a:cubicBezTo>
                        <a:pt x="482" y="1647"/>
                        <a:pt x="458" y="1332"/>
                        <a:pt x="456" y="1031"/>
                      </a:cubicBezTo>
                      <a:cubicBezTo>
                        <a:pt x="454" y="730"/>
                        <a:pt x="479" y="171"/>
                        <a:pt x="472" y="0"/>
                      </a:cubicBezTo>
                      <a:lnTo>
                        <a:pt x="416" y="3"/>
                      </a:lnTo>
                      <a:cubicBezTo>
                        <a:pt x="406" y="91"/>
                        <a:pt x="414" y="377"/>
                        <a:pt x="412" y="531"/>
                      </a:cubicBezTo>
                      <a:cubicBezTo>
                        <a:pt x="410" y="685"/>
                        <a:pt x="403" y="749"/>
                        <a:pt x="404" y="927"/>
                      </a:cubicBezTo>
                      <a:cubicBezTo>
                        <a:pt x="405" y="1105"/>
                        <a:pt x="415" y="1426"/>
                        <a:pt x="420" y="1599"/>
                      </a:cubicBezTo>
                      <a:cubicBezTo>
                        <a:pt x="425" y="1772"/>
                        <a:pt x="439" y="1891"/>
                        <a:pt x="436" y="1963"/>
                      </a:cubicBezTo>
                      <a:cubicBezTo>
                        <a:pt x="432" y="1987"/>
                        <a:pt x="441" y="2024"/>
                        <a:pt x="400" y="2031"/>
                      </a:cubicBezTo>
                      <a:cubicBezTo>
                        <a:pt x="373" y="2044"/>
                        <a:pt x="295" y="2012"/>
                        <a:pt x="244" y="2011"/>
                      </a:cubicBezTo>
                      <a:cubicBezTo>
                        <a:pt x="193" y="2010"/>
                        <a:pt x="128" y="2049"/>
                        <a:pt x="96" y="2023"/>
                      </a:cubicBezTo>
                      <a:cubicBezTo>
                        <a:pt x="64" y="1997"/>
                        <a:pt x="55" y="1962"/>
                        <a:pt x="54" y="1852"/>
                      </a:cubicBezTo>
                      <a:cubicBezTo>
                        <a:pt x="53" y="1742"/>
                        <a:pt x="82" y="1574"/>
                        <a:pt x="88" y="1363"/>
                      </a:cubicBezTo>
                      <a:cubicBezTo>
                        <a:pt x="94" y="1152"/>
                        <a:pt x="92" y="814"/>
                        <a:pt x="92" y="587"/>
                      </a:cubicBezTo>
                      <a:cubicBezTo>
                        <a:pt x="92" y="360"/>
                        <a:pt x="97" y="100"/>
                        <a:pt x="88" y="3"/>
                      </a:cubicBezTo>
                      <a:lnTo>
                        <a:pt x="40" y="7"/>
                      </a:ln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 flipV="1">
                  <a:off x="4874400" y="-360"/>
                  <a:ext cx="140040" cy="3491640"/>
                </a:xfrm>
                <a:custGeom>
                  <a:avLst/>
                  <a:gdLst/>
                  <a:ahLst/>
                  <a:rect l="l" t="t" r="r" b="b"/>
                  <a:pathLst>
                    <a:path w="110" h="2131">
                      <a:moveTo>
                        <a:pt x="27" y="477"/>
                      </a:moveTo>
                      <a:cubicBezTo>
                        <a:pt x="24" y="266"/>
                        <a:pt x="26" y="283"/>
                        <a:pt x="23" y="217"/>
                      </a:cubicBezTo>
                      <a:cubicBezTo>
                        <a:pt x="20" y="151"/>
                        <a:pt x="14" y="112"/>
                        <a:pt x="11" y="81"/>
                      </a:cubicBezTo>
                      <a:cubicBezTo>
                        <a:pt x="8" y="50"/>
                        <a:pt x="0" y="42"/>
                        <a:pt x="3" y="29"/>
                      </a:cubicBezTo>
                      <a:cubicBezTo>
                        <a:pt x="6" y="16"/>
                        <a:pt x="18" y="9"/>
                        <a:pt x="31" y="5"/>
                      </a:cubicBezTo>
                      <a:cubicBezTo>
                        <a:pt x="44" y="1"/>
                        <a:pt x="71" y="0"/>
                        <a:pt x="83" y="5"/>
                      </a:cubicBezTo>
                      <a:cubicBezTo>
                        <a:pt x="95" y="10"/>
                        <a:pt x="99" y="12"/>
                        <a:pt x="103" y="33"/>
                      </a:cubicBezTo>
                      <a:cubicBezTo>
                        <a:pt x="107" y="54"/>
                        <a:pt x="110" y="77"/>
                        <a:pt x="107" y="133"/>
                      </a:cubicBezTo>
                      <a:cubicBezTo>
                        <a:pt x="104" y="189"/>
                        <a:pt x="90" y="249"/>
                        <a:pt x="87" y="369"/>
                      </a:cubicBezTo>
                      <a:cubicBezTo>
                        <a:pt x="84" y="489"/>
                        <a:pt x="88" y="646"/>
                        <a:pt x="87" y="853"/>
                      </a:cubicBezTo>
                      <a:cubicBezTo>
                        <a:pt x="86" y="1060"/>
                        <a:pt x="79" y="1414"/>
                        <a:pt x="79" y="1613"/>
                      </a:cubicBezTo>
                      <a:cubicBezTo>
                        <a:pt x="79" y="1812"/>
                        <a:pt x="87" y="1959"/>
                        <a:pt x="87" y="2045"/>
                      </a:cubicBezTo>
                      <a:cubicBezTo>
                        <a:pt x="87" y="2131"/>
                        <a:pt x="87" y="2115"/>
                        <a:pt x="79" y="2129"/>
                      </a:cubicBezTo>
                      <a:lnTo>
                        <a:pt x="39" y="2129"/>
                      </a:lnTo>
                      <a:cubicBezTo>
                        <a:pt x="32" y="2021"/>
                        <a:pt x="42" y="1757"/>
                        <a:pt x="39" y="1481"/>
                      </a:cubicBezTo>
                      <a:cubicBezTo>
                        <a:pt x="36" y="1205"/>
                        <a:pt x="30" y="688"/>
                        <a:pt x="27" y="477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" name=""/>
              <p:cNvSpPr/>
              <p:nvPr/>
            </p:nvSpPr>
            <p:spPr>
              <a:xfrm flipH="1" rot="2200200">
                <a:off x="3464280" y="3916080"/>
                <a:ext cx="760680" cy="1508040"/>
              </a:xfrm>
              <a:custGeom>
                <a:avLst/>
                <a:gdLst/>
                <a:ahLst/>
                <a:rect l="l" t="t" r="r" b="b"/>
                <a:pathLst>
                  <a:path w="1456" h="2088">
                    <a:moveTo>
                      <a:pt x="184" y="48"/>
                    </a:moveTo>
                    <a:cubicBezTo>
                      <a:pt x="288" y="48"/>
                      <a:pt x="480" y="0"/>
                      <a:pt x="664" y="192"/>
                    </a:cubicBezTo>
                    <a:cubicBezTo>
                      <a:pt x="848" y="384"/>
                      <a:pt x="1160" y="904"/>
                      <a:pt x="1288" y="1200"/>
                    </a:cubicBezTo>
                    <a:cubicBezTo>
                      <a:pt x="1416" y="1496"/>
                      <a:pt x="1416" y="1848"/>
                      <a:pt x="1432" y="1968"/>
                    </a:cubicBezTo>
                    <a:cubicBezTo>
                      <a:pt x="1448" y="2088"/>
                      <a:pt x="1456" y="2048"/>
                      <a:pt x="1384" y="1920"/>
                    </a:cubicBezTo>
                    <a:cubicBezTo>
                      <a:pt x="1312" y="1792"/>
                      <a:pt x="1128" y="1424"/>
                      <a:pt x="1000" y="1200"/>
                    </a:cubicBezTo>
                    <a:cubicBezTo>
                      <a:pt x="872" y="976"/>
                      <a:pt x="736" y="736"/>
                      <a:pt x="616" y="576"/>
                    </a:cubicBezTo>
                    <a:cubicBezTo>
                      <a:pt x="496" y="416"/>
                      <a:pt x="344" y="288"/>
                      <a:pt x="280" y="240"/>
                    </a:cubicBezTo>
                    <a:cubicBezTo>
                      <a:pt x="216" y="192"/>
                      <a:pt x="200" y="240"/>
                      <a:pt x="232" y="288"/>
                    </a:cubicBezTo>
                    <a:cubicBezTo>
                      <a:pt x="264" y="336"/>
                      <a:pt x="384" y="416"/>
                      <a:pt x="472" y="528"/>
                    </a:cubicBezTo>
                    <a:cubicBezTo>
                      <a:pt x="560" y="640"/>
                      <a:pt x="648" y="776"/>
                      <a:pt x="760" y="960"/>
                    </a:cubicBezTo>
                    <a:cubicBezTo>
                      <a:pt x="872" y="1144"/>
                      <a:pt x="1040" y="1456"/>
                      <a:pt x="1144" y="1632"/>
                    </a:cubicBezTo>
                    <a:cubicBezTo>
                      <a:pt x="1248" y="1808"/>
                      <a:pt x="1352" y="1952"/>
                      <a:pt x="1384" y="2016"/>
                    </a:cubicBezTo>
                    <a:cubicBezTo>
                      <a:pt x="1416" y="2080"/>
                      <a:pt x="1384" y="2048"/>
                      <a:pt x="1336" y="2016"/>
                    </a:cubicBezTo>
                    <a:cubicBezTo>
                      <a:pt x="1288" y="1984"/>
                      <a:pt x="1224" y="1944"/>
                      <a:pt x="1096" y="1824"/>
                    </a:cubicBezTo>
                    <a:cubicBezTo>
                      <a:pt x="968" y="1704"/>
                      <a:pt x="736" y="1504"/>
                      <a:pt x="568" y="1296"/>
                    </a:cubicBezTo>
                    <a:cubicBezTo>
                      <a:pt x="400" y="1088"/>
                      <a:pt x="176" y="760"/>
                      <a:pt x="88" y="576"/>
                    </a:cubicBezTo>
                    <a:cubicBezTo>
                      <a:pt x="0" y="392"/>
                      <a:pt x="24" y="280"/>
                      <a:pt x="40" y="192"/>
                    </a:cubicBezTo>
                    <a:cubicBezTo>
                      <a:pt x="56" y="104"/>
                      <a:pt x="80" y="48"/>
                      <a:pt x="184" y="48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 rot="21429000">
                <a:off x="3638160" y="4654080"/>
                <a:ext cx="1120680" cy="1609920"/>
              </a:xfrm>
              <a:custGeom>
                <a:avLst/>
                <a:gdLst/>
                <a:ahLst/>
                <a:rect l="l" t="t" r="r" b="b"/>
                <a:pathLst>
                  <a:path w="1456" h="2088">
                    <a:moveTo>
                      <a:pt x="184" y="48"/>
                    </a:moveTo>
                    <a:cubicBezTo>
                      <a:pt x="288" y="48"/>
                      <a:pt x="480" y="0"/>
                      <a:pt x="664" y="192"/>
                    </a:cubicBezTo>
                    <a:cubicBezTo>
                      <a:pt x="848" y="384"/>
                      <a:pt x="1160" y="904"/>
                      <a:pt x="1288" y="1200"/>
                    </a:cubicBezTo>
                    <a:cubicBezTo>
                      <a:pt x="1416" y="1496"/>
                      <a:pt x="1416" y="1848"/>
                      <a:pt x="1432" y="1968"/>
                    </a:cubicBezTo>
                    <a:cubicBezTo>
                      <a:pt x="1448" y="2088"/>
                      <a:pt x="1456" y="2048"/>
                      <a:pt x="1384" y="1920"/>
                    </a:cubicBezTo>
                    <a:cubicBezTo>
                      <a:pt x="1312" y="1792"/>
                      <a:pt x="1128" y="1424"/>
                      <a:pt x="1000" y="1200"/>
                    </a:cubicBezTo>
                    <a:cubicBezTo>
                      <a:pt x="872" y="976"/>
                      <a:pt x="736" y="736"/>
                      <a:pt x="616" y="576"/>
                    </a:cubicBezTo>
                    <a:cubicBezTo>
                      <a:pt x="496" y="416"/>
                      <a:pt x="344" y="288"/>
                      <a:pt x="280" y="240"/>
                    </a:cubicBezTo>
                    <a:cubicBezTo>
                      <a:pt x="216" y="192"/>
                      <a:pt x="200" y="240"/>
                      <a:pt x="232" y="288"/>
                    </a:cubicBezTo>
                    <a:cubicBezTo>
                      <a:pt x="264" y="336"/>
                      <a:pt x="384" y="416"/>
                      <a:pt x="472" y="528"/>
                    </a:cubicBezTo>
                    <a:cubicBezTo>
                      <a:pt x="560" y="640"/>
                      <a:pt x="648" y="776"/>
                      <a:pt x="760" y="960"/>
                    </a:cubicBezTo>
                    <a:cubicBezTo>
                      <a:pt x="872" y="1144"/>
                      <a:pt x="1040" y="1456"/>
                      <a:pt x="1144" y="1632"/>
                    </a:cubicBezTo>
                    <a:cubicBezTo>
                      <a:pt x="1248" y="1808"/>
                      <a:pt x="1352" y="1952"/>
                      <a:pt x="1384" y="2016"/>
                    </a:cubicBezTo>
                    <a:cubicBezTo>
                      <a:pt x="1416" y="2080"/>
                      <a:pt x="1384" y="2048"/>
                      <a:pt x="1336" y="2016"/>
                    </a:cubicBezTo>
                    <a:cubicBezTo>
                      <a:pt x="1288" y="1984"/>
                      <a:pt x="1224" y="1944"/>
                      <a:pt x="1096" y="1824"/>
                    </a:cubicBezTo>
                    <a:cubicBezTo>
                      <a:pt x="968" y="1704"/>
                      <a:pt x="736" y="1504"/>
                      <a:pt x="568" y="1296"/>
                    </a:cubicBezTo>
                    <a:cubicBezTo>
                      <a:pt x="400" y="1088"/>
                      <a:pt x="176" y="760"/>
                      <a:pt x="88" y="576"/>
                    </a:cubicBezTo>
                    <a:cubicBezTo>
                      <a:pt x="0" y="392"/>
                      <a:pt x="24" y="280"/>
                      <a:pt x="40" y="192"/>
                    </a:cubicBezTo>
                    <a:cubicBezTo>
                      <a:pt x="56" y="104"/>
                      <a:pt x="80" y="48"/>
                      <a:pt x="184" y="48"/>
                    </a:cubicBezTo>
                    <a:close/>
                  </a:path>
                </a:pathLst>
              </a:cu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5057640" y="3900240"/>
                <a:ext cx="1552680" cy="527040"/>
              </a:xfrm>
              <a:custGeom>
                <a:avLst/>
                <a:gdLst/>
                <a:ahLst/>
                <a:rect l="l" t="t" r="r" b="b"/>
                <a:pathLst>
                  <a:path w="2020" h="688">
                    <a:moveTo>
                      <a:pt x="96" y="464"/>
                    </a:moveTo>
                    <a:cubicBezTo>
                      <a:pt x="0" y="416"/>
                      <a:pt x="48" y="408"/>
                      <a:pt x="48" y="368"/>
                    </a:cubicBezTo>
                    <a:cubicBezTo>
                      <a:pt x="48" y="328"/>
                      <a:pt x="40" y="280"/>
                      <a:pt x="96" y="224"/>
                    </a:cubicBezTo>
                    <a:cubicBezTo>
                      <a:pt x="152" y="168"/>
                      <a:pt x="240" y="64"/>
                      <a:pt x="384" y="32"/>
                    </a:cubicBezTo>
                    <a:cubicBezTo>
                      <a:pt x="528" y="0"/>
                      <a:pt x="760" y="0"/>
                      <a:pt x="960" y="32"/>
                    </a:cubicBezTo>
                    <a:cubicBezTo>
                      <a:pt x="1160" y="64"/>
                      <a:pt x="1424" y="160"/>
                      <a:pt x="1584" y="224"/>
                    </a:cubicBezTo>
                    <a:cubicBezTo>
                      <a:pt x="1744" y="288"/>
                      <a:pt x="1850" y="363"/>
                      <a:pt x="1920" y="416"/>
                    </a:cubicBezTo>
                    <a:cubicBezTo>
                      <a:pt x="1990" y="469"/>
                      <a:pt x="2020" y="520"/>
                      <a:pt x="2004" y="544"/>
                    </a:cubicBezTo>
                    <a:cubicBezTo>
                      <a:pt x="1988" y="568"/>
                      <a:pt x="1910" y="573"/>
                      <a:pt x="1824" y="560"/>
                    </a:cubicBezTo>
                    <a:cubicBezTo>
                      <a:pt x="1738" y="547"/>
                      <a:pt x="1632" y="504"/>
                      <a:pt x="1488" y="464"/>
                    </a:cubicBezTo>
                    <a:cubicBezTo>
                      <a:pt x="1344" y="424"/>
                      <a:pt x="1128" y="344"/>
                      <a:pt x="960" y="320"/>
                    </a:cubicBezTo>
                    <a:cubicBezTo>
                      <a:pt x="792" y="296"/>
                      <a:pt x="584" y="312"/>
                      <a:pt x="480" y="320"/>
                    </a:cubicBezTo>
                    <a:cubicBezTo>
                      <a:pt x="376" y="328"/>
                      <a:pt x="360" y="352"/>
                      <a:pt x="336" y="368"/>
                    </a:cubicBezTo>
                    <a:cubicBezTo>
                      <a:pt x="312" y="384"/>
                      <a:pt x="304" y="416"/>
                      <a:pt x="336" y="416"/>
                    </a:cubicBezTo>
                    <a:cubicBezTo>
                      <a:pt x="368" y="416"/>
                      <a:pt x="424" y="376"/>
                      <a:pt x="528" y="368"/>
                    </a:cubicBezTo>
                    <a:cubicBezTo>
                      <a:pt x="632" y="360"/>
                      <a:pt x="784" y="336"/>
                      <a:pt x="960" y="368"/>
                    </a:cubicBezTo>
                    <a:cubicBezTo>
                      <a:pt x="1136" y="400"/>
                      <a:pt x="1472" y="520"/>
                      <a:pt x="1584" y="560"/>
                    </a:cubicBezTo>
                    <a:cubicBezTo>
                      <a:pt x="1696" y="600"/>
                      <a:pt x="1664" y="592"/>
                      <a:pt x="1632" y="608"/>
                    </a:cubicBezTo>
                    <a:cubicBezTo>
                      <a:pt x="1600" y="624"/>
                      <a:pt x="1560" y="648"/>
                      <a:pt x="1392" y="656"/>
                    </a:cubicBezTo>
                    <a:cubicBezTo>
                      <a:pt x="1224" y="664"/>
                      <a:pt x="840" y="688"/>
                      <a:pt x="624" y="656"/>
                    </a:cubicBezTo>
                    <a:cubicBezTo>
                      <a:pt x="408" y="624"/>
                      <a:pt x="192" y="512"/>
                      <a:pt x="96" y="464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20854800">
                <a:off x="5227560" y="4335120"/>
                <a:ext cx="1120680" cy="1609560"/>
              </a:xfrm>
              <a:custGeom>
                <a:avLst/>
                <a:gdLst/>
                <a:ahLst/>
                <a:rect l="l" t="t" r="r" b="b"/>
                <a:pathLst>
                  <a:path w="1456" h="2088">
                    <a:moveTo>
                      <a:pt x="184" y="48"/>
                    </a:moveTo>
                    <a:cubicBezTo>
                      <a:pt x="288" y="48"/>
                      <a:pt x="480" y="0"/>
                      <a:pt x="664" y="192"/>
                    </a:cubicBezTo>
                    <a:cubicBezTo>
                      <a:pt x="848" y="384"/>
                      <a:pt x="1160" y="904"/>
                      <a:pt x="1288" y="1200"/>
                    </a:cubicBezTo>
                    <a:cubicBezTo>
                      <a:pt x="1416" y="1496"/>
                      <a:pt x="1416" y="1848"/>
                      <a:pt x="1432" y="1968"/>
                    </a:cubicBezTo>
                    <a:cubicBezTo>
                      <a:pt x="1448" y="2088"/>
                      <a:pt x="1456" y="2048"/>
                      <a:pt x="1384" y="1920"/>
                    </a:cubicBezTo>
                    <a:cubicBezTo>
                      <a:pt x="1312" y="1792"/>
                      <a:pt x="1128" y="1424"/>
                      <a:pt x="1000" y="1200"/>
                    </a:cubicBezTo>
                    <a:cubicBezTo>
                      <a:pt x="872" y="976"/>
                      <a:pt x="736" y="736"/>
                      <a:pt x="616" y="576"/>
                    </a:cubicBezTo>
                    <a:cubicBezTo>
                      <a:pt x="496" y="416"/>
                      <a:pt x="344" y="288"/>
                      <a:pt x="280" y="240"/>
                    </a:cubicBezTo>
                    <a:cubicBezTo>
                      <a:pt x="216" y="192"/>
                      <a:pt x="200" y="240"/>
                      <a:pt x="232" y="288"/>
                    </a:cubicBezTo>
                    <a:cubicBezTo>
                      <a:pt x="264" y="336"/>
                      <a:pt x="384" y="416"/>
                      <a:pt x="472" y="528"/>
                    </a:cubicBezTo>
                    <a:cubicBezTo>
                      <a:pt x="560" y="640"/>
                      <a:pt x="648" y="776"/>
                      <a:pt x="760" y="960"/>
                    </a:cubicBezTo>
                    <a:cubicBezTo>
                      <a:pt x="872" y="1144"/>
                      <a:pt x="1040" y="1456"/>
                      <a:pt x="1144" y="1632"/>
                    </a:cubicBezTo>
                    <a:cubicBezTo>
                      <a:pt x="1248" y="1808"/>
                      <a:pt x="1352" y="1952"/>
                      <a:pt x="1384" y="2016"/>
                    </a:cubicBezTo>
                    <a:cubicBezTo>
                      <a:pt x="1416" y="2080"/>
                      <a:pt x="1384" y="2048"/>
                      <a:pt x="1336" y="2016"/>
                    </a:cubicBezTo>
                    <a:cubicBezTo>
                      <a:pt x="1288" y="1984"/>
                      <a:pt x="1224" y="1944"/>
                      <a:pt x="1096" y="1824"/>
                    </a:cubicBezTo>
                    <a:cubicBezTo>
                      <a:pt x="968" y="1704"/>
                      <a:pt x="736" y="1504"/>
                      <a:pt x="568" y="1296"/>
                    </a:cubicBezTo>
                    <a:cubicBezTo>
                      <a:pt x="400" y="1088"/>
                      <a:pt x="176" y="760"/>
                      <a:pt x="88" y="576"/>
                    </a:cubicBezTo>
                    <a:cubicBezTo>
                      <a:pt x="0" y="392"/>
                      <a:pt x="24" y="280"/>
                      <a:pt x="40" y="192"/>
                    </a:cubicBezTo>
                    <a:cubicBezTo>
                      <a:pt x="56" y="104"/>
                      <a:pt x="80" y="48"/>
                      <a:pt x="184" y="4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e5eeda"/>
                  </a:gs>
                  <a:gs pos="100000">
                    <a:srgbClr val="d5e3c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748040" y="4713120"/>
                <a:ext cx="752760" cy="1847880"/>
              </a:xfrm>
              <a:custGeom>
                <a:avLst/>
                <a:gdLst/>
                <a:ahLst/>
                <a:rect l="l" t="t" r="r" b="b"/>
                <a:pathLst>
                  <a:path w="980" h="2408">
                    <a:moveTo>
                      <a:pt x="253" y="1432"/>
                    </a:moveTo>
                    <a:cubicBezTo>
                      <a:pt x="184" y="1264"/>
                      <a:pt x="122" y="1070"/>
                      <a:pt x="82" y="881"/>
                    </a:cubicBezTo>
                    <a:cubicBezTo>
                      <a:pt x="42" y="692"/>
                      <a:pt x="0" y="433"/>
                      <a:pt x="12" y="296"/>
                    </a:cubicBezTo>
                    <a:cubicBezTo>
                      <a:pt x="24" y="159"/>
                      <a:pt x="84" y="96"/>
                      <a:pt x="156" y="56"/>
                    </a:cubicBezTo>
                    <a:cubicBezTo>
                      <a:pt x="228" y="16"/>
                      <a:pt x="364" y="0"/>
                      <a:pt x="444" y="56"/>
                    </a:cubicBezTo>
                    <a:cubicBezTo>
                      <a:pt x="524" y="112"/>
                      <a:pt x="564" y="216"/>
                      <a:pt x="636" y="392"/>
                    </a:cubicBezTo>
                    <a:cubicBezTo>
                      <a:pt x="708" y="568"/>
                      <a:pt x="820" y="840"/>
                      <a:pt x="876" y="1112"/>
                    </a:cubicBezTo>
                    <a:cubicBezTo>
                      <a:pt x="932" y="1384"/>
                      <a:pt x="964" y="1816"/>
                      <a:pt x="972" y="2024"/>
                    </a:cubicBezTo>
                    <a:cubicBezTo>
                      <a:pt x="980" y="2232"/>
                      <a:pt x="940" y="2312"/>
                      <a:pt x="924" y="2360"/>
                    </a:cubicBezTo>
                    <a:cubicBezTo>
                      <a:pt x="908" y="2408"/>
                      <a:pt x="892" y="2384"/>
                      <a:pt x="876" y="2312"/>
                    </a:cubicBezTo>
                    <a:cubicBezTo>
                      <a:pt x="860" y="2240"/>
                      <a:pt x="860" y="2096"/>
                      <a:pt x="828" y="1928"/>
                    </a:cubicBezTo>
                    <a:cubicBezTo>
                      <a:pt x="796" y="1760"/>
                      <a:pt x="756" y="1544"/>
                      <a:pt x="684" y="1304"/>
                    </a:cubicBezTo>
                    <a:cubicBezTo>
                      <a:pt x="612" y="1064"/>
                      <a:pt x="460" y="648"/>
                      <a:pt x="396" y="488"/>
                    </a:cubicBezTo>
                    <a:cubicBezTo>
                      <a:pt x="332" y="328"/>
                      <a:pt x="316" y="352"/>
                      <a:pt x="300" y="344"/>
                    </a:cubicBezTo>
                    <a:cubicBezTo>
                      <a:pt x="284" y="336"/>
                      <a:pt x="260" y="320"/>
                      <a:pt x="300" y="440"/>
                    </a:cubicBezTo>
                    <a:cubicBezTo>
                      <a:pt x="340" y="560"/>
                      <a:pt x="468" y="840"/>
                      <a:pt x="540" y="1064"/>
                    </a:cubicBezTo>
                    <a:cubicBezTo>
                      <a:pt x="612" y="1288"/>
                      <a:pt x="692" y="1584"/>
                      <a:pt x="732" y="1784"/>
                    </a:cubicBezTo>
                    <a:cubicBezTo>
                      <a:pt x="772" y="1984"/>
                      <a:pt x="780" y="2176"/>
                      <a:pt x="780" y="2264"/>
                    </a:cubicBezTo>
                    <a:cubicBezTo>
                      <a:pt x="780" y="2352"/>
                      <a:pt x="779" y="2375"/>
                      <a:pt x="732" y="2312"/>
                    </a:cubicBezTo>
                    <a:cubicBezTo>
                      <a:pt x="685" y="2249"/>
                      <a:pt x="576" y="2034"/>
                      <a:pt x="496" y="1887"/>
                    </a:cubicBezTo>
                    <a:cubicBezTo>
                      <a:pt x="416" y="1740"/>
                      <a:pt x="304" y="1527"/>
                      <a:pt x="253" y="1432"/>
                    </a:cubicBezTo>
                    <a:close/>
                  </a:path>
                </a:pathLst>
              </a:cu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grpSp>
            <p:nvGrpSpPr>
              <p:cNvPr id="24" name=""/>
              <p:cNvGrpSpPr/>
              <p:nvPr/>
            </p:nvGrpSpPr>
            <p:grpSpPr>
              <a:xfrm>
                <a:off x="3054240" y="-56880"/>
                <a:ext cx="3519000" cy="2722320"/>
                <a:chOff x="3054240" y="-56880"/>
                <a:chExt cx="3519000" cy="2722320"/>
              </a:xfrm>
            </p:grpSpPr>
            <p:sp>
              <p:nvSpPr>
                <p:cNvPr id="25" name=""/>
                <p:cNvSpPr/>
                <p:nvPr/>
              </p:nvSpPr>
              <p:spPr>
                <a:xfrm flipH="1" rot="2200200">
                  <a:off x="3428640" y="20880"/>
                  <a:ext cx="760320" cy="150804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26" name=""/>
                <p:cNvSpPr/>
                <p:nvPr/>
              </p:nvSpPr>
              <p:spPr>
                <a:xfrm flipH="1" rot="21429000">
                  <a:off x="3601440" y="758520"/>
                  <a:ext cx="1120320" cy="160956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5020920" y="4680"/>
                  <a:ext cx="1552320" cy="527040"/>
                </a:xfrm>
                <a:custGeom>
                  <a:avLst/>
                  <a:gdLst/>
                  <a:ahLst/>
                  <a:rect l="l" t="t" r="r" b="b"/>
                  <a:pathLst>
                    <a:path w="2020" h="688">
                      <a:moveTo>
                        <a:pt x="96" y="464"/>
                      </a:moveTo>
                      <a:cubicBezTo>
                        <a:pt x="0" y="416"/>
                        <a:pt x="48" y="408"/>
                        <a:pt x="48" y="368"/>
                      </a:cubicBezTo>
                      <a:cubicBezTo>
                        <a:pt x="48" y="328"/>
                        <a:pt x="40" y="280"/>
                        <a:pt x="96" y="224"/>
                      </a:cubicBezTo>
                      <a:cubicBezTo>
                        <a:pt x="152" y="168"/>
                        <a:pt x="240" y="64"/>
                        <a:pt x="384" y="32"/>
                      </a:cubicBezTo>
                      <a:cubicBezTo>
                        <a:pt x="528" y="0"/>
                        <a:pt x="760" y="0"/>
                        <a:pt x="960" y="32"/>
                      </a:cubicBezTo>
                      <a:cubicBezTo>
                        <a:pt x="1160" y="64"/>
                        <a:pt x="1424" y="160"/>
                        <a:pt x="1584" y="224"/>
                      </a:cubicBezTo>
                      <a:cubicBezTo>
                        <a:pt x="1744" y="288"/>
                        <a:pt x="1850" y="363"/>
                        <a:pt x="1920" y="416"/>
                      </a:cubicBezTo>
                      <a:cubicBezTo>
                        <a:pt x="1990" y="469"/>
                        <a:pt x="2020" y="520"/>
                        <a:pt x="2004" y="544"/>
                      </a:cubicBezTo>
                      <a:cubicBezTo>
                        <a:pt x="1988" y="568"/>
                        <a:pt x="1910" y="573"/>
                        <a:pt x="1824" y="560"/>
                      </a:cubicBezTo>
                      <a:cubicBezTo>
                        <a:pt x="1738" y="547"/>
                        <a:pt x="1632" y="504"/>
                        <a:pt x="1488" y="464"/>
                      </a:cubicBezTo>
                      <a:cubicBezTo>
                        <a:pt x="1344" y="424"/>
                        <a:pt x="1128" y="344"/>
                        <a:pt x="960" y="320"/>
                      </a:cubicBezTo>
                      <a:cubicBezTo>
                        <a:pt x="792" y="296"/>
                        <a:pt x="584" y="312"/>
                        <a:pt x="480" y="320"/>
                      </a:cubicBezTo>
                      <a:cubicBezTo>
                        <a:pt x="376" y="328"/>
                        <a:pt x="360" y="352"/>
                        <a:pt x="336" y="368"/>
                      </a:cubicBezTo>
                      <a:cubicBezTo>
                        <a:pt x="312" y="384"/>
                        <a:pt x="304" y="416"/>
                        <a:pt x="336" y="416"/>
                      </a:cubicBezTo>
                      <a:cubicBezTo>
                        <a:pt x="368" y="416"/>
                        <a:pt x="424" y="376"/>
                        <a:pt x="528" y="368"/>
                      </a:cubicBezTo>
                      <a:cubicBezTo>
                        <a:pt x="632" y="360"/>
                        <a:pt x="784" y="336"/>
                        <a:pt x="960" y="368"/>
                      </a:cubicBezTo>
                      <a:cubicBezTo>
                        <a:pt x="1136" y="400"/>
                        <a:pt x="1472" y="520"/>
                        <a:pt x="1584" y="560"/>
                      </a:cubicBezTo>
                      <a:cubicBezTo>
                        <a:pt x="1696" y="600"/>
                        <a:pt x="1664" y="592"/>
                        <a:pt x="1632" y="608"/>
                      </a:cubicBezTo>
                      <a:cubicBezTo>
                        <a:pt x="1600" y="624"/>
                        <a:pt x="1560" y="648"/>
                        <a:pt x="1392" y="656"/>
                      </a:cubicBezTo>
                      <a:cubicBezTo>
                        <a:pt x="1224" y="664"/>
                        <a:pt x="840" y="688"/>
                        <a:pt x="624" y="656"/>
                      </a:cubicBezTo>
                      <a:cubicBezTo>
                        <a:pt x="408" y="624"/>
                        <a:pt x="192" y="512"/>
                        <a:pt x="96" y="464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 rot="20854800">
                  <a:off x="5190840" y="439920"/>
                  <a:ext cx="1120320" cy="160956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4711320" y="817560"/>
                  <a:ext cx="752400" cy="1847880"/>
                </a:xfrm>
                <a:custGeom>
                  <a:avLst/>
                  <a:gdLst/>
                  <a:ahLst/>
                  <a:rect l="l" t="t" r="r" b="b"/>
                  <a:pathLst>
                    <a:path w="980" h="2408">
                      <a:moveTo>
                        <a:pt x="253" y="1432"/>
                      </a:moveTo>
                      <a:cubicBezTo>
                        <a:pt x="184" y="1264"/>
                        <a:pt x="122" y="1070"/>
                        <a:pt x="82" y="881"/>
                      </a:cubicBezTo>
                      <a:cubicBezTo>
                        <a:pt x="42" y="692"/>
                        <a:pt x="0" y="433"/>
                        <a:pt x="12" y="296"/>
                      </a:cubicBezTo>
                      <a:cubicBezTo>
                        <a:pt x="24" y="159"/>
                        <a:pt x="84" y="96"/>
                        <a:pt x="156" y="56"/>
                      </a:cubicBezTo>
                      <a:cubicBezTo>
                        <a:pt x="228" y="16"/>
                        <a:pt x="364" y="0"/>
                        <a:pt x="444" y="56"/>
                      </a:cubicBezTo>
                      <a:cubicBezTo>
                        <a:pt x="524" y="112"/>
                        <a:pt x="564" y="216"/>
                        <a:pt x="636" y="392"/>
                      </a:cubicBezTo>
                      <a:cubicBezTo>
                        <a:pt x="708" y="568"/>
                        <a:pt x="820" y="840"/>
                        <a:pt x="876" y="1112"/>
                      </a:cubicBezTo>
                      <a:cubicBezTo>
                        <a:pt x="932" y="1384"/>
                        <a:pt x="964" y="1816"/>
                        <a:pt x="972" y="2024"/>
                      </a:cubicBezTo>
                      <a:cubicBezTo>
                        <a:pt x="980" y="2232"/>
                        <a:pt x="940" y="2312"/>
                        <a:pt x="924" y="2360"/>
                      </a:cubicBezTo>
                      <a:cubicBezTo>
                        <a:pt x="908" y="2408"/>
                        <a:pt x="892" y="2384"/>
                        <a:pt x="876" y="2312"/>
                      </a:cubicBezTo>
                      <a:cubicBezTo>
                        <a:pt x="860" y="2240"/>
                        <a:pt x="860" y="2096"/>
                        <a:pt x="828" y="1928"/>
                      </a:cubicBezTo>
                      <a:cubicBezTo>
                        <a:pt x="796" y="1760"/>
                        <a:pt x="756" y="1544"/>
                        <a:pt x="684" y="1304"/>
                      </a:cubicBezTo>
                      <a:cubicBezTo>
                        <a:pt x="612" y="1064"/>
                        <a:pt x="460" y="648"/>
                        <a:pt x="396" y="488"/>
                      </a:cubicBezTo>
                      <a:cubicBezTo>
                        <a:pt x="332" y="328"/>
                        <a:pt x="316" y="352"/>
                        <a:pt x="300" y="344"/>
                      </a:cubicBezTo>
                      <a:cubicBezTo>
                        <a:pt x="284" y="336"/>
                        <a:pt x="260" y="320"/>
                        <a:pt x="300" y="440"/>
                      </a:cubicBezTo>
                      <a:cubicBezTo>
                        <a:pt x="340" y="560"/>
                        <a:pt x="468" y="840"/>
                        <a:pt x="540" y="1064"/>
                      </a:cubicBezTo>
                      <a:cubicBezTo>
                        <a:pt x="612" y="1288"/>
                        <a:pt x="692" y="1584"/>
                        <a:pt x="732" y="1784"/>
                      </a:cubicBezTo>
                      <a:cubicBezTo>
                        <a:pt x="772" y="1984"/>
                        <a:pt x="780" y="2176"/>
                        <a:pt x="780" y="2264"/>
                      </a:cubicBezTo>
                      <a:cubicBezTo>
                        <a:pt x="780" y="2352"/>
                        <a:pt x="779" y="2375"/>
                        <a:pt x="732" y="2312"/>
                      </a:cubicBezTo>
                      <a:cubicBezTo>
                        <a:pt x="685" y="2249"/>
                        <a:pt x="576" y="2034"/>
                        <a:pt x="496" y="1887"/>
                      </a:cubicBezTo>
                      <a:cubicBezTo>
                        <a:pt x="416" y="1740"/>
                        <a:pt x="304" y="1527"/>
                        <a:pt x="253" y="1432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" name=""/>
              <p:cNvGrpSpPr/>
              <p:nvPr/>
            </p:nvGrpSpPr>
            <p:grpSpPr>
              <a:xfrm>
                <a:off x="277200" y="1751040"/>
                <a:ext cx="3577320" cy="2708280"/>
                <a:chOff x="277200" y="1751040"/>
                <a:chExt cx="3577320" cy="2708280"/>
              </a:xfrm>
            </p:grpSpPr>
            <p:sp>
              <p:nvSpPr>
                <p:cNvPr id="31" name=""/>
                <p:cNvSpPr/>
                <p:nvPr/>
              </p:nvSpPr>
              <p:spPr>
                <a:xfrm rot="20854800">
                  <a:off x="2509920" y="2161800"/>
                  <a:ext cx="1120680" cy="160956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052720" y="2611440"/>
                  <a:ext cx="752400" cy="1847880"/>
                </a:xfrm>
                <a:custGeom>
                  <a:avLst/>
                  <a:gdLst/>
                  <a:ahLst/>
                  <a:rect l="l" t="t" r="r" b="b"/>
                  <a:pathLst>
                    <a:path w="980" h="2408">
                      <a:moveTo>
                        <a:pt x="253" y="1432"/>
                      </a:moveTo>
                      <a:cubicBezTo>
                        <a:pt x="184" y="1264"/>
                        <a:pt x="122" y="1070"/>
                        <a:pt x="82" y="881"/>
                      </a:cubicBezTo>
                      <a:cubicBezTo>
                        <a:pt x="42" y="692"/>
                        <a:pt x="0" y="433"/>
                        <a:pt x="12" y="296"/>
                      </a:cubicBezTo>
                      <a:cubicBezTo>
                        <a:pt x="24" y="159"/>
                        <a:pt x="84" y="96"/>
                        <a:pt x="156" y="56"/>
                      </a:cubicBezTo>
                      <a:cubicBezTo>
                        <a:pt x="228" y="16"/>
                        <a:pt x="364" y="0"/>
                        <a:pt x="444" y="56"/>
                      </a:cubicBezTo>
                      <a:cubicBezTo>
                        <a:pt x="524" y="112"/>
                        <a:pt x="564" y="216"/>
                        <a:pt x="636" y="392"/>
                      </a:cubicBezTo>
                      <a:cubicBezTo>
                        <a:pt x="708" y="568"/>
                        <a:pt x="820" y="840"/>
                        <a:pt x="876" y="1112"/>
                      </a:cubicBezTo>
                      <a:cubicBezTo>
                        <a:pt x="932" y="1384"/>
                        <a:pt x="964" y="1816"/>
                        <a:pt x="972" y="2024"/>
                      </a:cubicBezTo>
                      <a:cubicBezTo>
                        <a:pt x="980" y="2232"/>
                        <a:pt x="940" y="2312"/>
                        <a:pt x="924" y="2360"/>
                      </a:cubicBezTo>
                      <a:cubicBezTo>
                        <a:pt x="908" y="2408"/>
                        <a:pt x="892" y="2384"/>
                        <a:pt x="876" y="2312"/>
                      </a:cubicBezTo>
                      <a:cubicBezTo>
                        <a:pt x="860" y="2240"/>
                        <a:pt x="860" y="2096"/>
                        <a:pt x="828" y="1928"/>
                      </a:cubicBezTo>
                      <a:cubicBezTo>
                        <a:pt x="796" y="1760"/>
                        <a:pt x="756" y="1544"/>
                        <a:pt x="684" y="1304"/>
                      </a:cubicBezTo>
                      <a:cubicBezTo>
                        <a:pt x="612" y="1064"/>
                        <a:pt x="460" y="648"/>
                        <a:pt x="396" y="488"/>
                      </a:cubicBezTo>
                      <a:cubicBezTo>
                        <a:pt x="332" y="328"/>
                        <a:pt x="316" y="352"/>
                        <a:pt x="300" y="344"/>
                      </a:cubicBezTo>
                      <a:cubicBezTo>
                        <a:pt x="284" y="336"/>
                        <a:pt x="260" y="320"/>
                        <a:pt x="300" y="440"/>
                      </a:cubicBezTo>
                      <a:cubicBezTo>
                        <a:pt x="340" y="560"/>
                        <a:pt x="468" y="840"/>
                        <a:pt x="540" y="1064"/>
                      </a:cubicBezTo>
                      <a:cubicBezTo>
                        <a:pt x="612" y="1288"/>
                        <a:pt x="692" y="1584"/>
                        <a:pt x="732" y="1784"/>
                      </a:cubicBezTo>
                      <a:cubicBezTo>
                        <a:pt x="772" y="1984"/>
                        <a:pt x="780" y="2176"/>
                        <a:pt x="780" y="2264"/>
                      </a:cubicBezTo>
                      <a:cubicBezTo>
                        <a:pt x="780" y="2352"/>
                        <a:pt x="779" y="2375"/>
                        <a:pt x="732" y="2312"/>
                      </a:cubicBezTo>
                      <a:cubicBezTo>
                        <a:pt x="685" y="2249"/>
                        <a:pt x="576" y="2034"/>
                        <a:pt x="496" y="1887"/>
                      </a:cubicBezTo>
                      <a:cubicBezTo>
                        <a:pt x="416" y="1740"/>
                        <a:pt x="304" y="1527"/>
                        <a:pt x="253" y="1432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301840" y="1751040"/>
                  <a:ext cx="1552680" cy="527040"/>
                </a:xfrm>
                <a:custGeom>
                  <a:avLst/>
                  <a:gdLst/>
                  <a:ahLst/>
                  <a:rect l="l" t="t" r="r" b="b"/>
                  <a:pathLst>
                    <a:path w="2020" h="688">
                      <a:moveTo>
                        <a:pt x="96" y="464"/>
                      </a:moveTo>
                      <a:cubicBezTo>
                        <a:pt x="0" y="416"/>
                        <a:pt x="48" y="408"/>
                        <a:pt x="48" y="368"/>
                      </a:cubicBezTo>
                      <a:cubicBezTo>
                        <a:pt x="48" y="328"/>
                        <a:pt x="40" y="280"/>
                        <a:pt x="96" y="224"/>
                      </a:cubicBezTo>
                      <a:cubicBezTo>
                        <a:pt x="152" y="168"/>
                        <a:pt x="240" y="64"/>
                        <a:pt x="384" y="32"/>
                      </a:cubicBezTo>
                      <a:cubicBezTo>
                        <a:pt x="528" y="0"/>
                        <a:pt x="760" y="0"/>
                        <a:pt x="960" y="32"/>
                      </a:cubicBezTo>
                      <a:cubicBezTo>
                        <a:pt x="1160" y="64"/>
                        <a:pt x="1424" y="160"/>
                        <a:pt x="1584" y="224"/>
                      </a:cubicBezTo>
                      <a:cubicBezTo>
                        <a:pt x="1744" y="288"/>
                        <a:pt x="1850" y="363"/>
                        <a:pt x="1920" y="416"/>
                      </a:cubicBezTo>
                      <a:cubicBezTo>
                        <a:pt x="1990" y="469"/>
                        <a:pt x="2020" y="520"/>
                        <a:pt x="2004" y="544"/>
                      </a:cubicBezTo>
                      <a:cubicBezTo>
                        <a:pt x="1988" y="568"/>
                        <a:pt x="1910" y="573"/>
                        <a:pt x="1824" y="560"/>
                      </a:cubicBezTo>
                      <a:cubicBezTo>
                        <a:pt x="1738" y="547"/>
                        <a:pt x="1632" y="504"/>
                        <a:pt x="1488" y="464"/>
                      </a:cubicBezTo>
                      <a:cubicBezTo>
                        <a:pt x="1344" y="424"/>
                        <a:pt x="1128" y="344"/>
                        <a:pt x="960" y="320"/>
                      </a:cubicBezTo>
                      <a:cubicBezTo>
                        <a:pt x="792" y="296"/>
                        <a:pt x="584" y="312"/>
                        <a:pt x="480" y="320"/>
                      </a:cubicBezTo>
                      <a:cubicBezTo>
                        <a:pt x="376" y="328"/>
                        <a:pt x="360" y="352"/>
                        <a:pt x="336" y="368"/>
                      </a:cubicBezTo>
                      <a:cubicBezTo>
                        <a:pt x="312" y="384"/>
                        <a:pt x="304" y="416"/>
                        <a:pt x="336" y="416"/>
                      </a:cubicBezTo>
                      <a:cubicBezTo>
                        <a:pt x="368" y="416"/>
                        <a:pt x="424" y="376"/>
                        <a:pt x="528" y="368"/>
                      </a:cubicBezTo>
                      <a:cubicBezTo>
                        <a:pt x="632" y="360"/>
                        <a:pt x="784" y="336"/>
                        <a:pt x="960" y="368"/>
                      </a:cubicBezTo>
                      <a:cubicBezTo>
                        <a:pt x="1136" y="400"/>
                        <a:pt x="1472" y="520"/>
                        <a:pt x="1584" y="560"/>
                      </a:cubicBezTo>
                      <a:cubicBezTo>
                        <a:pt x="1696" y="600"/>
                        <a:pt x="1664" y="592"/>
                        <a:pt x="1632" y="608"/>
                      </a:cubicBezTo>
                      <a:cubicBezTo>
                        <a:pt x="1600" y="624"/>
                        <a:pt x="1560" y="648"/>
                        <a:pt x="1392" y="656"/>
                      </a:cubicBezTo>
                      <a:cubicBezTo>
                        <a:pt x="1224" y="664"/>
                        <a:pt x="840" y="688"/>
                        <a:pt x="624" y="656"/>
                      </a:cubicBezTo>
                      <a:cubicBezTo>
                        <a:pt x="408" y="624"/>
                        <a:pt x="192" y="512"/>
                        <a:pt x="96" y="464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 flipH="1" rot="745200">
                  <a:off x="689760" y="2401560"/>
                  <a:ext cx="1120680" cy="160992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 flipH="1" rot="505800">
                  <a:off x="307080" y="1964880"/>
                  <a:ext cx="1552680" cy="527040"/>
                </a:xfrm>
                <a:custGeom>
                  <a:avLst/>
                  <a:gdLst/>
                  <a:ahLst/>
                  <a:rect l="l" t="t" r="r" b="b"/>
                  <a:pathLst>
                    <a:path w="2020" h="688">
                      <a:moveTo>
                        <a:pt x="96" y="464"/>
                      </a:moveTo>
                      <a:cubicBezTo>
                        <a:pt x="0" y="416"/>
                        <a:pt x="48" y="408"/>
                        <a:pt x="48" y="368"/>
                      </a:cubicBezTo>
                      <a:cubicBezTo>
                        <a:pt x="48" y="328"/>
                        <a:pt x="40" y="280"/>
                        <a:pt x="96" y="224"/>
                      </a:cubicBezTo>
                      <a:cubicBezTo>
                        <a:pt x="152" y="168"/>
                        <a:pt x="240" y="64"/>
                        <a:pt x="384" y="32"/>
                      </a:cubicBezTo>
                      <a:cubicBezTo>
                        <a:pt x="528" y="0"/>
                        <a:pt x="760" y="0"/>
                        <a:pt x="960" y="32"/>
                      </a:cubicBezTo>
                      <a:cubicBezTo>
                        <a:pt x="1160" y="64"/>
                        <a:pt x="1424" y="160"/>
                        <a:pt x="1584" y="224"/>
                      </a:cubicBezTo>
                      <a:cubicBezTo>
                        <a:pt x="1744" y="288"/>
                        <a:pt x="1850" y="363"/>
                        <a:pt x="1920" y="416"/>
                      </a:cubicBezTo>
                      <a:cubicBezTo>
                        <a:pt x="1990" y="469"/>
                        <a:pt x="2020" y="520"/>
                        <a:pt x="2004" y="544"/>
                      </a:cubicBezTo>
                      <a:cubicBezTo>
                        <a:pt x="1988" y="568"/>
                        <a:pt x="1910" y="573"/>
                        <a:pt x="1824" y="560"/>
                      </a:cubicBezTo>
                      <a:cubicBezTo>
                        <a:pt x="1738" y="547"/>
                        <a:pt x="1632" y="504"/>
                        <a:pt x="1488" y="464"/>
                      </a:cubicBezTo>
                      <a:cubicBezTo>
                        <a:pt x="1344" y="424"/>
                        <a:pt x="1128" y="344"/>
                        <a:pt x="960" y="320"/>
                      </a:cubicBezTo>
                      <a:cubicBezTo>
                        <a:pt x="792" y="296"/>
                        <a:pt x="584" y="312"/>
                        <a:pt x="480" y="320"/>
                      </a:cubicBezTo>
                      <a:cubicBezTo>
                        <a:pt x="376" y="328"/>
                        <a:pt x="360" y="352"/>
                        <a:pt x="336" y="368"/>
                      </a:cubicBezTo>
                      <a:cubicBezTo>
                        <a:pt x="312" y="384"/>
                        <a:pt x="304" y="416"/>
                        <a:pt x="336" y="416"/>
                      </a:cubicBezTo>
                      <a:cubicBezTo>
                        <a:pt x="368" y="416"/>
                        <a:pt x="424" y="376"/>
                        <a:pt x="528" y="368"/>
                      </a:cubicBezTo>
                      <a:cubicBezTo>
                        <a:pt x="632" y="360"/>
                        <a:pt x="784" y="336"/>
                        <a:pt x="960" y="368"/>
                      </a:cubicBezTo>
                      <a:cubicBezTo>
                        <a:pt x="1136" y="400"/>
                        <a:pt x="1472" y="520"/>
                        <a:pt x="1584" y="560"/>
                      </a:cubicBezTo>
                      <a:cubicBezTo>
                        <a:pt x="1696" y="600"/>
                        <a:pt x="1664" y="592"/>
                        <a:pt x="1632" y="608"/>
                      </a:cubicBezTo>
                      <a:cubicBezTo>
                        <a:pt x="1600" y="624"/>
                        <a:pt x="1560" y="648"/>
                        <a:pt x="1392" y="656"/>
                      </a:cubicBezTo>
                      <a:cubicBezTo>
                        <a:pt x="1224" y="664"/>
                        <a:pt x="840" y="688"/>
                        <a:pt x="624" y="656"/>
                      </a:cubicBezTo>
                      <a:cubicBezTo>
                        <a:pt x="408" y="624"/>
                        <a:pt x="192" y="512"/>
                        <a:pt x="96" y="464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" name=""/>
              <p:cNvGrpSpPr/>
              <p:nvPr/>
            </p:nvGrpSpPr>
            <p:grpSpPr>
              <a:xfrm>
                <a:off x="7394400" y="4680"/>
                <a:ext cx="611280" cy="6838920"/>
                <a:chOff x="7394400" y="4680"/>
                <a:chExt cx="611280" cy="6838920"/>
              </a:xfrm>
            </p:grpSpPr>
            <p:sp>
              <p:nvSpPr>
                <p:cNvPr id="37" name=""/>
                <p:cNvSpPr/>
                <p:nvPr/>
              </p:nvSpPr>
              <p:spPr>
                <a:xfrm>
                  <a:off x="7419960" y="4680"/>
                  <a:ext cx="585720" cy="4145040"/>
                </a:xfrm>
                <a:custGeom>
                  <a:avLst/>
                  <a:gdLst/>
                  <a:ahLst/>
                  <a:rect l="l" t="t" r="r" b="b"/>
                  <a:pathLst>
                    <a:path w="369" h="2611">
                      <a:moveTo>
                        <a:pt x="22" y="0"/>
                      </a:moveTo>
                      <a:lnTo>
                        <a:pt x="14" y="1622"/>
                      </a:lnTo>
                      <a:cubicBezTo>
                        <a:pt x="14" y="1622"/>
                        <a:pt x="10" y="2084"/>
                        <a:pt x="6" y="2547"/>
                      </a:cubicBezTo>
                      <a:cubicBezTo>
                        <a:pt x="0" y="2588"/>
                        <a:pt x="8" y="2597"/>
                        <a:pt x="38" y="2604"/>
                      </a:cubicBezTo>
                      <a:cubicBezTo>
                        <a:pt x="68" y="2611"/>
                        <a:pt x="134" y="2589"/>
                        <a:pt x="184" y="2588"/>
                      </a:cubicBezTo>
                      <a:cubicBezTo>
                        <a:pt x="234" y="2587"/>
                        <a:pt x="309" y="2605"/>
                        <a:pt x="339" y="2596"/>
                      </a:cubicBezTo>
                      <a:cubicBezTo>
                        <a:pt x="369" y="2587"/>
                        <a:pt x="366" y="2567"/>
                        <a:pt x="363" y="2531"/>
                      </a:cubicBezTo>
                      <a:cubicBezTo>
                        <a:pt x="363" y="2378"/>
                        <a:pt x="343" y="2101"/>
                        <a:pt x="339" y="1679"/>
                      </a:cubicBezTo>
                      <a:lnTo>
                        <a:pt x="339" y="0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7564320" y="3454200"/>
                  <a:ext cx="398520" cy="619200"/>
                </a:xfrm>
                <a:custGeom>
                  <a:avLst/>
                  <a:gdLst/>
                  <a:ahLst/>
                  <a:rect l="l" t="t" r="r" b="b"/>
                  <a:pathLst>
                    <a:path w="251" h="390">
                      <a:moveTo>
                        <a:pt x="32" y="379"/>
                      </a:moveTo>
                      <a:cubicBezTo>
                        <a:pt x="43" y="377"/>
                        <a:pt x="57" y="366"/>
                        <a:pt x="77" y="364"/>
                      </a:cubicBezTo>
                      <a:cubicBezTo>
                        <a:pt x="97" y="362"/>
                        <a:pt x="130" y="366"/>
                        <a:pt x="152" y="370"/>
                      </a:cubicBezTo>
                      <a:cubicBezTo>
                        <a:pt x="174" y="374"/>
                        <a:pt x="194" y="386"/>
                        <a:pt x="209" y="388"/>
                      </a:cubicBezTo>
                      <a:cubicBezTo>
                        <a:pt x="224" y="390"/>
                        <a:pt x="235" y="389"/>
                        <a:pt x="242" y="379"/>
                      </a:cubicBezTo>
                      <a:cubicBezTo>
                        <a:pt x="249" y="369"/>
                        <a:pt x="251" y="362"/>
                        <a:pt x="248" y="328"/>
                      </a:cubicBezTo>
                      <a:cubicBezTo>
                        <a:pt x="245" y="294"/>
                        <a:pt x="236" y="208"/>
                        <a:pt x="227" y="175"/>
                      </a:cubicBezTo>
                      <a:cubicBezTo>
                        <a:pt x="218" y="142"/>
                        <a:pt x="202" y="110"/>
                        <a:pt x="194" y="130"/>
                      </a:cubicBezTo>
                      <a:cubicBezTo>
                        <a:pt x="186" y="150"/>
                        <a:pt x="186" y="266"/>
                        <a:pt x="179" y="295"/>
                      </a:cubicBezTo>
                      <a:cubicBezTo>
                        <a:pt x="172" y="324"/>
                        <a:pt x="159" y="329"/>
                        <a:pt x="152" y="307"/>
                      </a:cubicBezTo>
                      <a:cubicBezTo>
                        <a:pt x="145" y="285"/>
                        <a:pt x="149" y="212"/>
                        <a:pt x="134" y="163"/>
                      </a:cubicBezTo>
                      <a:cubicBezTo>
                        <a:pt x="119" y="114"/>
                        <a:pt x="82" y="26"/>
                        <a:pt x="65" y="13"/>
                      </a:cubicBezTo>
                      <a:cubicBezTo>
                        <a:pt x="48" y="0"/>
                        <a:pt x="35" y="42"/>
                        <a:pt x="29" y="85"/>
                      </a:cubicBezTo>
                      <a:cubicBezTo>
                        <a:pt x="23" y="128"/>
                        <a:pt x="30" y="229"/>
                        <a:pt x="26" y="271"/>
                      </a:cubicBezTo>
                      <a:cubicBezTo>
                        <a:pt x="22" y="313"/>
                        <a:pt x="4" y="319"/>
                        <a:pt x="2" y="337"/>
                      </a:cubicBezTo>
                      <a:cubicBezTo>
                        <a:pt x="0" y="355"/>
                        <a:pt x="5" y="373"/>
                        <a:pt x="11" y="379"/>
                      </a:cubicBezTo>
                      <a:cubicBezTo>
                        <a:pt x="17" y="385"/>
                        <a:pt x="21" y="381"/>
                        <a:pt x="32" y="379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d5e3c3"/>
                    </a:gs>
                    <a:gs pos="100000">
                      <a:srgbClr val="e5eed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7394400" y="4122720"/>
                  <a:ext cx="600120" cy="2720880"/>
                </a:xfrm>
                <a:custGeom>
                  <a:avLst/>
                  <a:gdLst/>
                  <a:ahLst/>
                  <a:rect l="l" t="t" r="r" b="b"/>
                  <a:pathLst>
                    <a:path w="378" h="1714">
                      <a:moveTo>
                        <a:pt x="0" y="1714"/>
                      </a:moveTo>
                      <a:cubicBezTo>
                        <a:pt x="15" y="1400"/>
                        <a:pt x="10" y="693"/>
                        <a:pt x="15" y="420"/>
                      </a:cubicBezTo>
                      <a:cubicBezTo>
                        <a:pt x="18" y="145"/>
                        <a:pt x="8" y="126"/>
                        <a:pt x="19" y="63"/>
                      </a:cubicBezTo>
                      <a:cubicBezTo>
                        <a:pt x="30" y="0"/>
                        <a:pt x="49" y="46"/>
                        <a:pt x="79" y="39"/>
                      </a:cubicBezTo>
                      <a:cubicBezTo>
                        <a:pt x="109" y="32"/>
                        <a:pt x="157" y="21"/>
                        <a:pt x="202" y="18"/>
                      </a:cubicBezTo>
                      <a:cubicBezTo>
                        <a:pt x="268" y="33"/>
                        <a:pt x="324" y="6"/>
                        <a:pt x="351" y="23"/>
                      </a:cubicBezTo>
                      <a:cubicBezTo>
                        <a:pt x="378" y="40"/>
                        <a:pt x="370" y="51"/>
                        <a:pt x="366" y="120"/>
                      </a:cubicBezTo>
                      <a:cubicBezTo>
                        <a:pt x="367" y="240"/>
                        <a:pt x="362" y="475"/>
                        <a:pt x="359" y="741"/>
                      </a:cubicBezTo>
                      <a:cubicBezTo>
                        <a:pt x="356" y="1007"/>
                        <a:pt x="351" y="1430"/>
                        <a:pt x="351" y="1714"/>
                      </a:cubicBezTo>
                      <a:cubicBezTo>
                        <a:pt x="351" y="1714"/>
                        <a:pt x="0" y="1714"/>
                        <a:pt x="0" y="1714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7593120" y="4200480"/>
                  <a:ext cx="231480" cy="244440"/>
                </a:xfrm>
                <a:custGeom>
                  <a:avLst/>
                  <a:gdLst/>
                  <a:ahLst/>
                  <a:rect l="l" t="t" r="r" b="b"/>
                  <a:pathLst>
                    <a:path w="146" h="154">
                      <a:moveTo>
                        <a:pt x="14" y="11"/>
                      </a:moveTo>
                      <a:cubicBezTo>
                        <a:pt x="28" y="2"/>
                        <a:pt x="71" y="2"/>
                        <a:pt x="92" y="2"/>
                      </a:cubicBezTo>
                      <a:cubicBezTo>
                        <a:pt x="113" y="2"/>
                        <a:pt x="134" y="0"/>
                        <a:pt x="140" y="14"/>
                      </a:cubicBezTo>
                      <a:cubicBezTo>
                        <a:pt x="146" y="28"/>
                        <a:pt x="132" y="67"/>
                        <a:pt x="128" y="89"/>
                      </a:cubicBezTo>
                      <a:cubicBezTo>
                        <a:pt x="124" y="111"/>
                        <a:pt x="125" y="138"/>
                        <a:pt x="116" y="146"/>
                      </a:cubicBezTo>
                      <a:cubicBezTo>
                        <a:pt x="107" y="154"/>
                        <a:pt x="88" y="137"/>
                        <a:pt x="74" y="134"/>
                      </a:cubicBezTo>
                      <a:cubicBezTo>
                        <a:pt x="60" y="131"/>
                        <a:pt x="44" y="141"/>
                        <a:pt x="32" y="128"/>
                      </a:cubicBezTo>
                      <a:cubicBezTo>
                        <a:pt x="20" y="115"/>
                        <a:pt x="8" y="75"/>
                        <a:pt x="5" y="56"/>
                      </a:cubicBezTo>
                      <a:cubicBezTo>
                        <a:pt x="2" y="37"/>
                        <a:pt x="0" y="20"/>
                        <a:pt x="14" y="1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e5eeda"/>
                    </a:gs>
                    <a:gs pos="100000">
                      <a:srgbClr val="d5e3c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" name=""/>
              <p:cNvGrpSpPr/>
              <p:nvPr/>
            </p:nvGrpSpPr>
            <p:grpSpPr>
              <a:xfrm>
                <a:off x="5553000" y="4680"/>
                <a:ext cx="784080" cy="6846480"/>
                <a:chOff x="5553000" y="4680"/>
                <a:chExt cx="784080" cy="6846480"/>
              </a:xfrm>
            </p:grpSpPr>
            <p:sp>
              <p:nvSpPr>
                <p:cNvPr id="42" name=""/>
                <p:cNvSpPr/>
                <p:nvPr/>
              </p:nvSpPr>
              <p:spPr>
                <a:xfrm>
                  <a:off x="5553000" y="15480"/>
                  <a:ext cx="660240" cy="6835680"/>
                </a:xfrm>
                <a:custGeom>
                  <a:avLst/>
                  <a:gdLst/>
                  <a:ahLst/>
                  <a:rect l="l" t="t" r="r" b="b"/>
                  <a:pathLst>
                    <a:path w="416" h="4321">
                      <a:moveTo>
                        <a:pt x="12" y="0"/>
                      </a:moveTo>
                      <a:lnTo>
                        <a:pt x="18" y="406"/>
                      </a:lnTo>
                      <a:lnTo>
                        <a:pt x="3" y="662"/>
                      </a:lnTo>
                      <a:lnTo>
                        <a:pt x="8" y="713"/>
                      </a:lnTo>
                      <a:lnTo>
                        <a:pt x="24" y="740"/>
                      </a:lnTo>
                      <a:lnTo>
                        <a:pt x="42" y="758"/>
                      </a:lnTo>
                      <a:lnTo>
                        <a:pt x="36" y="803"/>
                      </a:lnTo>
                      <a:lnTo>
                        <a:pt x="12" y="824"/>
                      </a:lnTo>
                      <a:lnTo>
                        <a:pt x="0" y="878"/>
                      </a:lnTo>
                      <a:cubicBezTo>
                        <a:pt x="0" y="1224"/>
                        <a:pt x="8" y="2504"/>
                        <a:pt x="9" y="2903"/>
                      </a:cubicBezTo>
                      <a:cubicBezTo>
                        <a:pt x="10" y="3302"/>
                        <a:pt x="8" y="3205"/>
                        <a:pt x="9" y="3276"/>
                      </a:cubicBezTo>
                      <a:lnTo>
                        <a:pt x="16" y="3330"/>
                      </a:lnTo>
                      <a:lnTo>
                        <a:pt x="42" y="3354"/>
                      </a:lnTo>
                      <a:lnTo>
                        <a:pt x="51" y="3390"/>
                      </a:lnTo>
                      <a:lnTo>
                        <a:pt x="39" y="3427"/>
                      </a:lnTo>
                      <a:lnTo>
                        <a:pt x="24" y="3466"/>
                      </a:lnTo>
                      <a:cubicBezTo>
                        <a:pt x="23" y="3615"/>
                        <a:pt x="18" y="4179"/>
                        <a:pt x="31" y="4321"/>
                      </a:cubicBezTo>
                      <a:lnTo>
                        <a:pt x="102" y="4317"/>
                      </a:lnTo>
                      <a:cubicBezTo>
                        <a:pt x="112" y="4185"/>
                        <a:pt x="91" y="3666"/>
                        <a:pt x="93" y="3529"/>
                      </a:cubicBezTo>
                      <a:lnTo>
                        <a:pt x="117" y="3496"/>
                      </a:lnTo>
                      <a:lnTo>
                        <a:pt x="156" y="3493"/>
                      </a:lnTo>
                      <a:cubicBezTo>
                        <a:pt x="186" y="3494"/>
                        <a:pt x="266" y="3501"/>
                        <a:pt x="297" y="3502"/>
                      </a:cubicBezTo>
                      <a:cubicBezTo>
                        <a:pt x="328" y="3503"/>
                        <a:pt x="335" y="3506"/>
                        <a:pt x="345" y="3502"/>
                      </a:cubicBezTo>
                      <a:cubicBezTo>
                        <a:pt x="355" y="3498"/>
                        <a:pt x="362" y="3485"/>
                        <a:pt x="357" y="3478"/>
                      </a:cubicBezTo>
                      <a:cubicBezTo>
                        <a:pt x="352" y="3471"/>
                        <a:pt x="353" y="3465"/>
                        <a:pt x="315" y="3459"/>
                      </a:cubicBezTo>
                      <a:cubicBezTo>
                        <a:pt x="277" y="3453"/>
                        <a:pt x="164" y="3449"/>
                        <a:pt x="128" y="3444"/>
                      </a:cubicBezTo>
                      <a:cubicBezTo>
                        <a:pt x="92" y="3439"/>
                        <a:pt x="100" y="3436"/>
                        <a:pt x="99" y="3430"/>
                      </a:cubicBezTo>
                      <a:cubicBezTo>
                        <a:pt x="98" y="3424"/>
                        <a:pt x="102" y="3413"/>
                        <a:pt x="120" y="3408"/>
                      </a:cubicBezTo>
                      <a:lnTo>
                        <a:pt x="210" y="3399"/>
                      </a:lnTo>
                      <a:cubicBezTo>
                        <a:pt x="246" y="3397"/>
                        <a:pt x="309" y="3401"/>
                        <a:pt x="337" y="3398"/>
                      </a:cubicBezTo>
                      <a:cubicBezTo>
                        <a:pt x="365" y="3395"/>
                        <a:pt x="416" y="3385"/>
                        <a:pt x="381" y="3381"/>
                      </a:cubicBezTo>
                      <a:cubicBezTo>
                        <a:pt x="346" y="3377"/>
                        <a:pt x="177" y="3382"/>
                        <a:pt x="128" y="3375"/>
                      </a:cubicBezTo>
                      <a:lnTo>
                        <a:pt x="87" y="3336"/>
                      </a:lnTo>
                      <a:lnTo>
                        <a:pt x="68" y="3285"/>
                      </a:lnTo>
                      <a:cubicBezTo>
                        <a:pt x="64" y="2983"/>
                        <a:pt x="63" y="1925"/>
                        <a:pt x="63" y="1525"/>
                      </a:cubicBezTo>
                      <a:lnTo>
                        <a:pt x="68" y="885"/>
                      </a:lnTo>
                      <a:lnTo>
                        <a:pt x="84" y="851"/>
                      </a:lnTo>
                      <a:lnTo>
                        <a:pt x="120" y="832"/>
                      </a:lnTo>
                      <a:lnTo>
                        <a:pt x="405" y="825"/>
                      </a:lnTo>
                      <a:lnTo>
                        <a:pt x="405" y="765"/>
                      </a:lnTo>
                      <a:lnTo>
                        <a:pt x="203" y="765"/>
                      </a:lnTo>
                      <a:lnTo>
                        <a:pt x="150" y="752"/>
                      </a:lnTo>
                      <a:lnTo>
                        <a:pt x="105" y="728"/>
                      </a:lnTo>
                      <a:lnTo>
                        <a:pt x="75" y="705"/>
                      </a:lnTo>
                      <a:lnTo>
                        <a:pt x="60" y="645"/>
                      </a:lnTo>
                      <a:lnTo>
                        <a:pt x="81" y="316"/>
                      </a:lnTo>
                      <a:lnTo>
                        <a:pt x="81" y="0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6040080" y="4680"/>
                  <a:ext cx="297000" cy="6838920"/>
                </a:xfrm>
                <a:custGeom>
                  <a:avLst/>
                  <a:gdLst/>
                  <a:ahLst/>
                  <a:rect l="l" t="t" r="r" b="b"/>
                  <a:pathLst>
                    <a:path w="187" h="4323">
                      <a:moveTo>
                        <a:pt x="142" y="0"/>
                      </a:moveTo>
                      <a:lnTo>
                        <a:pt x="157" y="658"/>
                      </a:lnTo>
                      <a:lnTo>
                        <a:pt x="142" y="733"/>
                      </a:lnTo>
                      <a:lnTo>
                        <a:pt x="90" y="763"/>
                      </a:lnTo>
                      <a:lnTo>
                        <a:pt x="53" y="792"/>
                      </a:lnTo>
                      <a:lnTo>
                        <a:pt x="83" y="830"/>
                      </a:lnTo>
                      <a:lnTo>
                        <a:pt x="127" y="837"/>
                      </a:lnTo>
                      <a:lnTo>
                        <a:pt x="157" y="875"/>
                      </a:lnTo>
                      <a:lnTo>
                        <a:pt x="157" y="1152"/>
                      </a:lnTo>
                      <a:lnTo>
                        <a:pt x="135" y="1466"/>
                      </a:lnTo>
                      <a:lnTo>
                        <a:pt x="135" y="2573"/>
                      </a:lnTo>
                      <a:lnTo>
                        <a:pt x="165" y="3037"/>
                      </a:lnTo>
                      <a:lnTo>
                        <a:pt x="180" y="3298"/>
                      </a:lnTo>
                      <a:lnTo>
                        <a:pt x="142" y="3418"/>
                      </a:lnTo>
                      <a:lnTo>
                        <a:pt x="150" y="3463"/>
                      </a:lnTo>
                      <a:lnTo>
                        <a:pt x="172" y="3523"/>
                      </a:lnTo>
                      <a:lnTo>
                        <a:pt x="187" y="3807"/>
                      </a:lnTo>
                      <a:lnTo>
                        <a:pt x="187" y="4323"/>
                      </a:lnTo>
                      <a:lnTo>
                        <a:pt x="120" y="4316"/>
                      </a:lnTo>
                      <a:lnTo>
                        <a:pt x="105" y="3605"/>
                      </a:lnTo>
                      <a:lnTo>
                        <a:pt x="68" y="3463"/>
                      </a:lnTo>
                      <a:lnTo>
                        <a:pt x="83" y="3381"/>
                      </a:lnTo>
                      <a:lnTo>
                        <a:pt x="127" y="3313"/>
                      </a:lnTo>
                      <a:lnTo>
                        <a:pt x="98" y="3081"/>
                      </a:lnTo>
                      <a:lnTo>
                        <a:pt x="83" y="2573"/>
                      </a:lnTo>
                      <a:lnTo>
                        <a:pt x="83" y="1825"/>
                      </a:lnTo>
                      <a:lnTo>
                        <a:pt x="75" y="1264"/>
                      </a:lnTo>
                      <a:lnTo>
                        <a:pt x="83" y="950"/>
                      </a:lnTo>
                      <a:lnTo>
                        <a:pt x="38" y="852"/>
                      </a:lnTo>
                      <a:lnTo>
                        <a:pt x="0" y="807"/>
                      </a:lnTo>
                      <a:lnTo>
                        <a:pt x="75" y="718"/>
                      </a:lnTo>
                      <a:lnTo>
                        <a:pt x="105" y="605"/>
                      </a:lnTo>
                      <a:lnTo>
                        <a:pt x="90" y="119"/>
                      </a:lnTo>
                      <a:lnTo>
                        <a:pt x="75" y="7"/>
                      </a:lnTo>
                      <a:lnTo>
                        <a:pt x="142" y="0"/>
                      </a:ln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4648320" y="1806120"/>
                <a:ext cx="3003120" cy="2403360"/>
                <a:chOff x="4648320" y="1806120"/>
                <a:chExt cx="3003120" cy="2403360"/>
              </a:xfrm>
            </p:grpSpPr>
            <p:sp>
              <p:nvSpPr>
                <p:cNvPr id="45" name=""/>
                <p:cNvSpPr/>
                <p:nvPr/>
              </p:nvSpPr>
              <p:spPr>
                <a:xfrm flipH="1" rot="21429000">
                  <a:off x="4688640" y="2240640"/>
                  <a:ext cx="1156680" cy="166212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20854800">
                  <a:off x="6329160" y="1910880"/>
                  <a:ext cx="1156680" cy="166212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5834520" y="2301120"/>
                  <a:ext cx="776520" cy="1908360"/>
                </a:xfrm>
                <a:custGeom>
                  <a:avLst/>
                  <a:gdLst/>
                  <a:ahLst/>
                  <a:rect l="l" t="t" r="r" b="b"/>
                  <a:pathLst>
                    <a:path w="980" h="2408">
                      <a:moveTo>
                        <a:pt x="253" y="1432"/>
                      </a:moveTo>
                      <a:cubicBezTo>
                        <a:pt x="184" y="1264"/>
                        <a:pt x="122" y="1070"/>
                        <a:pt x="82" y="881"/>
                      </a:cubicBezTo>
                      <a:cubicBezTo>
                        <a:pt x="42" y="692"/>
                        <a:pt x="0" y="433"/>
                        <a:pt x="12" y="296"/>
                      </a:cubicBezTo>
                      <a:cubicBezTo>
                        <a:pt x="24" y="159"/>
                        <a:pt x="84" y="96"/>
                        <a:pt x="156" y="56"/>
                      </a:cubicBezTo>
                      <a:cubicBezTo>
                        <a:pt x="228" y="16"/>
                        <a:pt x="364" y="0"/>
                        <a:pt x="444" y="56"/>
                      </a:cubicBezTo>
                      <a:cubicBezTo>
                        <a:pt x="524" y="112"/>
                        <a:pt x="564" y="216"/>
                        <a:pt x="636" y="392"/>
                      </a:cubicBezTo>
                      <a:cubicBezTo>
                        <a:pt x="708" y="568"/>
                        <a:pt x="820" y="840"/>
                        <a:pt x="876" y="1112"/>
                      </a:cubicBezTo>
                      <a:cubicBezTo>
                        <a:pt x="932" y="1384"/>
                        <a:pt x="964" y="1816"/>
                        <a:pt x="972" y="2024"/>
                      </a:cubicBezTo>
                      <a:cubicBezTo>
                        <a:pt x="980" y="2232"/>
                        <a:pt x="940" y="2312"/>
                        <a:pt x="924" y="2360"/>
                      </a:cubicBezTo>
                      <a:cubicBezTo>
                        <a:pt x="908" y="2408"/>
                        <a:pt x="892" y="2384"/>
                        <a:pt x="876" y="2312"/>
                      </a:cubicBezTo>
                      <a:cubicBezTo>
                        <a:pt x="860" y="2240"/>
                        <a:pt x="860" y="2096"/>
                        <a:pt x="828" y="1928"/>
                      </a:cubicBezTo>
                      <a:cubicBezTo>
                        <a:pt x="796" y="1760"/>
                        <a:pt x="756" y="1544"/>
                        <a:pt x="684" y="1304"/>
                      </a:cubicBezTo>
                      <a:cubicBezTo>
                        <a:pt x="612" y="1064"/>
                        <a:pt x="460" y="648"/>
                        <a:pt x="396" y="488"/>
                      </a:cubicBezTo>
                      <a:cubicBezTo>
                        <a:pt x="332" y="328"/>
                        <a:pt x="316" y="352"/>
                        <a:pt x="300" y="344"/>
                      </a:cubicBezTo>
                      <a:cubicBezTo>
                        <a:pt x="284" y="336"/>
                        <a:pt x="260" y="320"/>
                        <a:pt x="300" y="440"/>
                      </a:cubicBezTo>
                      <a:cubicBezTo>
                        <a:pt x="340" y="560"/>
                        <a:pt x="468" y="840"/>
                        <a:pt x="540" y="1064"/>
                      </a:cubicBezTo>
                      <a:cubicBezTo>
                        <a:pt x="612" y="1288"/>
                        <a:pt x="692" y="1584"/>
                        <a:pt x="732" y="1784"/>
                      </a:cubicBezTo>
                      <a:cubicBezTo>
                        <a:pt x="772" y="1984"/>
                        <a:pt x="780" y="2176"/>
                        <a:pt x="780" y="2264"/>
                      </a:cubicBezTo>
                      <a:cubicBezTo>
                        <a:pt x="780" y="2352"/>
                        <a:pt x="779" y="2375"/>
                        <a:pt x="732" y="2312"/>
                      </a:cubicBezTo>
                      <a:cubicBezTo>
                        <a:pt x="685" y="2249"/>
                        <a:pt x="576" y="2034"/>
                        <a:pt x="496" y="1887"/>
                      </a:cubicBezTo>
                      <a:cubicBezTo>
                        <a:pt x="416" y="1740"/>
                        <a:pt x="304" y="1527"/>
                        <a:pt x="253" y="1432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" name=""/>
              <p:cNvSpPr/>
              <p:nvPr/>
            </p:nvSpPr>
            <p:spPr>
              <a:xfrm flipH="1" rot="21429000">
                <a:off x="7746840" y="1052280"/>
                <a:ext cx="787320" cy="1132200"/>
              </a:xfrm>
              <a:custGeom>
                <a:avLst/>
                <a:gdLst/>
                <a:ahLst/>
                <a:rect l="l" t="t" r="r" b="b"/>
                <a:pathLst>
                  <a:path w="1456" h="2088">
                    <a:moveTo>
                      <a:pt x="184" y="48"/>
                    </a:moveTo>
                    <a:cubicBezTo>
                      <a:pt x="288" y="48"/>
                      <a:pt x="480" y="0"/>
                      <a:pt x="664" y="192"/>
                    </a:cubicBezTo>
                    <a:cubicBezTo>
                      <a:pt x="848" y="384"/>
                      <a:pt x="1160" y="904"/>
                      <a:pt x="1288" y="1200"/>
                    </a:cubicBezTo>
                    <a:cubicBezTo>
                      <a:pt x="1416" y="1496"/>
                      <a:pt x="1416" y="1848"/>
                      <a:pt x="1432" y="1968"/>
                    </a:cubicBezTo>
                    <a:cubicBezTo>
                      <a:pt x="1448" y="2088"/>
                      <a:pt x="1456" y="2048"/>
                      <a:pt x="1384" y="1920"/>
                    </a:cubicBezTo>
                    <a:cubicBezTo>
                      <a:pt x="1312" y="1792"/>
                      <a:pt x="1128" y="1424"/>
                      <a:pt x="1000" y="1200"/>
                    </a:cubicBezTo>
                    <a:cubicBezTo>
                      <a:pt x="872" y="976"/>
                      <a:pt x="736" y="736"/>
                      <a:pt x="616" y="576"/>
                    </a:cubicBezTo>
                    <a:cubicBezTo>
                      <a:pt x="496" y="416"/>
                      <a:pt x="344" y="288"/>
                      <a:pt x="280" y="240"/>
                    </a:cubicBezTo>
                    <a:cubicBezTo>
                      <a:pt x="216" y="192"/>
                      <a:pt x="200" y="240"/>
                      <a:pt x="232" y="288"/>
                    </a:cubicBezTo>
                    <a:cubicBezTo>
                      <a:pt x="264" y="336"/>
                      <a:pt x="384" y="416"/>
                      <a:pt x="472" y="528"/>
                    </a:cubicBezTo>
                    <a:cubicBezTo>
                      <a:pt x="560" y="640"/>
                      <a:pt x="648" y="776"/>
                      <a:pt x="760" y="960"/>
                    </a:cubicBezTo>
                    <a:cubicBezTo>
                      <a:pt x="872" y="1144"/>
                      <a:pt x="1040" y="1456"/>
                      <a:pt x="1144" y="1632"/>
                    </a:cubicBezTo>
                    <a:cubicBezTo>
                      <a:pt x="1248" y="1808"/>
                      <a:pt x="1352" y="1952"/>
                      <a:pt x="1384" y="2016"/>
                    </a:cubicBezTo>
                    <a:cubicBezTo>
                      <a:pt x="1416" y="2080"/>
                      <a:pt x="1384" y="2048"/>
                      <a:pt x="1336" y="2016"/>
                    </a:cubicBezTo>
                    <a:cubicBezTo>
                      <a:pt x="1288" y="1984"/>
                      <a:pt x="1224" y="1944"/>
                      <a:pt x="1096" y="1824"/>
                    </a:cubicBezTo>
                    <a:cubicBezTo>
                      <a:pt x="968" y="1704"/>
                      <a:pt x="736" y="1504"/>
                      <a:pt x="568" y="1296"/>
                    </a:cubicBezTo>
                    <a:cubicBezTo>
                      <a:pt x="400" y="1088"/>
                      <a:pt x="176" y="760"/>
                      <a:pt x="88" y="576"/>
                    </a:cubicBezTo>
                    <a:cubicBezTo>
                      <a:pt x="0" y="392"/>
                      <a:pt x="24" y="280"/>
                      <a:pt x="40" y="192"/>
                    </a:cubicBezTo>
                    <a:cubicBezTo>
                      <a:pt x="56" y="104"/>
                      <a:pt x="80" y="48"/>
                      <a:pt x="184" y="48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793000" y="915840"/>
                <a:ext cx="343080" cy="579600"/>
              </a:xfrm>
              <a:custGeom>
                <a:avLst/>
                <a:gdLst/>
                <a:ahLst/>
                <a:rect l="l" t="t" r="r" b="b"/>
                <a:pathLst>
                  <a:path w="216" h="365">
                    <a:moveTo>
                      <a:pt x="39" y="8"/>
                    </a:moveTo>
                    <a:cubicBezTo>
                      <a:pt x="74" y="1"/>
                      <a:pt x="183" y="0"/>
                      <a:pt x="213" y="23"/>
                    </a:cubicBezTo>
                    <a:lnTo>
                      <a:pt x="216" y="146"/>
                    </a:lnTo>
                    <a:cubicBezTo>
                      <a:pt x="195" y="153"/>
                      <a:pt x="108" y="76"/>
                      <a:pt x="84" y="66"/>
                    </a:cubicBezTo>
                    <a:cubicBezTo>
                      <a:pt x="60" y="56"/>
                      <a:pt x="58" y="72"/>
                      <a:pt x="72" y="85"/>
                    </a:cubicBezTo>
                    <a:cubicBezTo>
                      <a:pt x="86" y="99"/>
                      <a:pt x="146" y="129"/>
                      <a:pt x="169" y="147"/>
                    </a:cubicBezTo>
                    <a:cubicBezTo>
                      <a:pt x="192" y="165"/>
                      <a:pt x="205" y="158"/>
                      <a:pt x="213" y="194"/>
                    </a:cubicBezTo>
                    <a:lnTo>
                      <a:pt x="216" y="365"/>
                    </a:lnTo>
                    <a:cubicBezTo>
                      <a:pt x="188" y="365"/>
                      <a:pt x="81" y="242"/>
                      <a:pt x="45" y="192"/>
                    </a:cubicBezTo>
                    <a:cubicBezTo>
                      <a:pt x="9" y="142"/>
                      <a:pt x="2" y="98"/>
                      <a:pt x="1" y="68"/>
                    </a:cubicBezTo>
                    <a:cubicBezTo>
                      <a:pt x="0" y="37"/>
                      <a:pt x="3" y="16"/>
                      <a:pt x="39" y="8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8526240" y="1093680"/>
                <a:ext cx="530280" cy="1300320"/>
              </a:xfrm>
              <a:custGeom>
                <a:avLst/>
                <a:gdLst/>
                <a:ahLst/>
                <a:rect l="l" t="t" r="r" b="b"/>
                <a:pathLst>
                  <a:path w="980" h="2408">
                    <a:moveTo>
                      <a:pt x="253" y="1432"/>
                    </a:moveTo>
                    <a:cubicBezTo>
                      <a:pt x="184" y="1264"/>
                      <a:pt x="122" y="1070"/>
                      <a:pt x="82" y="881"/>
                    </a:cubicBezTo>
                    <a:cubicBezTo>
                      <a:pt x="42" y="692"/>
                      <a:pt x="0" y="433"/>
                      <a:pt x="12" y="296"/>
                    </a:cubicBezTo>
                    <a:cubicBezTo>
                      <a:pt x="24" y="159"/>
                      <a:pt x="84" y="96"/>
                      <a:pt x="156" y="56"/>
                    </a:cubicBezTo>
                    <a:cubicBezTo>
                      <a:pt x="228" y="16"/>
                      <a:pt x="364" y="0"/>
                      <a:pt x="444" y="56"/>
                    </a:cubicBezTo>
                    <a:cubicBezTo>
                      <a:pt x="524" y="112"/>
                      <a:pt x="564" y="216"/>
                      <a:pt x="636" y="392"/>
                    </a:cubicBezTo>
                    <a:cubicBezTo>
                      <a:pt x="708" y="568"/>
                      <a:pt x="820" y="840"/>
                      <a:pt x="876" y="1112"/>
                    </a:cubicBezTo>
                    <a:cubicBezTo>
                      <a:pt x="932" y="1384"/>
                      <a:pt x="964" y="1816"/>
                      <a:pt x="972" y="2024"/>
                    </a:cubicBezTo>
                    <a:cubicBezTo>
                      <a:pt x="980" y="2232"/>
                      <a:pt x="940" y="2312"/>
                      <a:pt x="924" y="2360"/>
                    </a:cubicBezTo>
                    <a:cubicBezTo>
                      <a:pt x="908" y="2408"/>
                      <a:pt x="892" y="2384"/>
                      <a:pt x="876" y="2312"/>
                    </a:cubicBezTo>
                    <a:cubicBezTo>
                      <a:pt x="860" y="2240"/>
                      <a:pt x="860" y="2096"/>
                      <a:pt x="828" y="1928"/>
                    </a:cubicBezTo>
                    <a:cubicBezTo>
                      <a:pt x="796" y="1760"/>
                      <a:pt x="756" y="1544"/>
                      <a:pt x="684" y="1304"/>
                    </a:cubicBezTo>
                    <a:cubicBezTo>
                      <a:pt x="612" y="1064"/>
                      <a:pt x="460" y="648"/>
                      <a:pt x="396" y="488"/>
                    </a:cubicBezTo>
                    <a:cubicBezTo>
                      <a:pt x="332" y="328"/>
                      <a:pt x="316" y="352"/>
                      <a:pt x="300" y="344"/>
                    </a:cubicBezTo>
                    <a:cubicBezTo>
                      <a:pt x="284" y="336"/>
                      <a:pt x="260" y="320"/>
                      <a:pt x="300" y="440"/>
                    </a:cubicBezTo>
                    <a:cubicBezTo>
                      <a:pt x="340" y="560"/>
                      <a:pt x="468" y="840"/>
                      <a:pt x="540" y="1064"/>
                    </a:cubicBezTo>
                    <a:cubicBezTo>
                      <a:pt x="612" y="1288"/>
                      <a:pt x="692" y="1584"/>
                      <a:pt x="732" y="1784"/>
                    </a:cubicBezTo>
                    <a:cubicBezTo>
                      <a:pt x="772" y="1984"/>
                      <a:pt x="780" y="2176"/>
                      <a:pt x="780" y="2264"/>
                    </a:cubicBezTo>
                    <a:cubicBezTo>
                      <a:pt x="780" y="2352"/>
                      <a:pt x="779" y="2375"/>
                      <a:pt x="732" y="2312"/>
                    </a:cubicBezTo>
                    <a:cubicBezTo>
                      <a:pt x="685" y="2249"/>
                      <a:pt x="576" y="2034"/>
                      <a:pt x="496" y="1887"/>
                    </a:cubicBezTo>
                    <a:cubicBezTo>
                      <a:pt x="416" y="1740"/>
                      <a:pt x="304" y="1527"/>
                      <a:pt x="253" y="1432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grpSp>
            <p:nvGrpSpPr>
              <p:cNvPr id="51" name=""/>
              <p:cNvGrpSpPr/>
              <p:nvPr/>
            </p:nvGrpSpPr>
            <p:grpSpPr>
              <a:xfrm>
                <a:off x="6887520" y="4248000"/>
                <a:ext cx="2044800" cy="1636560"/>
                <a:chOff x="6887520" y="4248000"/>
                <a:chExt cx="2044800" cy="1636560"/>
              </a:xfrm>
            </p:grpSpPr>
            <p:sp>
              <p:nvSpPr>
                <p:cNvPr id="52" name=""/>
                <p:cNvSpPr/>
                <p:nvPr/>
              </p:nvSpPr>
              <p:spPr>
                <a:xfrm flipH="1" rot="21429000">
                  <a:off x="6915240" y="4543920"/>
                  <a:ext cx="787680" cy="113184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 rot="20854800">
                  <a:off x="8031960" y="4319280"/>
                  <a:ext cx="787680" cy="113184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7695000" y="4584960"/>
                  <a:ext cx="528840" cy="1299600"/>
                </a:xfrm>
                <a:custGeom>
                  <a:avLst/>
                  <a:gdLst/>
                  <a:ahLst/>
                  <a:rect l="l" t="t" r="r" b="b"/>
                  <a:pathLst>
                    <a:path w="980" h="2408">
                      <a:moveTo>
                        <a:pt x="253" y="1432"/>
                      </a:moveTo>
                      <a:cubicBezTo>
                        <a:pt x="184" y="1264"/>
                        <a:pt x="122" y="1070"/>
                        <a:pt x="82" y="881"/>
                      </a:cubicBezTo>
                      <a:cubicBezTo>
                        <a:pt x="42" y="692"/>
                        <a:pt x="0" y="433"/>
                        <a:pt x="12" y="296"/>
                      </a:cubicBezTo>
                      <a:cubicBezTo>
                        <a:pt x="24" y="159"/>
                        <a:pt x="84" y="96"/>
                        <a:pt x="156" y="56"/>
                      </a:cubicBezTo>
                      <a:cubicBezTo>
                        <a:pt x="228" y="16"/>
                        <a:pt x="364" y="0"/>
                        <a:pt x="444" y="56"/>
                      </a:cubicBezTo>
                      <a:cubicBezTo>
                        <a:pt x="524" y="112"/>
                        <a:pt x="564" y="216"/>
                        <a:pt x="636" y="392"/>
                      </a:cubicBezTo>
                      <a:cubicBezTo>
                        <a:pt x="708" y="568"/>
                        <a:pt x="820" y="840"/>
                        <a:pt x="876" y="1112"/>
                      </a:cubicBezTo>
                      <a:cubicBezTo>
                        <a:pt x="932" y="1384"/>
                        <a:pt x="964" y="1816"/>
                        <a:pt x="972" y="2024"/>
                      </a:cubicBezTo>
                      <a:cubicBezTo>
                        <a:pt x="980" y="2232"/>
                        <a:pt x="940" y="2312"/>
                        <a:pt x="924" y="2360"/>
                      </a:cubicBezTo>
                      <a:cubicBezTo>
                        <a:pt x="908" y="2408"/>
                        <a:pt x="892" y="2384"/>
                        <a:pt x="876" y="2312"/>
                      </a:cubicBezTo>
                      <a:cubicBezTo>
                        <a:pt x="860" y="2240"/>
                        <a:pt x="860" y="2096"/>
                        <a:pt x="828" y="1928"/>
                      </a:cubicBezTo>
                      <a:cubicBezTo>
                        <a:pt x="796" y="1760"/>
                        <a:pt x="756" y="1544"/>
                        <a:pt x="684" y="1304"/>
                      </a:cubicBezTo>
                      <a:cubicBezTo>
                        <a:pt x="612" y="1064"/>
                        <a:pt x="460" y="648"/>
                        <a:pt x="396" y="488"/>
                      </a:cubicBezTo>
                      <a:cubicBezTo>
                        <a:pt x="332" y="328"/>
                        <a:pt x="316" y="352"/>
                        <a:pt x="300" y="344"/>
                      </a:cubicBezTo>
                      <a:cubicBezTo>
                        <a:pt x="284" y="336"/>
                        <a:pt x="260" y="320"/>
                        <a:pt x="300" y="440"/>
                      </a:cubicBezTo>
                      <a:cubicBezTo>
                        <a:pt x="340" y="560"/>
                        <a:pt x="468" y="840"/>
                        <a:pt x="540" y="1064"/>
                      </a:cubicBezTo>
                      <a:cubicBezTo>
                        <a:pt x="612" y="1288"/>
                        <a:pt x="692" y="1584"/>
                        <a:pt x="732" y="1784"/>
                      </a:cubicBezTo>
                      <a:cubicBezTo>
                        <a:pt x="772" y="1984"/>
                        <a:pt x="780" y="2176"/>
                        <a:pt x="780" y="2264"/>
                      </a:cubicBezTo>
                      <a:cubicBezTo>
                        <a:pt x="780" y="2352"/>
                        <a:pt x="779" y="2375"/>
                        <a:pt x="732" y="2312"/>
                      </a:cubicBezTo>
                      <a:cubicBezTo>
                        <a:pt x="685" y="2249"/>
                        <a:pt x="576" y="2034"/>
                        <a:pt x="496" y="1887"/>
                      </a:cubicBezTo>
                      <a:cubicBezTo>
                        <a:pt x="416" y="1740"/>
                        <a:pt x="304" y="1527"/>
                        <a:pt x="253" y="1432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" name=""/>
              <p:cNvGrpSpPr/>
              <p:nvPr/>
            </p:nvGrpSpPr>
            <p:grpSpPr>
              <a:xfrm>
                <a:off x="2321640" y="5472000"/>
                <a:ext cx="1585080" cy="1267920"/>
                <a:chOff x="2321640" y="5472000"/>
                <a:chExt cx="1585080" cy="1267920"/>
              </a:xfrm>
            </p:grpSpPr>
            <p:sp>
              <p:nvSpPr>
                <p:cNvPr id="56" name=""/>
                <p:cNvSpPr/>
                <p:nvPr/>
              </p:nvSpPr>
              <p:spPr>
                <a:xfrm flipH="1" rot="21429000">
                  <a:off x="2342520" y="5700600"/>
                  <a:ext cx="610560" cy="87696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 rot="20854800">
                  <a:off x="3209040" y="5527440"/>
                  <a:ext cx="610560" cy="87696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2947680" y="5733000"/>
                  <a:ext cx="409680" cy="1006920"/>
                </a:xfrm>
                <a:custGeom>
                  <a:avLst/>
                  <a:gdLst/>
                  <a:ahLst/>
                  <a:rect l="l" t="t" r="r" b="b"/>
                  <a:pathLst>
                    <a:path w="980" h="2408">
                      <a:moveTo>
                        <a:pt x="253" y="1432"/>
                      </a:moveTo>
                      <a:cubicBezTo>
                        <a:pt x="184" y="1264"/>
                        <a:pt x="122" y="1070"/>
                        <a:pt x="82" y="881"/>
                      </a:cubicBezTo>
                      <a:cubicBezTo>
                        <a:pt x="42" y="692"/>
                        <a:pt x="0" y="433"/>
                        <a:pt x="12" y="296"/>
                      </a:cubicBezTo>
                      <a:cubicBezTo>
                        <a:pt x="24" y="159"/>
                        <a:pt x="84" y="96"/>
                        <a:pt x="156" y="56"/>
                      </a:cubicBezTo>
                      <a:cubicBezTo>
                        <a:pt x="228" y="16"/>
                        <a:pt x="364" y="0"/>
                        <a:pt x="444" y="56"/>
                      </a:cubicBezTo>
                      <a:cubicBezTo>
                        <a:pt x="524" y="112"/>
                        <a:pt x="564" y="216"/>
                        <a:pt x="636" y="392"/>
                      </a:cubicBezTo>
                      <a:cubicBezTo>
                        <a:pt x="708" y="568"/>
                        <a:pt x="820" y="840"/>
                        <a:pt x="876" y="1112"/>
                      </a:cubicBezTo>
                      <a:cubicBezTo>
                        <a:pt x="932" y="1384"/>
                        <a:pt x="964" y="1816"/>
                        <a:pt x="972" y="2024"/>
                      </a:cubicBezTo>
                      <a:cubicBezTo>
                        <a:pt x="980" y="2232"/>
                        <a:pt x="940" y="2312"/>
                        <a:pt x="924" y="2360"/>
                      </a:cubicBezTo>
                      <a:cubicBezTo>
                        <a:pt x="908" y="2408"/>
                        <a:pt x="892" y="2384"/>
                        <a:pt x="876" y="2312"/>
                      </a:cubicBezTo>
                      <a:cubicBezTo>
                        <a:pt x="860" y="2240"/>
                        <a:pt x="860" y="2096"/>
                        <a:pt x="828" y="1928"/>
                      </a:cubicBezTo>
                      <a:cubicBezTo>
                        <a:pt x="796" y="1760"/>
                        <a:pt x="756" y="1544"/>
                        <a:pt x="684" y="1304"/>
                      </a:cubicBezTo>
                      <a:cubicBezTo>
                        <a:pt x="612" y="1064"/>
                        <a:pt x="460" y="648"/>
                        <a:pt x="396" y="488"/>
                      </a:cubicBezTo>
                      <a:cubicBezTo>
                        <a:pt x="332" y="328"/>
                        <a:pt x="316" y="352"/>
                        <a:pt x="300" y="344"/>
                      </a:cubicBezTo>
                      <a:cubicBezTo>
                        <a:pt x="284" y="336"/>
                        <a:pt x="260" y="320"/>
                        <a:pt x="300" y="440"/>
                      </a:cubicBezTo>
                      <a:cubicBezTo>
                        <a:pt x="340" y="560"/>
                        <a:pt x="468" y="840"/>
                        <a:pt x="540" y="1064"/>
                      </a:cubicBezTo>
                      <a:cubicBezTo>
                        <a:pt x="612" y="1288"/>
                        <a:pt x="692" y="1584"/>
                        <a:pt x="732" y="1784"/>
                      </a:cubicBezTo>
                      <a:cubicBezTo>
                        <a:pt x="772" y="1984"/>
                        <a:pt x="780" y="2176"/>
                        <a:pt x="780" y="2264"/>
                      </a:cubicBezTo>
                      <a:cubicBezTo>
                        <a:pt x="780" y="2352"/>
                        <a:pt x="779" y="2375"/>
                        <a:pt x="732" y="2312"/>
                      </a:cubicBezTo>
                      <a:cubicBezTo>
                        <a:pt x="685" y="2249"/>
                        <a:pt x="576" y="2034"/>
                        <a:pt x="496" y="1887"/>
                      </a:cubicBezTo>
                      <a:cubicBezTo>
                        <a:pt x="416" y="1740"/>
                        <a:pt x="304" y="1527"/>
                        <a:pt x="253" y="1432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" name=""/>
              <p:cNvSpPr/>
              <p:nvPr/>
            </p:nvSpPr>
            <p:spPr>
              <a:xfrm rot="20854800">
                <a:off x="1295280" y="4991040"/>
                <a:ext cx="836640" cy="1200240"/>
              </a:xfrm>
              <a:custGeom>
                <a:avLst/>
                <a:gdLst/>
                <a:ahLst/>
                <a:rect l="l" t="t" r="r" b="b"/>
                <a:pathLst>
                  <a:path w="1456" h="2088">
                    <a:moveTo>
                      <a:pt x="184" y="48"/>
                    </a:moveTo>
                    <a:cubicBezTo>
                      <a:pt x="288" y="48"/>
                      <a:pt x="480" y="0"/>
                      <a:pt x="664" y="192"/>
                    </a:cubicBezTo>
                    <a:cubicBezTo>
                      <a:pt x="848" y="384"/>
                      <a:pt x="1160" y="904"/>
                      <a:pt x="1288" y="1200"/>
                    </a:cubicBezTo>
                    <a:cubicBezTo>
                      <a:pt x="1416" y="1496"/>
                      <a:pt x="1416" y="1848"/>
                      <a:pt x="1432" y="1968"/>
                    </a:cubicBezTo>
                    <a:cubicBezTo>
                      <a:pt x="1448" y="2088"/>
                      <a:pt x="1456" y="2048"/>
                      <a:pt x="1384" y="1920"/>
                    </a:cubicBezTo>
                    <a:cubicBezTo>
                      <a:pt x="1312" y="1792"/>
                      <a:pt x="1128" y="1424"/>
                      <a:pt x="1000" y="1200"/>
                    </a:cubicBezTo>
                    <a:cubicBezTo>
                      <a:pt x="872" y="976"/>
                      <a:pt x="736" y="736"/>
                      <a:pt x="616" y="576"/>
                    </a:cubicBezTo>
                    <a:cubicBezTo>
                      <a:pt x="496" y="416"/>
                      <a:pt x="344" y="288"/>
                      <a:pt x="280" y="240"/>
                    </a:cubicBezTo>
                    <a:cubicBezTo>
                      <a:pt x="216" y="192"/>
                      <a:pt x="200" y="240"/>
                      <a:pt x="232" y="288"/>
                    </a:cubicBezTo>
                    <a:cubicBezTo>
                      <a:pt x="264" y="336"/>
                      <a:pt x="384" y="416"/>
                      <a:pt x="472" y="528"/>
                    </a:cubicBezTo>
                    <a:cubicBezTo>
                      <a:pt x="560" y="640"/>
                      <a:pt x="648" y="776"/>
                      <a:pt x="760" y="960"/>
                    </a:cubicBezTo>
                    <a:cubicBezTo>
                      <a:pt x="872" y="1144"/>
                      <a:pt x="1040" y="1456"/>
                      <a:pt x="1144" y="1632"/>
                    </a:cubicBezTo>
                    <a:cubicBezTo>
                      <a:pt x="1248" y="1808"/>
                      <a:pt x="1352" y="1952"/>
                      <a:pt x="1384" y="2016"/>
                    </a:cubicBezTo>
                    <a:cubicBezTo>
                      <a:pt x="1416" y="2080"/>
                      <a:pt x="1384" y="2048"/>
                      <a:pt x="1336" y="2016"/>
                    </a:cubicBezTo>
                    <a:cubicBezTo>
                      <a:pt x="1288" y="1984"/>
                      <a:pt x="1224" y="1944"/>
                      <a:pt x="1096" y="1824"/>
                    </a:cubicBezTo>
                    <a:cubicBezTo>
                      <a:pt x="968" y="1704"/>
                      <a:pt x="736" y="1504"/>
                      <a:pt x="568" y="1296"/>
                    </a:cubicBezTo>
                    <a:cubicBezTo>
                      <a:pt x="400" y="1088"/>
                      <a:pt x="176" y="760"/>
                      <a:pt x="88" y="576"/>
                    </a:cubicBezTo>
                    <a:cubicBezTo>
                      <a:pt x="0" y="392"/>
                      <a:pt x="24" y="280"/>
                      <a:pt x="40" y="192"/>
                    </a:cubicBezTo>
                    <a:cubicBezTo>
                      <a:pt x="56" y="104"/>
                      <a:pt x="80" y="48"/>
                      <a:pt x="184" y="48"/>
                    </a:cubicBezTo>
                    <a:close/>
                  </a:path>
                </a:pathLst>
              </a:cu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955440" y="5325840"/>
                <a:ext cx="560520" cy="1378080"/>
              </a:xfrm>
              <a:custGeom>
                <a:avLst/>
                <a:gdLst/>
                <a:ahLst/>
                <a:rect l="l" t="t" r="r" b="b"/>
                <a:pathLst>
                  <a:path w="980" h="2408">
                    <a:moveTo>
                      <a:pt x="253" y="1432"/>
                    </a:moveTo>
                    <a:cubicBezTo>
                      <a:pt x="184" y="1264"/>
                      <a:pt x="122" y="1070"/>
                      <a:pt x="82" y="881"/>
                    </a:cubicBezTo>
                    <a:cubicBezTo>
                      <a:pt x="42" y="692"/>
                      <a:pt x="0" y="433"/>
                      <a:pt x="12" y="296"/>
                    </a:cubicBezTo>
                    <a:cubicBezTo>
                      <a:pt x="24" y="159"/>
                      <a:pt x="84" y="96"/>
                      <a:pt x="156" y="56"/>
                    </a:cubicBezTo>
                    <a:cubicBezTo>
                      <a:pt x="228" y="16"/>
                      <a:pt x="364" y="0"/>
                      <a:pt x="444" y="56"/>
                    </a:cubicBezTo>
                    <a:cubicBezTo>
                      <a:pt x="524" y="112"/>
                      <a:pt x="564" y="216"/>
                      <a:pt x="636" y="392"/>
                    </a:cubicBezTo>
                    <a:cubicBezTo>
                      <a:pt x="708" y="568"/>
                      <a:pt x="820" y="840"/>
                      <a:pt x="876" y="1112"/>
                    </a:cubicBezTo>
                    <a:cubicBezTo>
                      <a:pt x="932" y="1384"/>
                      <a:pt x="964" y="1816"/>
                      <a:pt x="972" y="2024"/>
                    </a:cubicBezTo>
                    <a:cubicBezTo>
                      <a:pt x="980" y="2232"/>
                      <a:pt x="940" y="2312"/>
                      <a:pt x="924" y="2360"/>
                    </a:cubicBezTo>
                    <a:cubicBezTo>
                      <a:pt x="908" y="2408"/>
                      <a:pt x="892" y="2384"/>
                      <a:pt x="876" y="2312"/>
                    </a:cubicBezTo>
                    <a:cubicBezTo>
                      <a:pt x="860" y="2240"/>
                      <a:pt x="860" y="2096"/>
                      <a:pt x="828" y="1928"/>
                    </a:cubicBezTo>
                    <a:cubicBezTo>
                      <a:pt x="796" y="1760"/>
                      <a:pt x="756" y="1544"/>
                      <a:pt x="684" y="1304"/>
                    </a:cubicBezTo>
                    <a:cubicBezTo>
                      <a:pt x="612" y="1064"/>
                      <a:pt x="460" y="648"/>
                      <a:pt x="396" y="488"/>
                    </a:cubicBezTo>
                    <a:cubicBezTo>
                      <a:pt x="332" y="328"/>
                      <a:pt x="316" y="352"/>
                      <a:pt x="300" y="344"/>
                    </a:cubicBezTo>
                    <a:cubicBezTo>
                      <a:pt x="284" y="336"/>
                      <a:pt x="260" y="320"/>
                      <a:pt x="300" y="440"/>
                    </a:cubicBezTo>
                    <a:cubicBezTo>
                      <a:pt x="340" y="560"/>
                      <a:pt x="468" y="840"/>
                      <a:pt x="540" y="1064"/>
                    </a:cubicBezTo>
                    <a:cubicBezTo>
                      <a:pt x="612" y="1288"/>
                      <a:pt x="692" y="1584"/>
                      <a:pt x="732" y="1784"/>
                    </a:cubicBezTo>
                    <a:cubicBezTo>
                      <a:pt x="772" y="1984"/>
                      <a:pt x="780" y="2176"/>
                      <a:pt x="780" y="2264"/>
                    </a:cubicBezTo>
                    <a:cubicBezTo>
                      <a:pt x="780" y="2352"/>
                      <a:pt x="779" y="2375"/>
                      <a:pt x="732" y="2312"/>
                    </a:cubicBezTo>
                    <a:cubicBezTo>
                      <a:pt x="685" y="2249"/>
                      <a:pt x="576" y="2034"/>
                      <a:pt x="496" y="1887"/>
                    </a:cubicBezTo>
                    <a:cubicBezTo>
                      <a:pt x="416" y="1740"/>
                      <a:pt x="304" y="1527"/>
                      <a:pt x="253" y="1432"/>
                    </a:cubicBezTo>
                    <a:close/>
                  </a:path>
                </a:pathLst>
              </a:cu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141200" y="4684680"/>
                <a:ext cx="1157400" cy="393480"/>
              </a:xfrm>
              <a:custGeom>
                <a:avLst/>
                <a:gdLst/>
                <a:ahLst/>
                <a:rect l="l" t="t" r="r" b="b"/>
                <a:pathLst>
                  <a:path w="2020" h="688">
                    <a:moveTo>
                      <a:pt x="96" y="464"/>
                    </a:moveTo>
                    <a:cubicBezTo>
                      <a:pt x="0" y="416"/>
                      <a:pt x="48" y="408"/>
                      <a:pt x="48" y="368"/>
                    </a:cubicBezTo>
                    <a:cubicBezTo>
                      <a:pt x="48" y="328"/>
                      <a:pt x="40" y="280"/>
                      <a:pt x="96" y="224"/>
                    </a:cubicBezTo>
                    <a:cubicBezTo>
                      <a:pt x="152" y="168"/>
                      <a:pt x="240" y="64"/>
                      <a:pt x="384" y="32"/>
                    </a:cubicBezTo>
                    <a:cubicBezTo>
                      <a:pt x="528" y="0"/>
                      <a:pt x="760" y="0"/>
                      <a:pt x="960" y="32"/>
                    </a:cubicBezTo>
                    <a:cubicBezTo>
                      <a:pt x="1160" y="64"/>
                      <a:pt x="1424" y="160"/>
                      <a:pt x="1584" y="224"/>
                    </a:cubicBezTo>
                    <a:cubicBezTo>
                      <a:pt x="1744" y="288"/>
                      <a:pt x="1850" y="363"/>
                      <a:pt x="1920" y="416"/>
                    </a:cubicBezTo>
                    <a:cubicBezTo>
                      <a:pt x="1990" y="469"/>
                      <a:pt x="2020" y="520"/>
                      <a:pt x="2004" y="544"/>
                    </a:cubicBezTo>
                    <a:cubicBezTo>
                      <a:pt x="1988" y="568"/>
                      <a:pt x="1910" y="573"/>
                      <a:pt x="1824" y="560"/>
                    </a:cubicBezTo>
                    <a:cubicBezTo>
                      <a:pt x="1738" y="547"/>
                      <a:pt x="1632" y="504"/>
                      <a:pt x="1488" y="464"/>
                    </a:cubicBezTo>
                    <a:cubicBezTo>
                      <a:pt x="1344" y="424"/>
                      <a:pt x="1128" y="344"/>
                      <a:pt x="960" y="320"/>
                    </a:cubicBezTo>
                    <a:cubicBezTo>
                      <a:pt x="792" y="296"/>
                      <a:pt x="584" y="312"/>
                      <a:pt x="480" y="320"/>
                    </a:cubicBezTo>
                    <a:cubicBezTo>
                      <a:pt x="376" y="328"/>
                      <a:pt x="360" y="352"/>
                      <a:pt x="336" y="368"/>
                    </a:cubicBezTo>
                    <a:cubicBezTo>
                      <a:pt x="312" y="384"/>
                      <a:pt x="304" y="416"/>
                      <a:pt x="336" y="416"/>
                    </a:cubicBezTo>
                    <a:cubicBezTo>
                      <a:pt x="368" y="416"/>
                      <a:pt x="424" y="376"/>
                      <a:pt x="528" y="368"/>
                    </a:cubicBezTo>
                    <a:cubicBezTo>
                      <a:pt x="632" y="360"/>
                      <a:pt x="784" y="336"/>
                      <a:pt x="960" y="368"/>
                    </a:cubicBezTo>
                    <a:cubicBezTo>
                      <a:pt x="1136" y="400"/>
                      <a:pt x="1472" y="520"/>
                      <a:pt x="1584" y="560"/>
                    </a:cubicBezTo>
                    <a:cubicBezTo>
                      <a:pt x="1696" y="600"/>
                      <a:pt x="1664" y="592"/>
                      <a:pt x="1632" y="608"/>
                    </a:cubicBezTo>
                    <a:cubicBezTo>
                      <a:pt x="1600" y="624"/>
                      <a:pt x="1560" y="648"/>
                      <a:pt x="1392" y="656"/>
                    </a:cubicBezTo>
                    <a:cubicBezTo>
                      <a:pt x="1224" y="664"/>
                      <a:pt x="840" y="688"/>
                      <a:pt x="624" y="656"/>
                    </a:cubicBezTo>
                    <a:cubicBezTo>
                      <a:pt x="408" y="624"/>
                      <a:pt x="192" y="512"/>
                      <a:pt x="96" y="464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-3240" y="5208480"/>
                <a:ext cx="852480" cy="982800"/>
              </a:xfrm>
              <a:custGeom>
                <a:avLst/>
                <a:gdLst/>
                <a:ahLst/>
                <a:rect l="l" t="t" r="r" b="b"/>
                <a:pathLst>
                  <a:path w="537" h="619">
                    <a:moveTo>
                      <a:pt x="497" y="43"/>
                    </a:moveTo>
                    <a:cubicBezTo>
                      <a:pt x="459" y="35"/>
                      <a:pt x="398" y="0"/>
                      <a:pt x="315" y="58"/>
                    </a:cubicBezTo>
                    <a:cubicBezTo>
                      <a:pt x="232" y="116"/>
                      <a:pt x="52" y="311"/>
                      <a:pt x="0" y="388"/>
                    </a:cubicBezTo>
                    <a:lnTo>
                      <a:pt x="3" y="520"/>
                    </a:lnTo>
                    <a:cubicBezTo>
                      <a:pt x="23" y="520"/>
                      <a:pt x="69" y="441"/>
                      <a:pt x="119" y="387"/>
                    </a:cubicBezTo>
                    <a:cubicBezTo>
                      <a:pt x="169" y="333"/>
                      <a:pt x="248" y="243"/>
                      <a:pt x="302" y="197"/>
                    </a:cubicBezTo>
                    <a:cubicBezTo>
                      <a:pt x="357" y="150"/>
                      <a:pt x="421" y="116"/>
                      <a:pt x="447" y="104"/>
                    </a:cubicBezTo>
                    <a:cubicBezTo>
                      <a:pt x="473" y="92"/>
                      <a:pt x="476" y="110"/>
                      <a:pt x="460" y="124"/>
                    </a:cubicBezTo>
                    <a:cubicBezTo>
                      <a:pt x="446" y="140"/>
                      <a:pt x="396" y="158"/>
                      <a:pt x="357" y="191"/>
                    </a:cubicBezTo>
                    <a:cubicBezTo>
                      <a:pt x="317" y="224"/>
                      <a:pt x="280" y="260"/>
                      <a:pt x="221" y="322"/>
                    </a:cubicBezTo>
                    <a:cubicBezTo>
                      <a:pt x="162" y="384"/>
                      <a:pt x="37" y="513"/>
                      <a:pt x="0" y="562"/>
                    </a:cubicBezTo>
                    <a:lnTo>
                      <a:pt x="0" y="619"/>
                    </a:lnTo>
                    <a:cubicBezTo>
                      <a:pt x="44" y="601"/>
                      <a:pt x="183" y="518"/>
                      <a:pt x="264" y="455"/>
                    </a:cubicBezTo>
                    <a:cubicBezTo>
                      <a:pt x="345" y="392"/>
                      <a:pt x="443" y="296"/>
                      <a:pt x="488" y="238"/>
                    </a:cubicBezTo>
                    <a:cubicBezTo>
                      <a:pt x="534" y="180"/>
                      <a:pt x="534" y="138"/>
                      <a:pt x="536" y="106"/>
                    </a:cubicBezTo>
                    <a:cubicBezTo>
                      <a:pt x="537" y="74"/>
                      <a:pt x="533" y="51"/>
                      <a:pt x="497" y="43"/>
                    </a:cubicBezTo>
                    <a:close/>
                  </a:path>
                </a:pathLst>
              </a:cu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-3240" y="4867200"/>
                <a:ext cx="803160" cy="384120"/>
              </a:xfrm>
              <a:custGeom>
                <a:avLst/>
                <a:gdLst/>
                <a:ahLst/>
                <a:rect l="l" t="t" r="r" b="b"/>
                <a:pathLst>
                  <a:path w="506" h="242">
                    <a:moveTo>
                      <a:pt x="469" y="200"/>
                    </a:moveTo>
                    <a:cubicBezTo>
                      <a:pt x="506" y="188"/>
                      <a:pt x="490" y="182"/>
                      <a:pt x="492" y="168"/>
                    </a:cubicBezTo>
                    <a:cubicBezTo>
                      <a:pt x="494" y="155"/>
                      <a:pt x="499" y="138"/>
                      <a:pt x="481" y="114"/>
                    </a:cubicBezTo>
                    <a:cubicBezTo>
                      <a:pt x="465" y="92"/>
                      <a:pt x="438" y="50"/>
                      <a:pt x="389" y="31"/>
                    </a:cubicBezTo>
                    <a:cubicBezTo>
                      <a:pt x="339" y="12"/>
                      <a:pt x="248" y="2"/>
                      <a:pt x="184" y="1"/>
                    </a:cubicBezTo>
                    <a:cubicBezTo>
                      <a:pt x="120" y="0"/>
                      <a:pt x="34" y="5"/>
                      <a:pt x="3" y="24"/>
                    </a:cubicBezTo>
                    <a:lnTo>
                      <a:pt x="0" y="114"/>
                    </a:lnTo>
                    <a:cubicBezTo>
                      <a:pt x="28" y="127"/>
                      <a:pt x="112" y="101"/>
                      <a:pt x="169" y="103"/>
                    </a:cubicBezTo>
                    <a:cubicBezTo>
                      <a:pt x="226" y="105"/>
                      <a:pt x="303" y="120"/>
                      <a:pt x="340" y="129"/>
                    </a:cubicBezTo>
                    <a:cubicBezTo>
                      <a:pt x="376" y="137"/>
                      <a:pt x="381" y="146"/>
                      <a:pt x="389" y="153"/>
                    </a:cubicBezTo>
                    <a:cubicBezTo>
                      <a:pt x="396" y="160"/>
                      <a:pt x="397" y="172"/>
                      <a:pt x="386" y="170"/>
                    </a:cubicBezTo>
                    <a:cubicBezTo>
                      <a:pt x="374" y="168"/>
                      <a:pt x="357" y="151"/>
                      <a:pt x="319" y="143"/>
                    </a:cubicBezTo>
                    <a:cubicBezTo>
                      <a:pt x="283" y="135"/>
                      <a:pt x="219" y="120"/>
                      <a:pt x="166" y="120"/>
                    </a:cubicBezTo>
                    <a:cubicBezTo>
                      <a:pt x="113" y="120"/>
                      <a:pt x="30" y="130"/>
                      <a:pt x="3" y="144"/>
                    </a:cubicBezTo>
                    <a:lnTo>
                      <a:pt x="6" y="204"/>
                    </a:lnTo>
                    <a:cubicBezTo>
                      <a:pt x="51" y="220"/>
                      <a:pt x="194" y="242"/>
                      <a:pt x="271" y="241"/>
                    </a:cubicBezTo>
                    <a:cubicBezTo>
                      <a:pt x="348" y="240"/>
                      <a:pt x="433" y="212"/>
                      <a:pt x="469" y="200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854800">
                <a:off x="1284120" y="39600"/>
                <a:ext cx="836640" cy="1200240"/>
              </a:xfrm>
              <a:custGeom>
                <a:avLst/>
                <a:gdLst/>
                <a:ahLst/>
                <a:rect l="l" t="t" r="r" b="b"/>
                <a:pathLst>
                  <a:path w="1456" h="2088">
                    <a:moveTo>
                      <a:pt x="184" y="48"/>
                    </a:moveTo>
                    <a:cubicBezTo>
                      <a:pt x="288" y="48"/>
                      <a:pt x="480" y="0"/>
                      <a:pt x="664" y="192"/>
                    </a:cubicBezTo>
                    <a:cubicBezTo>
                      <a:pt x="848" y="384"/>
                      <a:pt x="1160" y="904"/>
                      <a:pt x="1288" y="1200"/>
                    </a:cubicBezTo>
                    <a:cubicBezTo>
                      <a:pt x="1416" y="1496"/>
                      <a:pt x="1416" y="1848"/>
                      <a:pt x="1432" y="1968"/>
                    </a:cubicBezTo>
                    <a:cubicBezTo>
                      <a:pt x="1448" y="2088"/>
                      <a:pt x="1456" y="2048"/>
                      <a:pt x="1384" y="1920"/>
                    </a:cubicBezTo>
                    <a:cubicBezTo>
                      <a:pt x="1312" y="1792"/>
                      <a:pt x="1128" y="1424"/>
                      <a:pt x="1000" y="1200"/>
                    </a:cubicBezTo>
                    <a:cubicBezTo>
                      <a:pt x="872" y="976"/>
                      <a:pt x="736" y="736"/>
                      <a:pt x="616" y="576"/>
                    </a:cubicBezTo>
                    <a:cubicBezTo>
                      <a:pt x="496" y="416"/>
                      <a:pt x="344" y="288"/>
                      <a:pt x="280" y="240"/>
                    </a:cubicBezTo>
                    <a:cubicBezTo>
                      <a:pt x="216" y="192"/>
                      <a:pt x="200" y="240"/>
                      <a:pt x="232" y="288"/>
                    </a:cubicBezTo>
                    <a:cubicBezTo>
                      <a:pt x="264" y="336"/>
                      <a:pt x="384" y="416"/>
                      <a:pt x="472" y="528"/>
                    </a:cubicBezTo>
                    <a:cubicBezTo>
                      <a:pt x="560" y="640"/>
                      <a:pt x="648" y="776"/>
                      <a:pt x="760" y="960"/>
                    </a:cubicBezTo>
                    <a:cubicBezTo>
                      <a:pt x="872" y="1144"/>
                      <a:pt x="1040" y="1456"/>
                      <a:pt x="1144" y="1632"/>
                    </a:cubicBezTo>
                    <a:cubicBezTo>
                      <a:pt x="1248" y="1808"/>
                      <a:pt x="1352" y="1952"/>
                      <a:pt x="1384" y="2016"/>
                    </a:cubicBezTo>
                    <a:cubicBezTo>
                      <a:pt x="1416" y="2080"/>
                      <a:pt x="1384" y="2048"/>
                      <a:pt x="1336" y="2016"/>
                    </a:cubicBezTo>
                    <a:cubicBezTo>
                      <a:pt x="1288" y="1984"/>
                      <a:pt x="1224" y="1944"/>
                      <a:pt x="1096" y="1824"/>
                    </a:cubicBezTo>
                    <a:cubicBezTo>
                      <a:pt x="968" y="1704"/>
                      <a:pt x="736" y="1504"/>
                      <a:pt x="568" y="1296"/>
                    </a:cubicBezTo>
                    <a:cubicBezTo>
                      <a:pt x="400" y="1088"/>
                      <a:pt x="176" y="760"/>
                      <a:pt x="88" y="576"/>
                    </a:cubicBezTo>
                    <a:cubicBezTo>
                      <a:pt x="0" y="392"/>
                      <a:pt x="24" y="280"/>
                      <a:pt x="40" y="192"/>
                    </a:cubicBezTo>
                    <a:cubicBezTo>
                      <a:pt x="56" y="104"/>
                      <a:pt x="80" y="48"/>
                      <a:pt x="184" y="48"/>
                    </a:cubicBezTo>
                    <a:close/>
                  </a:path>
                </a:pathLst>
              </a:cu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944640" y="374400"/>
                <a:ext cx="560160" cy="1378080"/>
              </a:xfrm>
              <a:custGeom>
                <a:avLst/>
                <a:gdLst/>
                <a:ahLst/>
                <a:rect l="l" t="t" r="r" b="b"/>
                <a:pathLst>
                  <a:path w="980" h="2408">
                    <a:moveTo>
                      <a:pt x="253" y="1432"/>
                    </a:moveTo>
                    <a:cubicBezTo>
                      <a:pt x="184" y="1264"/>
                      <a:pt x="122" y="1070"/>
                      <a:pt x="82" y="881"/>
                    </a:cubicBezTo>
                    <a:cubicBezTo>
                      <a:pt x="42" y="692"/>
                      <a:pt x="0" y="433"/>
                      <a:pt x="12" y="296"/>
                    </a:cubicBezTo>
                    <a:cubicBezTo>
                      <a:pt x="24" y="159"/>
                      <a:pt x="84" y="96"/>
                      <a:pt x="156" y="56"/>
                    </a:cubicBezTo>
                    <a:cubicBezTo>
                      <a:pt x="228" y="16"/>
                      <a:pt x="364" y="0"/>
                      <a:pt x="444" y="56"/>
                    </a:cubicBezTo>
                    <a:cubicBezTo>
                      <a:pt x="524" y="112"/>
                      <a:pt x="564" y="216"/>
                      <a:pt x="636" y="392"/>
                    </a:cubicBezTo>
                    <a:cubicBezTo>
                      <a:pt x="708" y="568"/>
                      <a:pt x="820" y="840"/>
                      <a:pt x="876" y="1112"/>
                    </a:cubicBezTo>
                    <a:cubicBezTo>
                      <a:pt x="932" y="1384"/>
                      <a:pt x="964" y="1816"/>
                      <a:pt x="972" y="2024"/>
                    </a:cubicBezTo>
                    <a:cubicBezTo>
                      <a:pt x="980" y="2232"/>
                      <a:pt x="940" y="2312"/>
                      <a:pt x="924" y="2360"/>
                    </a:cubicBezTo>
                    <a:cubicBezTo>
                      <a:pt x="908" y="2408"/>
                      <a:pt x="892" y="2384"/>
                      <a:pt x="876" y="2312"/>
                    </a:cubicBezTo>
                    <a:cubicBezTo>
                      <a:pt x="860" y="2240"/>
                      <a:pt x="860" y="2096"/>
                      <a:pt x="828" y="1928"/>
                    </a:cubicBezTo>
                    <a:cubicBezTo>
                      <a:pt x="796" y="1760"/>
                      <a:pt x="756" y="1544"/>
                      <a:pt x="684" y="1304"/>
                    </a:cubicBezTo>
                    <a:cubicBezTo>
                      <a:pt x="612" y="1064"/>
                      <a:pt x="460" y="648"/>
                      <a:pt x="396" y="488"/>
                    </a:cubicBezTo>
                    <a:cubicBezTo>
                      <a:pt x="332" y="328"/>
                      <a:pt x="316" y="352"/>
                      <a:pt x="300" y="344"/>
                    </a:cubicBezTo>
                    <a:cubicBezTo>
                      <a:pt x="284" y="336"/>
                      <a:pt x="260" y="320"/>
                      <a:pt x="300" y="440"/>
                    </a:cubicBezTo>
                    <a:cubicBezTo>
                      <a:pt x="340" y="560"/>
                      <a:pt x="468" y="840"/>
                      <a:pt x="540" y="1064"/>
                    </a:cubicBezTo>
                    <a:cubicBezTo>
                      <a:pt x="612" y="1288"/>
                      <a:pt x="692" y="1584"/>
                      <a:pt x="732" y="1784"/>
                    </a:cubicBezTo>
                    <a:cubicBezTo>
                      <a:pt x="772" y="1984"/>
                      <a:pt x="780" y="2176"/>
                      <a:pt x="780" y="2264"/>
                    </a:cubicBezTo>
                    <a:cubicBezTo>
                      <a:pt x="780" y="2352"/>
                      <a:pt x="779" y="2375"/>
                      <a:pt x="732" y="2312"/>
                    </a:cubicBezTo>
                    <a:cubicBezTo>
                      <a:pt x="685" y="2249"/>
                      <a:pt x="576" y="2034"/>
                      <a:pt x="496" y="1887"/>
                    </a:cubicBezTo>
                    <a:cubicBezTo>
                      <a:pt x="416" y="1740"/>
                      <a:pt x="304" y="1527"/>
                      <a:pt x="253" y="1432"/>
                    </a:cubicBezTo>
                    <a:close/>
                  </a:path>
                </a:pathLst>
              </a:cu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055520" y="4680"/>
                <a:ext cx="1397160" cy="120600"/>
              </a:xfrm>
              <a:custGeom>
                <a:avLst/>
                <a:gdLst/>
                <a:ahLst/>
                <a:rect l="l" t="t" r="r" b="b"/>
                <a:pathLst>
                  <a:path w="880" h="76">
                    <a:moveTo>
                      <a:pt x="83" y="0"/>
                    </a:moveTo>
                    <a:lnTo>
                      <a:pt x="776" y="0"/>
                    </a:lnTo>
                    <a:cubicBezTo>
                      <a:pt x="880" y="5"/>
                      <a:pt x="731" y="26"/>
                      <a:pt x="705" y="31"/>
                    </a:cubicBezTo>
                    <a:cubicBezTo>
                      <a:pt x="679" y="36"/>
                      <a:pt x="630" y="28"/>
                      <a:pt x="619" y="31"/>
                    </a:cubicBezTo>
                    <a:cubicBezTo>
                      <a:pt x="608" y="34"/>
                      <a:pt x="648" y="42"/>
                      <a:pt x="636" y="48"/>
                    </a:cubicBezTo>
                    <a:cubicBezTo>
                      <a:pt x="624" y="54"/>
                      <a:pt x="610" y="63"/>
                      <a:pt x="549" y="65"/>
                    </a:cubicBezTo>
                    <a:cubicBezTo>
                      <a:pt x="489" y="68"/>
                      <a:pt x="350" y="76"/>
                      <a:pt x="272" y="65"/>
                    </a:cubicBezTo>
                    <a:cubicBezTo>
                      <a:pt x="194" y="54"/>
                      <a:pt x="0" y="7"/>
                      <a:pt x="83" y="0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-25560" y="260280"/>
                <a:ext cx="863640" cy="1006560"/>
              </a:xfrm>
              <a:custGeom>
                <a:avLst/>
                <a:gdLst/>
                <a:ahLst/>
                <a:rect l="l" t="t" r="r" b="b"/>
                <a:pathLst>
                  <a:path w="544" h="634">
                    <a:moveTo>
                      <a:pt x="504" y="41"/>
                    </a:moveTo>
                    <a:cubicBezTo>
                      <a:pt x="466" y="33"/>
                      <a:pt x="403" y="0"/>
                      <a:pt x="322" y="56"/>
                    </a:cubicBezTo>
                    <a:cubicBezTo>
                      <a:pt x="241" y="112"/>
                      <a:pt x="68" y="302"/>
                      <a:pt x="17" y="379"/>
                    </a:cubicBezTo>
                    <a:lnTo>
                      <a:pt x="14" y="520"/>
                    </a:lnTo>
                    <a:cubicBezTo>
                      <a:pt x="32" y="521"/>
                      <a:pt x="77" y="439"/>
                      <a:pt x="126" y="385"/>
                    </a:cubicBezTo>
                    <a:cubicBezTo>
                      <a:pt x="175" y="331"/>
                      <a:pt x="255" y="241"/>
                      <a:pt x="309" y="195"/>
                    </a:cubicBezTo>
                    <a:cubicBezTo>
                      <a:pt x="364" y="148"/>
                      <a:pt x="428" y="114"/>
                      <a:pt x="454" y="102"/>
                    </a:cubicBezTo>
                    <a:cubicBezTo>
                      <a:pt x="480" y="90"/>
                      <a:pt x="483" y="108"/>
                      <a:pt x="467" y="122"/>
                    </a:cubicBezTo>
                    <a:cubicBezTo>
                      <a:pt x="453" y="138"/>
                      <a:pt x="403" y="156"/>
                      <a:pt x="364" y="189"/>
                    </a:cubicBezTo>
                    <a:cubicBezTo>
                      <a:pt x="324" y="222"/>
                      <a:pt x="283" y="263"/>
                      <a:pt x="228" y="320"/>
                    </a:cubicBezTo>
                    <a:cubicBezTo>
                      <a:pt x="175" y="375"/>
                      <a:pt x="76" y="487"/>
                      <a:pt x="41" y="527"/>
                    </a:cubicBezTo>
                    <a:cubicBezTo>
                      <a:pt x="6" y="567"/>
                      <a:pt x="21" y="542"/>
                      <a:pt x="17" y="559"/>
                    </a:cubicBezTo>
                    <a:cubicBezTo>
                      <a:pt x="13" y="576"/>
                      <a:pt x="10" y="622"/>
                      <a:pt x="14" y="628"/>
                    </a:cubicBezTo>
                    <a:cubicBezTo>
                      <a:pt x="18" y="634"/>
                      <a:pt x="0" y="627"/>
                      <a:pt x="43" y="598"/>
                    </a:cubicBezTo>
                    <a:cubicBezTo>
                      <a:pt x="86" y="569"/>
                      <a:pt x="195" y="514"/>
                      <a:pt x="271" y="453"/>
                    </a:cubicBezTo>
                    <a:cubicBezTo>
                      <a:pt x="345" y="392"/>
                      <a:pt x="450" y="294"/>
                      <a:pt x="495" y="236"/>
                    </a:cubicBezTo>
                    <a:cubicBezTo>
                      <a:pt x="541" y="178"/>
                      <a:pt x="541" y="136"/>
                      <a:pt x="543" y="104"/>
                    </a:cubicBezTo>
                    <a:cubicBezTo>
                      <a:pt x="544" y="72"/>
                      <a:pt x="540" y="49"/>
                      <a:pt x="504" y="41"/>
                    </a:cubicBezTo>
                    <a:close/>
                  </a:path>
                </a:pathLst>
              </a:cu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-3240" y="4680"/>
                <a:ext cx="792000" cy="295200"/>
              </a:xfrm>
              <a:custGeom>
                <a:avLst/>
                <a:gdLst/>
                <a:ahLst/>
                <a:rect l="l" t="t" r="r" b="b"/>
                <a:pathLst>
                  <a:path w="499" h="186">
                    <a:moveTo>
                      <a:pt x="462" y="144"/>
                    </a:moveTo>
                    <a:cubicBezTo>
                      <a:pt x="499" y="132"/>
                      <a:pt x="483" y="126"/>
                      <a:pt x="485" y="112"/>
                    </a:cubicBezTo>
                    <a:cubicBezTo>
                      <a:pt x="487" y="99"/>
                      <a:pt x="486" y="76"/>
                      <a:pt x="474" y="58"/>
                    </a:cubicBezTo>
                    <a:cubicBezTo>
                      <a:pt x="462" y="40"/>
                      <a:pt x="490" y="13"/>
                      <a:pt x="411" y="3"/>
                    </a:cubicBezTo>
                    <a:lnTo>
                      <a:pt x="0" y="0"/>
                    </a:lnTo>
                    <a:lnTo>
                      <a:pt x="3" y="60"/>
                    </a:lnTo>
                    <a:cubicBezTo>
                      <a:pt x="30" y="68"/>
                      <a:pt x="107" y="45"/>
                      <a:pt x="162" y="47"/>
                    </a:cubicBezTo>
                    <a:cubicBezTo>
                      <a:pt x="217" y="49"/>
                      <a:pt x="296" y="64"/>
                      <a:pt x="333" y="73"/>
                    </a:cubicBezTo>
                    <a:cubicBezTo>
                      <a:pt x="369" y="81"/>
                      <a:pt x="374" y="90"/>
                      <a:pt x="382" y="97"/>
                    </a:cubicBezTo>
                    <a:cubicBezTo>
                      <a:pt x="389" y="104"/>
                      <a:pt x="390" y="116"/>
                      <a:pt x="379" y="114"/>
                    </a:cubicBezTo>
                    <a:cubicBezTo>
                      <a:pt x="367" y="112"/>
                      <a:pt x="350" y="95"/>
                      <a:pt x="312" y="87"/>
                    </a:cubicBezTo>
                    <a:cubicBezTo>
                      <a:pt x="276" y="79"/>
                      <a:pt x="210" y="64"/>
                      <a:pt x="159" y="64"/>
                    </a:cubicBezTo>
                    <a:cubicBezTo>
                      <a:pt x="108" y="64"/>
                      <a:pt x="29" y="73"/>
                      <a:pt x="3" y="87"/>
                    </a:cubicBezTo>
                    <a:lnTo>
                      <a:pt x="3" y="150"/>
                    </a:lnTo>
                    <a:cubicBezTo>
                      <a:pt x="46" y="166"/>
                      <a:pt x="188" y="186"/>
                      <a:pt x="264" y="185"/>
                    </a:cubicBezTo>
                    <a:cubicBezTo>
                      <a:pt x="340" y="184"/>
                      <a:pt x="426" y="156"/>
                      <a:pt x="462" y="144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grpSp>
            <p:nvGrpSpPr>
              <p:cNvPr id="69" name=""/>
              <p:cNvGrpSpPr/>
              <p:nvPr/>
            </p:nvGrpSpPr>
            <p:grpSpPr>
              <a:xfrm>
                <a:off x="2332440" y="3868920"/>
                <a:ext cx="1585080" cy="1267920"/>
                <a:chOff x="2332440" y="3868920"/>
                <a:chExt cx="1585080" cy="1267920"/>
              </a:xfrm>
            </p:grpSpPr>
            <p:sp>
              <p:nvSpPr>
                <p:cNvPr id="70" name=""/>
                <p:cNvSpPr/>
                <p:nvPr/>
              </p:nvSpPr>
              <p:spPr>
                <a:xfrm flipH="1" rot="21429000">
                  <a:off x="2353320" y="4097520"/>
                  <a:ext cx="610560" cy="87696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 rot="20854800">
                  <a:off x="3219840" y="3924360"/>
                  <a:ext cx="610560" cy="87696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2958480" y="4129920"/>
                  <a:ext cx="409680" cy="1006920"/>
                </a:xfrm>
                <a:custGeom>
                  <a:avLst/>
                  <a:gdLst/>
                  <a:ahLst/>
                  <a:rect l="l" t="t" r="r" b="b"/>
                  <a:pathLst>
                    <a:path w="980" h="2408">
                      <a:moveTo>
                        <a:pt x="253" y="1432"/>
                      </a:moveTo>
                      <a:cubicBezTo>
                        <a:pt x="184" y="1264"/>
                        <a:pt x="122" y="1070"/>
                        <a:pt x="82" y="881"/>
                      </a:cubicBezTo>
                      <a:cubicBezTo>
                        <a:pt x="42" y="692"/>
                        <a:pt x="0" y="433"/>
                        <a:pt x="12" y="296"/>
                      </a:cubicBezTo>
                      <a:cubicBezTo>
                        <a:pt x="24" y="159"/>
                        <a:pt x="84" y="96"/>
                        <a:pt x="156" y="56"/>
                      </a:cubicBezTo>
                      <a:cubicBezTo>
                        <a:pt x="228" y="16"/>
                        <a:pt x="364" y="0"/>
                        <a:pt x="444" y="56"/>
                      </a:cubicBezTo>
                      <a:cubicBezTo>
                        <a:pt x="524" y="112"/>
                        <a:pt x="564" y="216"/>
                        <a:pt x="636" y="392"/>
                      </a:cubicBezTo>
                      <a:cubicBezTo>
                        <a:pt x="708" y="568"/>
                        <a:pt x="820" y="840"/>
                        <a:pt x="876" y="1112"/>
                      </a:cubicBezTo>
                      <a:cubicBezTo>
                        <a:pt x="932" y="1384"/>
                        <a:pt x="964" y="1816"/>
                        <a:pt x="972" y="2024"/>
                      </a:cubicBezTo>
                      <a:cubicBezTo>
                        <a:pt x="980" y="2232"/>
                        <a:pt x="940" y="2312"/>
                        <a:pt x="924" y="2360"/>
                      </a:cubicBezTo>
                      <a:cubicBezTo>
                        <a:pt x="908" y="2408"/>
                        <a:pt x="892" y="2384"/>
                        <a:pt x="876" y="2312"/>
                      </a:cubicBezTo>
                      <a:cubicBezTo>
                        <a:pt x="860" y="2240"/>
                        <a:pt x="860" y="2096"/>
                        <a:pt x="828" y="1928"/>
                      </a:cubicBezTo>
                      <a:cubicBezTo>
                        <a:pt x="796" y="1760"/>
                        <a:pt x="756" y="1544"/>
                        <a:pt x="684" y="1304"/>
                      </a:cubicBezTo>
                      <a:cubicBezTo>
                        <a:pt x="612" y="1064"/>
                        <a:pt x="460" y="648"/>
                        <a:pt x="396" y="488"/>
                      </a:cubicBezTo>
                      <a:cubicBezTo>
                        <a:pt x="332" y="328"/>
                        <a:pt x="316" y="352"/>
                        <a:pt x="300" y="344"/>
                      </a:cubicBezTo>
                      <a:cubicBezTo>
                        <a:pt x="284" y="336"/>
                        <a:pt x="260" y="320"/>
                        <a:pt x="300" y="440"/>
                      </a:cubicBezTo>
                      <a:cubicBezTo>
                        <a:pt x="340" y="560"/>
                        <a:pt x="468" y="840"/>
                        <a:pt x="540" y="1064"/>
                      </a:cubicBezTo>
                      <a:cubicBezTo>
                        <a:pt x="612" y="1288"/>
                        <a:pt x="692" y="1584"/>
                        <a:pt x="732" y="1784"/>
                      </a:cubicBezTo>
                      <a:cubicBezTo>
                        <a:pt x="772" y="1984"/>
                        <a:pt x="780" y="2176"/>
                        <a:pt x="780" y="2264"/>
                      </a:cubicBezTo>
                      <a:cubicBezTo>
                        <a:pt x="780" y="2352"/>
                        <a:pt x="779" y="2375"/>
                        <a:pt x="732" y="2312"/>
                      </a:cubicBezTo>
                      <a:cubicBezTo>
                        <a:pt x="685" y="2249"/>
                        <a:pt x="576" y="2034"/>
                        <a:pt x="496" y="1887"/>
                      </a:cubicBezTo>
                      <a:cubicBezTo>
                        <a:pt x="416" y="1740"/>
                        <a:pt x="304" y="1527"/>
                        <a:pt x="253" y="1432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3" name=""/>
              <p:cNvGrpSpPr/>
              <p:nvPr/>
            </p:nvGrpSpPr>
            <p:grpSpPr>
              <a:xfrm>
                <a:off x="2356560" y="92160"/>
                <a:ext cx="1585080" cy="1267920"/>
                <a:chOff x="2356560" y="92160"/>
                <a:chExt cx="1585080" cy="1267920"/>
              </a:xfrm>
            </p:grpSpPr>
            <p:sp>
              <p:nvSpPr>
                <p:cNvPr id="74" name=""/>
                <p:cNvSpPr/>
                <p:nvPr/>
              </p:nvSpPr>
              <p:spPr>
                <a:xfrm flipH="1" rot="21429000">
                  <a:off x="2377440" y="320760"/>
                  <a:ext cx="610560" cy="87696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 rot="20854800">
                  <a:off x="3243960" y="147600"/>
                  <a:ext cx="610560" cy="87696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2982600" y="353160"/>
                  <a:ext cx="409680" cy="1006920"/>
                </a:xfrm>
                <a:custGeom>
                  <a:avLst/>
                  <a:gdLst/>
                  <a:ahLst/>
                  <a:rect l="l" t="t" r="r" b="b"/>
                  <a:pathLst>
                    <a:path w="980" h="2408">
                      <a:moveTo>
                        <a:pt x="253" y="1432"/>
                      </a:moveTo>
                      <a:cubicBezTo>
                        <a:pt x="184" y="1264"/>
                        <a:pt x="122" y="1070"/>
                        <a:pt x="82" y="881"/>
                      </a:cubicBezTo>
                      <a:cubicBezTo>
                        <a:pt x="42" y="692"/>
                        <a:pt x="0" y="433"/>
                        <a:pt x="12" y="296"/>
                      </a:cubicBezTo>
                      <a:cubicBezTo>
                        <a:pt x="24" y="159"/>
                        <a:pt x="84" y="96"/>
                        <a:pt x="156" y="56"/>
                      </a:cubicBezTo>
                      <a:cubicBezTo>
                        <a:pt x="228" y="16"/>
                        <a:pt x="364" y="0"/>
                        <a:pt x="444" y="56"/>
                      </a:cubicBezTo>
                      <a:cubicBezTo>
                        <a:pt x="524" y="112"/>
                        <a:pt x="564" y="216"/>
                        <a:pt x="636" y="392"/>
                      </a:cubicBezTo>
                      <a:cubicBezTo>
                        <a:pt x="708" y="568"/>
                        <a:pt x="820" y="840"/>
                        <a:pt x="876" y="1112"/>
                      </a:cubicBezTo>
                      <a:cubicBezTo>
                        <a:pt x="932" y="1384"/>
                        <a:pt x="964" y="1816"/>
                        <a:pt x="972" y="2024"/>
                      </a:cubicBezTo>
                      <a:cubicBezTo>
                        <a:pt x="980" y="2232"/>
                        <a:pt x="940" y="2312"/>
                        <a:pt x="924" y="2360"/>
                      </a:cubicBezTo>
                      <a:cubicBezTo>
                        <a:pt x="908" y="2408"/>
                        <a:pt x="892" y="2384"/>
                        <a:pt x="876" y="2312"/>
                      </a:cubicBezTo>
                      <a:cubicBezTo>
                        <a:pt x="860" y="2240"/>
                        <a:pt x="860" y="2096"/>
                        <a:pt x="828" y="1928"/>
                      </a:cubicBezTo>
                      <a:cubicBezTo>
                        <a:pt x="796" y="1760"/>
                        <a:pt x="756" y="1544"/>
                        <a:pt x="684" y="1304"/>
                      </a:cubicBezTo>
                      <a:cubicBezTo>
                        <a:pt x="612" y="1064"/>
                        <a:pt x="460" y="648"/>
                        <a:pt x="396" y="488"/>
                      </a:cubicBezTo>
                      <a:cubicBezTo>
                        <a:pt x="332" y="328"/>
                        <a:pt x="316" y="352"/>
                        <a:pt x="300" y="344"/>
                      </a:cubicBezTo>
                      <a:cubicBezTo>
                        <a:pt x="284" y="336"/>
                        <a:pt x="260" y="320"/>
                        <a:pt x="300" y="440"/>
                      </a:cubicBezTo>
                      <a:cubicBezTo>
                        <a:pt x="340" y="560"/>
                        <a:pt x="468" y="840"/>
                        <a:pt x="540" y="1064"/>
                      </a:cubicBezTo>
                      <a:cubicBezTo>
                        <a:pt x="612" y="1288"/>
                        <a:pt x="692" y="1584"/>
                        <a:pt x="732" y="1784"/>
                      </a:cubicBezTo>
                      <a:cubicBezTo>
                        <a:pt x="772" y="1984"/>
                        <a:pt x="780" y="2176"/>
                        <a:pt x="780" y="2264"/>
                      </a:cubicBezTo>
                      <a:cubicBezTo>
                        <a:pt x="780" y="2352"/>
                        <a:pt x="779" y="2375"/>
                        <a:pt x="732" y="2312"/>
                      </a:cubicBezTo>
                      <a:cubicBezTo>
                        <a:pt x="685" y="2249"/>
                        <a:pt x="576" y="2034"/>
                        <a:pt x="496" y="1887"/>
                      </a:cubicBezTo>
                      <a:cubicBezTo>
                        <a:pt x="416" y="1740"/>
                        <a:pt x="304" y="1527"/>
                        <a:pt x="253" y="1432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" name=""/>
              <p:cNvSpPr/>
              <p:nvPr/>
            </p:nvSpPr>
            <p:spPr>
              <a:xfrm>
                <a:off x="4755960" y="5686200"/>
                <a:ext cx="1076400" cy="1171800"/>
              </a:xfrm>
              <a:custGeom>
                <a:avLst/>
                <a:gdLst/>
                <a:ahLst/>
                <a:rect l="l" t="t" r="r" b="b"/>
                <a:pathLst>
                  <a:path w="678" h="738">
                    <a:moveTo>
                      <a:pt x="577" y="17"/>
                    </a:moveTo>
                    <a:cubicBezTo>
                      <a:pt x="525" y="19"/>
                      <a:pt x="428" y="0"/>
                      <a:pt x="341" y="100"/>
                    </a:cubicBezTo>
                    <a:cubicBezTo>
                      <a:pt x="253" y="202"/>
                      <a:pt x="108" y="515"/>
                      <a:pt x="54" y="621"/>
                    </a:cubicBezTo>
                    <a:cubicBezTo>
                      <a:pt x="0" y="727"/>
                      <a:pt x="3" y="716"/>
                      <a:pt x="17" y="735"/>
                    </a:cubicBezTo>
                    <a:lnTo>
                      <a:pt x="140" y="738"/>
                    </a:lnTo>
                    <a:cubicBezTo>
                      <a:pt x="170" y="718"/>
                      <a:pt x="159" y="688"/>
                      <a:pt x="198" y="614"/>
                    </a:cubicBezTo>
                    <a:cubicBezTo>
                      <a:pt x="237" y="540"/>
                      <a:pt x="318" y="375"/>
                      <a:pt x="375" y="292"/>
                    </a:cubicBezTo>
                    <a:cubicBezTo>
                      <a:pt x="431" y="209"/>
                      <a:pt x="503" y="140"/>
                      <a:pt x="534" y="115"/>
                    </a:cubicBezTo>
                    <a:cubicBezTo>
                      <a:pt x="565" y="89"/>
                      <a:pt x="574" y="113"/>
                      <a:pt x="559" y="138"/>
                    </a:cubicBezTo>
                    <a:cubicBezTo>
                      <a:pt x="544" y="162"/>
                      <a:pt x="487" y="206"/>
                      <a:pt x="445" y="264"/>
                    </a:cubicBezTo>
                    <a:cubicBezTo>
                      <a:pt x="404" y="323"/>
                      <a:pt x="354" y="408"/>
                      <a:pt x="311" y="487"/>
                    </a:cubicBezTo>
                    <a:cubicBezTo>
                      <a:pt x="268" y="566"/>
                      <a:pt x="181" y="696"/>
                      <a:pt x="188" y="738"/>
                    </a:cubicBezTo>
                    <a:lnTo>
                      <a:pt x="353" y="738"/>
                    </a:lnTo>
                    <a:cubicBezTo>
                      <a:pt x="391" y="724"/>
                      <a:pt x="370" y="727"/>
                      <a:pt x="417" y="651"/>
                    </a:cubicBezTo>
                    <a:cubicBezTo>
                      <a:pt x="464" y="575"/>
                      <a:pt x="599" y="373"/>
                      <a:pt x="638" y="279"/>
                    </a:cubicBezTo>
                    <a:cubicBezTo>
                      <a:pt x="678" y="185"/>
                      <a:pt x="663" y="128"/>
                      <a:pt x="653" y="85"/>
                    </a:cubicBezTo>
                    <a:cubicBezTo>
                      <a:pt x="643" y="41"/>
                      <a:pt x="629" y="14"/>
                      <a:pt x="577" y="17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20854800">
                <a:off x="6339960" y="5365800"/>
                <a:ext cx="1157400" cy="1662120"/>
              </a:xfrm>
              <a:custGeom>
                <a:avLst/>
                <a:gdLst/>
                <a:ahLst/>
                <a:rect l="l" t="t" r="r" b="b"/>
                <a:pathLst>
                  <a:path w="1456" h="2088">
                    <a:moveTo>
                      <a:pt x="184" y="48"/>
                    </a:moveTo>
                    <a:cubicBezTo>
                      <a:pt x="288" y="48"/>
                      <a:pt x="480" y="0"/>
                      <a:pt x="664" y="192"/>
                    </a:cubicBezTo>
                    <a:cubicBezTo>
                      <a:pt x="848" y="384"/>
                      <a:pt x="1160" y="904"/>
                      <a:pt x="1288" y="1200"/>
                    </a:cubicBezTo>
                    <a:cubicBezTo>
                      <a:pt x="1416" y="1496"/>
                      <a:pt x="1416" y="1848"/>
                      <a:pt x="1432" y="1968"/>
                    </a:cubicBezTo>
                    <a:cubicBezTo>
                      <a:pt x="1448" y="2088"/>
                      <a:pt x="1456" y="2048"/>
                      <a:pt x="1384" y="1920"/>
                    </a:cubicBezTo>
                    <a:cubicBezTo>
                      <a:pt x="1312" y="1792"/>
                      <a:pt x="1128" y="1424"/>
                      <a:pt x="1000" y="1200"/>
                    </a:cubicBezTo>
                    <a:cubicBezTo>
                      <a:pt x="872" y="976"/>
                      <a:pt x="736" y="736"/>
                      <a:pt x="616" y="576"/>
                    </a:cubicBezTo>
                    <a:cubicBezTo>
                      <a:pt x="496" y="416"/>
                      <a:pt x="344" y="288"/>
                      <a:pt x="280" y="240"/>
                    </a:cubicBezTo>
                    <a:cubicBezTo>
                      <a:pt x="216" y="192"/>
                      <a:pt x="200" y="240"/>
                      <a:pt x="232" y="288"/>
                    </a:cubicBezTo>
                    <a:cubicBezTo>
                      <a:pt x="264" y="336"/>
                      <a:pt x="384" y="416"/>
                      <a:pt x="472" y="528"/>
                    </a:cubicBezTo>
                    <a:cubicBezTo>
                      <a:pt x="560" y="640"/>
                      <a:pt x="648" y="776"/>
                      <a:pt x="760" y="960"/>
                    </a:cubicBezTo>
                    <a:cubicBezTo>
                      <a:pt x="872" y="1144"/>
                      <a:pt x="1040" y="1456"/>
                      <a:pt x="1144" y="1632"/>
                    </a:cubicBezTo>
                    <a:cubicBezTo>
                      <a:pt x="1248" y="1808"/>
                      <a:pt x="1352" y="1952"/>
                      <a:pt x="1384" y="2016"/>
                    </a:cubicBezTo>
                    <a:cubicBezTo>
                      <a:pt x="1416" y="2080"/>
                      <a:pt x="1384" y="2048"/>
                      <a:pt x="1336" y="2016"/>
                    </a:cubicBezTo>
                    <a:cubicBezTo>
                      <a:pt x="1288" y="1984"/>
                      <a:pt x="1224" y="1944"/>
                      <a:pt x="1096" y="1824"/>
                    </a:cubicBezTo>
                    <a:cubicBezTo>
                      <a:pt x="968" y="1704"/>
                      <a:pt x="736" y="1504"/>
                      <a:pt x="568" y="1296"/>
                    </a:cubicBezTo>
                    <a:cubicBezTo>
                      <a:pt x="400" y="1088"/>
                      <a:pt x="176" y="760"/>
                      <a:pt x="88" y="576"/>
                    </a:cubicBezTo>
                    <a:cubicBezTo>
                      <a:pt x="0" y="392"/>
                      <a:pt x="24" y="280"/>
                      <a:pt x="40" y="192"/>
                    </a:cubicBezTo>
                    <a:cubicBezTo>
                      <a:pt x="56" y="104"/>
                      <a:pt x="80" y="48"/>
                      <a:pt x="184" y="48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5846760" y="5756040"/>
                <a:ext cx="749160" cy="1152720"/>
              </a:xfrm>
              <a:custGeom>
                <a:avLst/>
                <a:gdLst/>
                <a:ahLst/>
                <a:rect l="l" t="t" r="r" b="b"/>
                <a:pathLst>
                  <a:path w="472" h="726">
                    <a:moveTo>
                      <a:pt x="116" y="694"/>
                    </a:moveTo>
                    <a:cubicBezTo>
                      <a:pt x="71" y="652"/>
                      <a:pt x="59" y="531"/>
                      <a:pt x="41" y="440"/>
                    </a:cubicBezTo>
                    <a:cubicBezTo>
                      <a:pt x="23" y="349"/>
                      <a:pt x="0" y="216"/>
                      <a:pt x="6" y="148"/>
                    </a:cubicBezTo>
                    <a:cubicBezTo>
                      <a:pt x="12" y="79"/>
                      <a:pt x="42" y="48"/>
                      <a:pt x="78" y="28"/>
                    </a:cubicBezTo>
                    <a:cubicBezTo>
                      <a:pt x="114" y="8"/>
                      <a:pt x="182" y="0"/>
                      <a:pt x="222" y="28"/>
                    </a:cubicBezTo>
                    <a:cubicBezTo>
                      <a:pt x="261" y="56"/>
                      <a:pt x="281" y="108"/>
                      <a:pt x="317" y="196"/>
                    </a:cubicBezTo>
                    <a:cubicBezTo>
                      <a:pt x="353" y="284"/>
                      <a:pt x="414" y="473"/>
                      <a:pt x="437" y="555"/>
                    </a:cubicBezTo>
                    <a:cubicBezTo>
                      <a:pt x="460" y="637"/>
                      <a:pt x="472" y="668"/>
                      <a:pt x="458" y="691"/>
                    </a:cubicBezTo>
                    <a:lnTo>
                      <a:pt x="350" y="694"/>
                    </a:lnTo>
                    <a:cubicBezTo>
                      <a:pt x="331" y="687"/>
                      <a:pt x="366" y="726"/>
                      <a:pt x="341" y="651"/>
                    </a:cubicBezTo>
                    <a:cubicBezTo>
                      <a:pt x="316" y="576"/>
                      <a:pt x="230" y="323"/>
                      <a:pt x="198" y="244"/>
                    </a:cubicBezTo>
                    <a:cubicBezTo>
                      <a:pt x="166" y="164"/>
                      <a:pt x="158" y="176"/>
                      <a:pt x="150" y="172"/>
                    </a:cubicBezTo>
                    <a:cubicBezTo>
                      <a:pt x="142" y="168"/>
                      <a:pt x="130" y="160"/>
                      <a:pt x="150" y="220"/>
                    </a:cubicBezTo>
                    <a:cubicBezTo>
                      <a:pt x="170" y="280"/>
                      <a:pt x="242" y="453"/>
                      <a:pt x="269" y="531"/>
                    </a:cubicBezTo>
                    <a:cubicBezTo>
                      <a:pt x="296" y="609"/>
                      <a:pt x="337" y="664"/>
                      <a:pt x="311" y="691"/>
                    </a:cubicBezTo>
                    <a:lnTo>
                      <a:pt x="116" y="694"/>
                    </a:ln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grpSp>
            <p:nvGrpSpPr>
              <p:cNvPr id="80" name=""/>
              <p:cNvGrpSpPr/>
              <p:nvPr/>
            </p:nvGrpSpPr>
            <p:grpSpPr>
              <a:xfrm>
                <a:off x="6258240" y="528480"/>
                <a:ext cx="2760120" cy="2088720"/>
                <a:chOff x="6258240" y="528480"/>
                <a:chExt cx="2760120" cy="2088720"/>
              </a:xfrm>
            </p:grpSpPr>
            <p:sp>
              <p:nvSpPr>
                <p:cNvPr id="81" name=""/>
                <p:cNvSpPr/>
                <p:nvPr/>
              </p:nvSpPr>
              <p:spPr>
                <a:xfrm rot="20854800">
                  <a:off x="7980480" y="845280"/>
                  <a:ext cx="864720" cy="124128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7628040" y="1191960"/>
                  <a:ext cx="580320" cy="1425240"/>
                </a:xfrm>
                <a:custGeom>
                  <a:avLst/>
                  <a:gdLst/>
                  <a:ahLst/>
                  <a:rect l="l" t="t" r="r" b="b"/>
                  <a:pathLst>
                    <a:path w="980" h="2408">
                      <a:moveTo>
                        <a:pt x="253" y="1432"/>
                      </a:moveTo>
                      <a:cubicBezTo>
                        <a:pt x="184" y="1264"/>
                        <a:pt x="122" y="1070"/>
                        <a:pt x="82" y="881"/>
                      </a:cubicBezTo>
                      <a:cubicBezTo>
                        <a:pt x="42" y="692"/>
                        <a:pt x="0" y="433"/>
                        <a:pt x="12" y="296"/>
                      </a:cubicBezTo>
                      <a:cubicBezTo>
                        <a:pt x="24" y="159"/>
                        <a:pt x="84" y="96"/>
                        <a:pt x="156" y="56"/>
                      </a:cubicBezTo>
                      <a:cubicBezTo>
                        <a:pt x="228" y="16"/>
                        <a:pt x="364" y="0"/>
                        <a:pt x="444" y="56"/>
                      </a:cubicBezTo>
                      <a:cubicBezTo>
                        <a:pt x="524" y="112"/>
                        <a:pt x="564" y="216"/>
                        <a:pt x="636" y="392"/>
                      </a:cubicBezTo>
                      <a:cubicBezTo>
                        <a:pt x="708" y="568"/>
                        <a:pt x="820" y="840"/>
                        <a:pt x="876" y="1112"/>
                      </a:cubicBezTo>
                      <a:cubicBezTo>
                        <a:pt x="932" y="1384"/>
                        <a:pt x="964" y="1816"/>
                        <a:pt x="972" y="2024"/>
                      </a:cubicBezTo>
                      <a:cubicBezTo>
                        <a:pt x="980" y="2232"/>
                        <a:pt x="940" y="2312"/>
                        <a:pt x="924" y="2360"/>
                      </a:cubicBezTo>
                      <a:cubicBezTo>
                        <a:pt x="908" y="2408"/>
                        <a:pt x="892" y="2384"/>
                        <a:pt x="876" y="2312"/>
                      </a:cubicBezTo>
                      <a:cubicBezTo>
                        <a:pt x="860" y="2240"/>
                        <a:pt x="860" y="2096"/>
                        <a:pt x="828" y="1928"/>
                      </a:cubicBezTo>
                      <a:cubicBezTo>
                        <a:pt x="796" y="1760"/>
                        <a:pt x="756" y="1544"/>
                        <a:pt x="684" y="1304"/>
                      </a:cubicBezTo>
                      <a:cubicBezTo>
                        <a:pt x="612" y="1064"/>
                        <a:pt x="460" y="648"/>
                        <a:pt x="396" y="488"/>
                      </a:cubicBezTo>
                      <a:cubicBezTo>
                        <a:pt x="332" y="328"/>
                        <a:pt x="316" y="352"/>
                        <a:pt x="300" y="344"/>
                      </a:cubicBezTo>
                      <a:cubicBezTo>
                        <a:pt x="284" y="336"/>
                        <a:pt x="260" y="320"/>
                        <a:pt x="300" y="440"/>
                      </a:cubicBezTo>
                      <a:cubicBezTo>
                        <a:pt x="340" y="560"/>
                        <a:pt x="468" y="840"/>
                        <a:pt x="540" y="1064"/>
                      </a:cubicBezTo>
                      <a:cubicBezTo>
                        <a:pt x="612" y="1288"/>
                        <a:pt x="692" y="1584"/>
                        <a:pt x="732" y="1784"/>
                      </a:cubicBezTo>
                      <a:cubicBezTo>
                        <a:pt x="772" y="1984"/>
                        <a:pt x="780" y="2176"/>
                        <a:pt x="780" y="2264"/>
                      </a:cubicBezTo>
                      <a:cubicBezTo>
                        <a:pt x="780" y="2352"/>
                        <a:pt x="779" y="2375"/>
                        <a:pt x="732" y="2312"/>
                      </a:cubicBezTo>
                      <a:cubicBezTo>
                        <a:pt x="685" y="2249"/>
                        <a:pt x="576" y="2034"/>
                        <a:pt x="496" y="1887"/>
                      </a:cubicBezTo>
                      <a:cubicBezTo>
                        <a:pt x="416" y="1740"/>
                        <a:pt x="304" y="1527"/>
                        <a:pt x="253" y="1432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7820280" y="528480"/>
                  <a:ext cx="1198080" cy="406440"/>
                </a:xfrm>
                <a:custGeom>
                  <a:avLst/>
                  <a:gdLst/>
                  <a:ahLst/>
                  <a:rect l="l" t="t" r="r" b="b"/>
                  <a:pathLst>
                    <a:path w="2020" h="688">
                      <a:moveTo>
                        <a:pt x="96" y="464"/>
                      </a:moveTo>
                      <a:cubicBezTo>
                        <a:pt x="0" y="416"/>
                        <a:pt x="48" y="408"/>
                        <a:pt x="48" y="368"/>
                      </a:cubicBezTo>
                      <a:cubicBezTo>
                        <a:pt x="48" y="328"/>
                        <a:pt x="40" y="280"/>
                        <a:pt x="96" y="224"/>
                      </a:cubicBezTo>
                      <a:cubicBezTo>
                        <a:pt x="152" y="168"/>
                        <a:pt x="240" y="64"/>
                        <a:pt x="384" y="32"/>
                      </a:cubicBezTo>
                      <a:cubicBezTo>
                        <a:pt x="528" y="0"/>
                        <a:pt x="760" y="0"/>
                        <a:pt x="960" y="32"/>
                      </a:cubicBezTo>
                      <a:cubicBezTo>
                        <a:pt x="1160" y="64"/>
                        <a:pt x="1424" y="160"/>
                        <a:pt x="1584" y="224"/>
                      </a:cubicBezTo>
                      <a:cubicBezTo>
                        <a:pt x="1744" y="288"/>
                        <a:pt x="1850" y="363"/>
                        <a:pt x="1920" y="416"/>
                      </a:cubicBezTo>
                      <a:cubicBezTo>
                        <a:pt x="1990" y="469"/>
                        <a:pt x="2020" y="520"/>
                        <a:pt x="2004" y="544"/>
                      </a:cubicBezTo>
                      <a:cubicBezTo>
                        <a:pt x="1988" y="568"/>
                        <a:pt x="1910" y="573"/>
                        <a:pt x="1824" y="560"/>
                      </a:cubicBezTo>
                      <a:cubicBezTo>
                        <a:pt x="1738" y="547"/>
                        <a:pt x="1632" y="504"/>
                        <a:pt x="1488" y="464"/>
                      </a:cubicBezTo>
                      <a:cubicBezTo>
                        <a:pt x="1344" y="424"/>
                        <a:pt x="1128" y="344"/>
                        <a:pt x="960" y="320"/>
                      </a:cubicBezTo>
                      <a:cubicBezTo>
                        <a:pt x="792" y="296"/>
                        <a:pt x="584" y="312"/>
                        <a:pt x="480" y="320"/>
                      </a:cubicBezTo>
                      <a:cubicBezTo>
                        <a:pt x="376" y="328"/>
                        <a:pt x="360" y="352"/>
                        <a:pt x="336" y="368"/>
                      </a:cubicBezTo>
                      <a:cubicBezTo>
                        <a:pt x="312" y="384"/>
                        <a:pt x="304" y="416"/>
                        <a:pt x="336" y="416"/>
                      </a:cubicBezTo>
                      <a:cubicBezTo>
                        <a:pt x="368" y="416"/>
                        <a:pt x="424" y="376"/>
                        <a:pt x="528" y="368"/>
                      </a:cubicBezTo>
                      <a:cubicBezTo>
                        <a:pt x="632" y="360"/>
                        <a:pt x="784" y="336"/>
                        <a:pt x="960" y="368"/>
                      </a:cubicBezTo>
                      <a:cubicBezTo>
                        <a:pt x="1136" y="400"/>
                        <a:pt x="1472" y="520"/>
                        <a:pt x="1584" y="560"/>
                      </a:cubicBezTo>
                      <a:cubicBezTo>
                        <a:pt x="1696" y="600"/>
                        <a:pt x="1664" y="592"/>
                        <a:pt x="1632" y="608"/>
                      </a:cubicBezTo>
                      <a:cubicBezTo>
                        <a:pt x="1600" y="624"/>
                        <a:pt x="1560" y="648"/>
                        <a:pt x="1392" y="656"/>
                      </a:cubicBezTo>
                      <a:cubicBezTo>
                        <a:pt x="1224" y="664"/>
                        <a:pt x="840" y="688"/>
                        <a:pt x="624" y="656"/>
                      </a:cubicBezTo>
                      <a:cubicBezTo>
                        <a:pt x="408" y="624"/>
                        <a:pt x="192" y="512"/>
                        <a:pt x="96" y="464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 flipH="1" rot="745200">
                  <a:off x="6576120" y="1030320"/>
                  <a:ext cx="864720" cy="124164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 flipH="1" rot="505800">
                  <a:off x="6281280" y="693000"/>
                  <a:ext cx="1198080" cy="406440"/>
                </a:xfrm>
                <a:custGeom>
                  <a:avLst/>
                  <a:gdLst/>
                  <a:ahLst/>
                  <a:rect l="l" t="t" r="r" b="b"/>
                  <a:pathLst>
                    <a:path w="2020" h="688">
                      <a:moveTo>
                        <a:pt x="96" y="464"/>
                      </a:moveTo>
                      <a:cubicBezTo>
                        <a:pt x="0" y="416"/>
                        <a:pt x="48" y="408"/>
                        <a:pt x="48" y="368"/>
                      </a:cubicBezTo>
                      <a:cubicBezTo>
                        <a:pt x="48" y="328"/>
                        <a:pt x="40" y="280"/>
                        <a:pt x="96" y="224"/>
                      </a:cubicBezTo>
                      <a:cubicBezTo>
                        <a:pt x="152" y="168"/>
                        <a:pt x="240" y="64"/>
                        <a:pt x="384" y="32"/>
                      </a:cubicBezTo>
                      <a:cubicBezTo>
                        <a:pt x="528" y="0"/>
                        <a:pt x="760" y="0"/>
                        <a:pt x="960" y="32"/>
                      </a:cubicBezTo>
                      <a:cubicBezTo>
                        <a:pt x="1160" y="64"/>
                        <a:pt x="1424" y="160"/>
                        <a:pt x="1584" y="224"/>
                      </a:cubicBezTo>
                      <a:cubicBezTo>
                        <a:pt x="1744" y="288"/>
                        <a:pt x="1850" y="363"/>
                        <a:pt x="1920" y="416"/>
                      </a:cubicBezTo>
                      <a:cubicBezTo>
                        <a:pt x="1990" y="469"/>
                        <a:pt x="2020" y="520"/>
                        <a:pt x="2004" y="544"/>
                      </a:cubicBezTo>
                      <a:cubicBezTo>
                        <a:pt x="1988" y="568"/>
                        <a:pt x="1910" y="573"/>
                        <a:pt x="1824" y="560"/>
                      </a:cubicBezTo>
                      <a:cubicBezTo>
                        <a:pt x="1738" y="547"/>
                        <a:pt x="1632" y="504"/>
                        <a:pt x="1488" y="464"/>
                      </a:cubicBezTo>
                      <a:cubicBezTo>
                        <a:pt x="1344" y="424"/>
                        <a:pt x="1128" y="344"/>
                        <a:pt x="960" y="320"/>
                      </a:cubicBezTo>
                      <a:cubicBezTo>
                        <a:pt x="792" y="296"/>
                        <a:pt x="584" y="312"/>
                        <a:pt x="480" y="320"/>
                      </a:cubicBezTo>
                      <a:cubicBezTo>
                        <a:pt x="376" y="328"/>
                        <a:pt x="360" y="352"/>
                        <a:pt x="336" y="368"/>
                      </a:cubicBezTo>
                      <a:cubicBezTo>
                        <a:pt x="312" y="384"/>
                        <a:pt x="304" y="416"/>
                        <a:pt x="336" y="416"/>
                      </a:cubicBezTo>
                      <a:cubicBezTo>
                        <a:pt x="368" y="416"/>
                        <a:pt x="424" y="376"/>
                        <a:pt x="528" y="368"/>
                      </a:cubicBezTo>
                      <a:cubicBezTo>
                        <a:pt x="632" y="360"/>
                        <a:pt x="784" y="336"/>
                        <a:pt x="960" y="368"/>
                      </a:cubicBezTo>
                      <a:cubicBezTo>
                        <a:pt x="1136" y="400"/>
                        <a:pt x="1472" y="520"/>
                        <a:pt x="1584" y="560"/>
                      </a:cubicBezTo>
                      <a:cubicBezTo>
                        <a:pt x="1696" y="600"/>
                        <a:pt x="1664" y="592"/>
                        <a:pt x="1632" y="608"/>
                      </a:cubicBezTo>
                      <a:cubicBezTo>
                        <a:pt x="1600" y="624"/>
                        <a:pt x="1560" y="648"/>
                        <a:pt x="1392" y="656"/>
                      </a:cubicBezTo>
                      <a:cubicBezTo>
                        <a:pt x="1224" y="664"/>
                        <a:pt x="840" y="688"/>
                        <a:pt x="624" y="656"/>
                      </a:cubicBezTo>
                      <a:cubicBezTo>
                        <a:pt x="408" y="624"/>
                        <a:pt x="192" y="512"/>
                        <a:pt x="96" y="464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6" name=""/>
              <p:cNvGrpSpPr/>
              <p:nvPr/>
            </p:nvGrpSpPr>
            <p:grpSpPr>
              <a:xfrm>
                <a:off x="236520" y="1080"/>
                <a:ext cx="331920" cy="6852240"/>
                <a:chOff x="236520" y="1080"/>
                <a:chExt cx="331920" cy="6852240"/>
              </a:xfrm>
            </p:grpSpPr>
            <p:sp>
              <p:nvSpPr>
                <p:cNvPr id="87" name=""/>
                <p:cNvSpPr/>
                <p:nvPr/>
              </p:nvSpPr>
              <p:spPr>
                <a:xfrm>
                  <a:off x="236520" y="4680"/>
                  <a:ext cx="331920" cy="6848640"/>
                </a:xfrm>
                <a:custGeom>
                  <a:avLst/>
                  <a:gdLst/>
                  <a:ahLst/>
                  <a:rect l="l" t="t" r="r" b="b"/>
                  <a:pathLst>
                    <a:path w="209" h="4314">
                      <a:moveTo>
                        <a:pt x="14" y="4314"/>
                      </a:moveTo>
                      <a:cubicBezTo>
                        <a:pt x="11" y="4130"/>
                        <a:pt x="21" y="3515"/>
                        <a:pt x="19" y="3207"/>
                      </a:cubicBezTo>
                      <a:cubicBezTo>
                        <a:pt x="17" y="2899"/>
                        <a:pt x="5" y="2613"/>
                        <a:pt x="3" y="2467"/>
                      </a:cubicBezTo>
                      <a:cubicBezTo>
                        <a:pt x="0" y="2321"/>
                        <a:pt x="2" y="2360"/>
                        <a:pt x="3" y="2330"/>
                      </a:cubicBezTo>
                      <a:cubicBezTo>
                        <a:pt x="3" y="2300"/>
                        <a:pt x="7" y="2302"/>
                        <a:pt x="8" y="2288"/>
                      </a:cubicBezTo>
                      <a:cubicBezTo>
                        <a:pt x="10" y="2274"/>
                        <a:pt x="11" y="2260"/>
                        <a:pt x="10" y="2244"/>
                      </a:cubicBezTo>
                      <a:cubicBezTo>
                        <a:pt x="9" y="2228"/>
                        <a:pt x="4" y="2217"/>
                        <a:pt x="3" y="2193"/>
                      </a:cubicBezTo>
                      <a:cubicBezTo>
                        <a:pt x="1" y="2169"/>
                        <a:pt x="1" y="2159"/>
                        <a:pt x="3" y="2103"/>
                      </a:cubicBezTo>
                      <a:cubicBezTo>
                        <a:pt x="4" y="2046"/>
                        <a:pt x="11" y="1988"/>
                        <a:pt x="12" y="1849"/>
                      </a:cubicBezTo>
                      <a:cubicBezTo>
                        <a:pt x="13" y="1710"/>
                        <a:pt x="10" y="1578"/>
                        <a:pt x="10" y="1270"/>
                      </a:cubicBezTo>
                      <a:cubicBezTo>
                        <a:pt x="10" y="961"/>
                        <a:pt x="8" y="211"/>
                        <a:pt x="12" y="0"/>
                      </a:cubicBezTo>
                      <a:lnTo>
                        <a:pt x="34" y="4"/>
                      </a:lnTo>
                      <a:cubicBezTo>
                        <a:pt x="38" y="175"/>
                        <a:pt x="37" y="711"/>
                        <a:pt x="37" y="1026"/>
                      </a:cubicBezTo>
                      <a:cubicBezTo>
                        <a:pt x="38" y="1342"/>
                        <a:pt x="38" y="1717"/>
                        <a:pt x="36" y="1897"/>
                      </a:cubicBezTo>
                      <a:cubicBezTo>
                        <a:pt x="39" y="1973"/>
                        <a:pt x="29" y="2051"/>
                        <a:pt x="25" y="2105"/>
                      </a:cubicBezTo>
                      <a:cubicBezTo>
                        <a:pt x="22" y="2164"/>
                        <a:pt x="20" y="2202"/>
                        <a:pt x="39" y="2212"/>
                      </a:cubicBezTo>
                      <a:cubicBezTo>
                        <a:pt x="57" y="2226"/>
                        <a:pt x="81" y="2231"/>
                        <a:pt x="102" y="2228"/>
                      </a:cubicBezTo>
                      <a:cubicBezTo>
                        <a:pt x="123" y="2231"/>
                        <a:pt x="150" y="2235"/>
                        <a:pt x="163" y="2228"/>
                      </a:cubicBezTo>
                      <a:cubicBezTo>
                        <a:pt x="176" y="2221"/>
                        <a:pt x="178" y="2209"/>
                        <a:pt x="181" y="2184"/>
                      </a:cubicBezTo>
                      <a:cubicBezTo>
                        <a:pt x="184" y="2159"/>
                        <a:pt x="180" y="2113"/>
                        <a:pt x="180" y="2077"/>
                      </a:cubicBezTo>
                      <a:cubicBezTo>
                        <a:pt x="179" y="2041"/>
                        <a:pt x="179" y="2012"/>
                        <a:pt x="178" y="1969"/>
                      </a:cubicBezTo>
                      <a:cubicBezTo>
                        <a:pt x="174" y="1922"/>
                        <a:pt x="175" y="2145"/>
                        <a:pt x="173" y="1817"/>
                      </a:cubicBezTo>
                      <a:cubicBezTo>
                        <a:pt x="171" y="1490"/>
                        <a:pt x="163" y="305"/>
                        <a:pt x="167" y="3"/>
                      </a:cubicBezTo>
                      <a:lnTo>
                        <a:pt x="202" y="6"/>
                      </a:lnTo>
                      <a:cubicBezTo>
                        <a:pt x="206" y="122"/>
                        <a:pt x="195" y="395"/>
                        <a:pt x="195" y="701"/>
                      </a:cubicBezTo>
                      <a:cubicBezTo>
                        <a:pt x="194" y="1006"/>
                        <a:pt x="196" y="1600"/>
                        <a:pt x="198" y="1841"/>
                      </a:cubicBezTo>
                      <a:cubicBezTo>
                        <a:pt x="197" y="1985"/>
                        <a:pt x="209" y="2095"/>
                        <a:pt x="209" y="2148"/>
                      </a:cubicBezTo>
                      <a:cubicBezTo>
                        <a:pt x="209" y="2201"/>
                        <a:pt x="203" y="2212"/>
                        <a:pt x="198" y="2264"/>
                      </a:cubicBezTo>
                      <a:cubicBezTo>
                        <a:pt x="208" y="2285"/>
                        <a:pt x="205" y="2289"/>
                        <a:pt x="206" y="2330"/>
                      </a:cubicBezTo>
                      <a:cubicBezTo>
                        <a:pt x="208" y="2371"/>
                        <a:pt x="209" y="2352"/>
                        <a:pt x="206" y="2512"/>
                      </a:cubicBezTo>
                      <a:cubicBezTo>
                        <a:pt x="204" y="2672"/>
                        <a:pt x="194" y="2987"/>
                        <a:pt x="193" y="3287"/>
                      </a:cubicBezTo>
                      <a:cubicBezTo>
                        <a:pt x="192" y="3587"/>
                        <a:pt x="200" y="4143"/>
                        <a:pt x="197" y="4314"/>
                      </a:cubicBezTo>
                      <a:lnTo>
                        <a:pt x="176" y="4313"/>
                      </a:lnTo>
                      <a:cubicBezTo>
                        <a:pt x="172" y="4225"/>
                        <a:pt x="176" y="3940"/>
                        <a:pt x="175" y="3786"/>
                      </a:cubicBezTo>
                      <a:cubicBezTo>
                        <a:pt x="174" y="3632"/>
                        <a:pt x="171" y="3568"/>
                        <a:pt x="171" y="3391"/>
                      </a:cubicBezTo>
                      <a:cubicBezTo>
                        <a:pt x="172" y="3213"/>
                        <a:pt x="176" y="2892"/>
                        <a:pt x="178" y="2720"/>
                      </a:cubicBezTo>
                      <a:cubicBezTo>
                        <a:pt x="180" y="2547"/>
                        <a:pt x="186" y="2428"/>
                        <a:pt x="185" y="2356"/>
                      </a:cubicBezTo>
                      <a:cubicBezTo>
                        <a:pt x="183" y="2332"/>
                        <a:pt x="187" y="2295"/>
                        <a:pt x="170" y="2288"/>
                      </a:cubicBezTo>
                      <a:cubicBezTo>
                        <a:pt x="158" y="2275"/>
                        <a:pt x="125" y="2307"/>
                        <a:pt x="103" y="2308"/>
                      </a:cubicBezTo>
                      <a:cubicBezTo>
                        <a:pt x="82" y="2309"/>
                        <a:pt x="54" y="2270"/>
                        <a:pt x="41" y="2296"/>
                      </a:cubicBezTo>
                      <a:cubicBezTo>
                        <a:pt x="27" y="2322"/>
                        <a:pt x="23" y="2357"/>
                        <a:pt x="23" y="2467"/>
                      </a:cubicBezTo>
                      <a:cubicBezTo>
                        <a:pt x="22" y="2577"/>
                        <a:pt x="35" y="2745"/>
                        <a:pt x="37" y="2955"/>
                      </a:cubicBezTo>
                      <a:cubicBezTo>
                        <a:pt x="40" y="3166"/>
                        <a:pt x="39" y="3503"/>
                        <a:pt x="39" y="3730"/>
                      </a:cubicBezTo>
                      <a:cubicBezTo>
                        <a:pt x="39" y="3957"/>
                        <a:pt x="41" y="4216"/>
                        <a:pt x="37" y="4313"/>
                      </a:cubicBezTo>
                      <a:lnTo>
                        <a:pt x="14" y="4314"/>
                      </a:ln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 flipV="1">
                  <a:off x="409680" y="360"/>
                  <a:ext cx="74520" cy="3490920"/>
                </a:xfrm>
                <a:custGeom>
                  <a:avLst/>
                  <a:gdLst/>
                  <a:ahLst/>
                  <a:rect l="l" t="t" r="r" b="b"/>
                  <a:pathLst>
                    <a:path w="110" h="2131">
                      <a:moveTo>
                        <a:pt x="27" y="477"/>
                      </a:moveTo>
                      <a:cubicBezTo>
                        <a:pt x="24" y="266"/>
                        <a:pt x="26" y="283"/>
                        <a:pt x="23" y="217"/>
                      </a:cubicBezTo>
                      <a:cubicBezTo>
                        <a:pt x="20" y="151"/>
                        <a:pt x="14" y="112"/>
                        <a:pt x="11" y="81"/>
                      </a:cubicBezTo>
                      <a:cubicBezTo>
                        <a:pt x="8" y="50"/>
                        <a:pt x="0" y="42"/>
                        <a:pt x="3" y="29"/>
                      </a:cubicBezTo>
                      <a:cubicBezTo>
                        <a:pt x="6" y="16"/>
                        <a:pt x="18" y="9"/>
                        <a:pt x="31" y="5"/>
                      </a:cubicBezTo>
                      <a:cubicBezTo>
                        <a:pt x="44" y="1"/>
                        <a:pt x="71" y="0"/>
                        <a:pt x="83" y="5"/>
                      </a:cubicBezTo>
                      <a:cubicBezTo>
                        <a:pt x="95" y="10"/>
                        <a:pt x="99" y="12"/>
                        <a:pt x="103" y="33"/>
                      </a:cubicBezTo>
                      <a:cubicBezTo>
                        <a:pt x="107" y="54"/>
                        <a:pt x="110" y="77"/>
                        <a:pt x="107" y="133"/>
                      </a:cubicBezTo>
                      <a:cubicBezTo>
                        <a:pt x="104" y="189"/>
                        <a:pt x="90" y="249"/>
                        <a:pt x="87" y="369"/>
                      </a:cubicBezTo>
                      <a:cubicBezTo>
                        <a:pt x="84" y="489"/>
                        <a:pt x="88" y="646"/>
                        <a:pt x="87" y="853"/>
                      </a:cubicBezTo>
                      <a:cubicBezTo>
                        <a:pt x="86" y="1060"/>
                        <a:pt x="79" y="1414"/>
                        <a:pt x="79" y="1613"/>
                      </a:cubicBezTo>
                      <a:cubicBezTo>
                        <a:pt x="79" y="1812"/>
                        <a:pt x="87" y="1959"/>
                        <a:pt x="87" y="2045"/>
                      </a:cubicBezTo>
                      <a:cubicBezTo>
                        <a:pt x="87" y="2131"/>
                        <a:pt x="87" y="2115"/>
                        <a:pt x="79" y="2129"/>
                      </a:cubicBezTo>
                      <a:lnTo>
                        <a:pt x="39" y="2129"/>
                      </a:lnTo>
                      <a:cubicBezTo>
                        <a:pt x="32" y="2021"/>
                        <a:pt x="42" y="1757"/>
                        <a:pt x="39" y="1481"/>
                      </a:cubicBezTo>
                      <a:cubicBezTo>
                        <a:pt x="36" y="1205"/>
                        <a:pt x="30" y="688"/>
                        <a:pt x="27" y="477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9" name=""/>
            <p:cNvSpPr/>
            <p:nvPr/>
          </p:nvSpPr>
          <p:spPr>
            <a:xfrm>
              <a:off x="1290600" y="4680"/>
              <a:ext cx="7850160" cy="15080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116160" y="1441440"/>
              <a:ext cx="6021360" cy="88920"/>
            </a:xfrm>
            <a:prstGeom prst="rect">
              <a:avLst/>
            </a:prstGeom>
            <a:solidFill>
              <a:srgbClr val="b2c2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14360" y="20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5032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425032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8904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b8904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b8904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b8904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b8904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2503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25032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25032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25032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2503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5A5CA-CBCB-4E40-87F4-ED013AA95294}" type="slidenum">
              <a:rPr b="0" lang="en-GB" sz="1400" spc="-1" strike="noStrike">
                <a:solidFill>
                  <a:srgbClr val="425032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e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"/>
          <p:cNvGrpSpPr/>
          <p:nvPr/>
        </p:nvGrpSpPr>
        <p:grpSpPr>
          <a:xfrm>
            <a:off x="-25560" y="-56880"/>
            <a:ext cx="9163080" cy="7189920"/>
            <a:chOff x="-25560" y="-56880"/>
            <a:chExt cx="9163080" cy="7189920"/>
          </a:xfrm>
        </p:grpSpPr>
        <p:grpSp>
          <p:nvGrpSpPr>
            <p:cNvPr id="133" name=""/>
            <p:cNvGrpSpPr/>
            <p:nvPr/>
          </p:nvGrpSpPr>
          <p:grpSpPr>
            <a:xfrm>
              <a:off x="-25560" y="-56880"/>
              <a:ext cx="9161640" cy="7189920"/>
              <a:chOff x="-25560" y="-56880"/>
              <a:chExt cx="9161640" cy="7189920"/>
            </a:xfrm>
          </p:grpSpPr>
          <p:grpSp>
            <p:nvGrpSpPr>
              <p:cNvPr id="134" name=""/>
              <p:cNvGrpSpPr/>
              <p:nvPr/>
            </p:nvGrpSpPr>
            <p:grpSpPr>
              <a:xfrm>
                <a:off x="2908080" y="1080"/>
                <a:ext cx="331920" cy="6852240"/>
                <a:chOff x="2908080" y="1080"/>
                <a:chExt cx="331920" cy="685224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2908080" y="4680"/>
                  <a:ext cx="331920" cy="6848640"/>
                </a:xfrm>
                <a:custGeom>
                  <a:avLst/>
                  <a:gdLst/>
                  <a:ahLst/>
                  <a:rect l="l" t="t" r="r" b="b"/>
                  <a:pathLst>
                    <a:path w="209" h="4314">
                      <a:moveTo>
                        <a:pt x="14" y="4314"/>
                      </a:moveTo>
                      <a:cubicBezTo>
                        <a:pt x="11" y="4130"/>
                        <a:pt x="21" y="3515"/>
                        <a:pt x="19" y="3207"/>
                      </a:cubicBezTo>
                      <a:cubicBezTo>
                        <a:pt x="17" y="2899"/>
                        <a:pt x="5" y="2613"/>
                        <a:pt x="3" y="2467"/>
                      </a:cubicBezTo>
                      <a:cubicBezTo>
                        <a:pt x="0" y="2321"/>
                        <a:pt x="2" y="2360"/>
                        <a:pt x="3" y="2330"/>
                      </a:cubicBezTo>
                      <a:cubicBezTo>
                        <a:pt x="3" y="2300"/>
                        <a:pt x="7" y="2302"/>
                        <a:pt x="8" y="2288"/>
                      </a:cubicBezTo>
                      <a:cubicBezTo>
                        <a:pt x="10" y="2274"/>
                        <a:pt x="11" y="2260"/>
                        <a:pt x="10" y="2244"/>
                      </a:cubicBezTo>
                      <a:cubicBezTo>
                        <a:pt x="9" y="2228"/>
                        <a:pt x="4" y="2217"/>
                        <a:pt x="3" y="2193"/>
                      </a:cubicBezTo>
                      <a:cubicBezTo>
                        <a:pt x="1" y="2169"/>
                        <a:pt x="1" y="2159"/>
                        <a:pt x="3" y="2103"/>
                      </a:cubicBezTo>
                      <a:cubicBezTo>
                        <a:pt x="4" y="2046"/>
                        <a:pt x="11" y="1988"/>
                        <a:pt x="12" y="1849"/>
                      </a:cubicBezTo>
                      <a:cubicBezTo>
                        <a:pt x="13" y="1710"/>
                        <a:pt x="10" y="1578"/>
                        <a:pt x="10" y="1270"/>
                      </a:cubicBezTo>
                      <a:cubicBezTo>
                        <a:pt x="10" y="961"/>
                        <a:pt x="8" y="211"/>
                        <a:pt x="12" y="0"/>
                      </a:cubicBezTo>
                      <a:lnTo>
                        <a:pt x="34" y="4"/>
                      </a:lnTo>
                      <a:cubicBezTo>
                        <a:pt x="38" y="175"/>
                        <a:pt x="37" y="711"/>
                        <a:pt x="37" y="1026"/>
                      </a:cubicBezTo>
                      <a:cubicBezTo>
                        <a:pt x="38" y="1342"/>
                        <a:pt x="38" y="1717"/>
                        <a:pt x="36" y="1897"/>
                      </a:cubicBezTo>
                      <a:cubicBezTo>
                        <a:pt x="39" y="1973"/>
                        <a:pt x="29" y="2051"/>
                        <a:pt x="25" y="2105"/>
                      </a:cubicBezTo>
                      <a:cubicBezTo>
                        <a:pt x="22" y="2164"/>
                        <a:pt x="20" y="2202"/>
                        <a:pt x="39" y="2212"/>
                      </a:cubicBezTo>
                      <a:cubicBezTo>
                        <a:pt x="57" y="2226"/>
                        <a:pt x="81" y="2231"/>
                        <a:pt x="102" y="2228"/>
                      </a:cubicBezTo>
                      <a:cubicBezTo>
                        <a:pt x="123" y="2231"/>
                        <a:pt x="150" y="2235"/>
                        <a:pt x="163" y="2228"/>
                      </a:cubicBezTo>
                      <a:cubicBezTo>
                        <a:pt x="176" y="2221"/>
                        <a:pt x="178" y="2209"/>
                        <a:pt x="181" y="2184"/>
                      </a:cubicBezTo>
                      <a:cubicBezTo>
                        <a:pt x="184" y="2159"/>
                        <a:pt x="180" y="2113"/>
                        <a:pt x="180" y="2077"/>
                      </a:cubicBezTo>
                      <a:cubicBezTo>
                        <a:pt x="179" y="2041"/>
                        <a:pt x="179" y="2012"/>
                        <a:pt x="178" y="1969"/>
                      </a:cubicBezTo>
                      <a:cubicBezTo>
                        <a:pt x="174" y="1922"/>
                        <a:pt x="175" y="2145"/>
                        <a:pt x="173" y="1817"/>
                      </a:cubicBezTo>
                      <a:cubicBezTo>
                        <a:pt x="171" y="1490"/>
                        <a:pt x="163" y="305"/>
                        <a:pt x="167" y="3"/>
                      </a:cubicBezTo>
                      <a:lnTo>
                        <a:pt x="202" y="6"/>
                      </a:lnTo>
                      <a:cubicBezTo>
                        <a:pt x="206" y="122"/>
                        <a:pt x="195" y="395"/>
                        <a:pt x="195" y="701"/>
                      </a:cubicBezTo>
                      <a:cubicBezTo>
                        <a:pt x="194" y="1006"/>
                        <a:pt x="196" y="1600"/>
                        <a:pt x="198" y="1841"/>
                      </a:cubicBezTo>
                      <a:cubicBezTo>
                        <a:pt x="197" y="1985"/>
                        <a:pt x="209" y="2095"/>
                        <a:pt x="209" y="2148"/>
                      </a:cubicBezTo>
                      <a:cubicBezTo>
                        <a:pt x="209" y="2201"/>
                        <a:pt x="203" y="2212"/>
                        <a:pt x="198" y="2264"/>
                      </a:cubicBezTo>
                      <a:cubicBezTo>
                        <a:pt x="208" y="2285"/>
                        <a:pt x="205" y="2289"/>
                        <a:pt x="206" y="2330"/>
                      </a:cubicBezTo>
                      <a:cubicBezTo>
                        <a:pt x="208" y="2371"/>
                        <a:pt x="209" y="2352"/>
                        <a:pt x="206" y="2512"/>
                      </a:cubicBezTo>
                      <a:cubicBezTo>
                        <a:pt x="204" y="2672"/>
                        <a:pt x="194" y="2987"/>
                        <a:pt x="193" y="3287"/>
                      </a:cubicBezTo>
                      <a:cubicBezTo>
                        <a:pt x="192" y="3587"/>
                        <a:pt x="200" y="4143"/>
                        <a:pt x="197" y="4314"/>
                      </a:cubicBezTo>
                      <a:lnTo>
                        <a:pt x="176" y="4313"/>
                      </a:lnTo>
                      <a:cubicBezTo>
                        <a:pt x="172" y="4225"/>
                        <a:pt x="176" y="3940"/>
                        <a:pt x="175" y="3786"/>
                      </a:cubicBezTo>
                      <a:cubicBezTo>
                        <a:pt x="174" y="3632"/>
                        <a:pt x="171" y="3568"/>
                        <a:pt x="171" y="3391"/>
                      </a:cubicBezTo>
                      <a:cubicBezTo>
                        <a:pt x="172" y="3213"/>
                        <a:pt x="176" y="2892"/>
                        <a:pt x="178" y="2720"/>
                      </a:cubicBezTo>
                      <a:cubicBezTo>
                        <a:pt x="180" y="2547"/>
                        <a:pt x="186" y="2428"/>
                        <a:pt x="185" y="2356"/>
                      </a:cubicBezTo>
                      <a:cubicBezTo>
                        <a:pt x="183" y="2332"/>
                        <a:pt x="187" y="2295"/>
                        <a:pt x="170" y="2288"/>
                      </a:cubicBezTo>
                      <a:cubicBezTo>
                        <a:pt x="158" y="2275"/>
                        <a:pt x="125" y="2307"/>
                        <a:pt x="103" y="2308"/>
                      </a:cubicBezTo>
                      <a:cubicBezTo>
                        <a:pt x="82" y="2309"/>
                        <a:pt x="54" y="2270"/>
                        <a:pt x="41" y="2296"/>
                      </a:cubicBezTo>
                      <a:cubicBezTo>
                        <a:pt x="27" y="2322"/>
                        <a:pt x="23" y="2357"/>
                        <a:pt x="23" y="2467"/>
                      </a:cubicBezTo>
                      <a:cubicBezTo>
                        <a:pt x="22" y="2577"/>
                        <a:pt x="35" y="2745"/>
                        <a:pt x="37" y="2955"/>
                      </a:cubicBezTo>
                      <a:cubicBezTo>
                        <a:pt x="40" y="3166"/>
                        <a:pt x="39" y="3503"/>
                        <a:pt x="39" y="3730"/>
                      </a:cubicBezTo>
                      <a:cubicBezTo>
                        <a:pt x="39" y="3957"/>
                        <a:pt x="41" y="4216"/>
                        <a:pt x="37" y="4313"/>
                      </a:cubicBezTo>
                      <a:lnTo>
                        <a:pt x="14" y="4314"/>
                      </a:ln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 flipV="1">
                  <a:off x="3081240" y="360"/>
                  <a:ext cx="74520" cy="3490920"/>
                </a:xfrm>
                <a:custGeom>
                  <a:avLst/>
                  <a:gdLst/>
                  <a:ahLst/>
                  <a:rect l="l" t="t" r="r" b="b"/>
                  <a:pathLst>
                    <a:path w="110" h="2131">
                      <a:moveTo>
                        <a:pt x="27" y="477"/>
                      </a:moveTo>
                      <a:cubicBezTo>
                        <a:pt x="24" y="266"/>
                        <a:pt x="26" y="283"/>
                        <a:pt x="23" y="217"/>
                      </a:cubicBezTo>
                      <a:cubicBezTo>
                        <a:pt x="20" y="151"/>
                        <a:pt x="14" y="112"/>
                        <a:pt x="11" y="81"/>
                      </a:cubicBezTo>
                      <a:cubicBezTo>
                        <a:pt x="8" y="50"/>
                        <a:pt x="0" y="42"/>
                        <a:pt x="3" y="29"/>
                      </a:cubicBezTo>
                      <a:cubicBezTo>
                        <a:pt x="6" y="16"/>
                        <a:pt x="18" y="9"/>
                        <a:pt x="31" y="5"/>
                      </a:cubicBezTo>
                      <a:cubicBezTo>
                        <a:pt x="44" y="1"/>
                        <a:pt x="71" y="0"/>
                        <a:pt x="83" y="5"/>
                      </a:cubicBezTo>
                      <a:cubicBezTo>
                        <a:pt x="95" y="10"/>
                        <a:pt x="99" y="12"/>
                        <a:pt x="103" y="33"/>
                      </a:cubicBezTo>
                      <a:cubicBezTo>
                        <a:pt x="107" y="54"/>
                        <a:pt x="110" y="77"/>
                        <a:pt x="107" y="133"/>
                      </a:cubicBezTo>
                      <a:cubicBezTo>
                        <a:pt x="104" y="189"/>
                        <a:pt x="90" y="249"/>
                        <a:pt x="87" y="369"/>
                      </a:cubicBezTo>
                      <a:cubicBezTo>
                        <a:pt x="84" y="489"/>
                        <a:pt x="88" y="646"/>
                        <a:pt x="87" y="853"/>
                      </a:cubicBezTo>
                      <a:cubicBezTo>
                        <a:pt x="86" y="1060"/>
                        <a:pt x="79" y="1414"/>
                        <a:pt x="79" y="1613"/>
                      </a:cubicBezTo>
                      <a:cubicBezTo>
                        <a:pt x="79" y="1812"/>
                        <a:pt x="87" y="1959"/>
                        <a:pt x="87" y="2045"/>
                      </a:cubicBezTo>
                      <a:cubicBezTo>
                        <a:pt x="87" y="2131"/>
                        <a:pt x="87" y="2115"/>
                        <a:pt x="79" y="2129"/>
                      </a:cubicBezTo>
                      <a:lnTo>
                        <a:pt x="39" y="2129"/>
                      </a:lnTo>
                      <a:cubicBezTo>
                        <a:pt x="32" y="2021"/>
                        <a:pt x="42" y="1757"/>
                        <a:pt x="39" y="1481"/>
                      </a:cubicBezTo>
                      <a:cubicBezTo>
                        <a:pt x="36" y="1205"/>
                        <a:pt x="30" y="688"/>
                        <a:pt x="27" y="477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7" name=""/>
              <p:cNvGrpSpPr/>
              <p:nvPr/>
            </p:nvGrpSpPr>
            <p:grpSpPr>
              <a:xfrm>
                <a:off x="8429400" y="4680"/>
                <a:ext cx="509760" cy="6854400"/>
                <a:chOff x="8429400" y="4680"/>
                <a:chExt cx="509760" cy="6854400"/>
              </a:xfrm>
            </p:grpSpPr>
            <p:sp>
              <p:nvSpPr>
                <p:cNvPr id="138" name=""/>
                <p:cNvSpPr/>
                <p:nvPr/>
              </p:nvSpPr>
              <p:spPr>
                <a:xfrm flipV="1">
                  <a:off x="8429400" y="7200"/>
                  <a:ext cx="509760" cy="6851520"/>
                </a:xfrm>
                <a:custGeom>
                  <a:avLst/>
                  <a:gdLst/>
                  <a:ahLst/>
                  <a:rect l="l" t="t" r="r" b="b"/>
                  <a:pathLst>
                    <a:path w="493" h="4323">
                      <a:moveTo>
                        <a:pt x="40" y="7"/>
                      </a:moveTo>
                      <a:cubicBezTo>
                        <a:pt x="33" y="192"/>
                        <a:pt x="50" y="804"/>
                        <a:pt x="44" y="1111"/>
                      </a:cubicBezTo>
                      <a:cubicBezTo>
                        <a:pt x="38" y="1418"/>
                        <a:pt x="12" y="1706"/>
                        <a:pt x="6" y="1852"/>
                      </a:cubicBezTo>
                      <a:cubicBezTo>
                        <a:pt x="0" y="1998"/>
                        <a:pt x="4" y="1959"/>
                        <a:pt x="6" y="1989"/>
                      </a:cubicBezTo>
                      <a:cubicBezTo>
                        <a:pt x="8" y="2019"/>
                        <a:pt x="17" y="2017"/>
                        <a:pt x="20" y="2031"/>
                      </a:cubicBezTo>
                      <a:cubicBezTo>
                        <a:pt x="23" y="2045"/>
                        <a:pt x="26" y="2059"/>
                        <a:pt x="24" y="2075"/>
                      </a:cubicBezTo>
                      <a:cubicBezTo>
                        <a:pt x="22" y="2091"/>
                        <a:pt x="9" y="2102"/>
                        <a:pt x="6" y="2126"/>
                      </a:cubicBezTo>
                      <a:cubicBezTo>
                        <a:pt x="3" y="2150"/>
                        <a:pt x="2" y="2160"/>
                        <a:pt x="6" y="2217"/>
                      </a:cubicBezTo>
                      <a:cubicBezTo>
                        <a:pt x="10" y="2274"/>
                        <a:pt x="25" y="2332"/>
                        <a:pt x="28" y="2471"/>
                      </a:cubicBezTo>
                      <a:cubicBezTo>
                        <a:pt x="31" y="2610"/>
                        <a:pt x="24" y="2742"/>
                        <a:pt x="24" y="3051"/>
                      </a:cubicBezTo>
                      <a:cubicBezTo>
                        <a:pt x="24" y="3360"/>
                        <a:pt x="19" y="4112"/>
                        <a:pt x="28" y="4323"/>
                      </a:cubicBezTo>
                      <a:lnTo>
                        <a:pt x="80" y="4319"/>
                      </a:lnTo>
                      <a:cubicBezTo>
                        <a:pt x="90" y="4148"/>
                        <a:pt x="87" y="3611"/>
                        <a:pt x="88" y="3295"/>
                      </a:cubicBezTo>
                      <a:cubicBezTo>
                        <a:pt x="89" y="2979"/>
                        <a:pt x="89" y="2603"/>
                        <a:pt x="84" y="2423"/>
                      </a:cubicBezTo>
                      <a:cubicBezTo>
                        <a:pt x="92" y="2347"/>
                        <a:pt x="69" y="2269"/>
                        <a:pt x="60" y="2215"/>
                      </a:cubicBezTo>
                      <a:cubicBezTo>
                        <a:pt x="52" y="2155"/>
                        <a:pt x="48" y="2117"/>
                        <a:pt x="92" y="2107"/>
                      </a:cubicBezTo>
                      <a:cubicBezTo>
                        <a:pt x="134" y="2093"/>
                        <a:pt x="190" y="2088"/>
                        <a:pt x="240" y="2091"/>
                      </a:cubicBezTo>
                      <a:cubicBezTo>
                        <a:pt x="289" y="2088"/>
                        <a:pt x="353" y="2084"/>
                        <a:pt x="384" y="2091"/>
                      </a:cubicBezTo>
                      <a:cubicBezTo>
                        <a:pt x="415" y="2098"/>
                        <a:pt x="421" y="2110"/>
                        <a:pt x="428" y="2135"/>
                      </a:cubicBezTo>
                      <a:cubicBezTo>
                        <a:pt x="435" y="2160"/>
                        <a:pt x="425" y="2207"/>
                        <a:pt x="424" y="2243"/>
                      </a:cubicBezTo>
                      <a:cubicBezTo>
                        <a:pt x="423" y="2279"/>
                        <a:pt x="423" y="2308"/>
                        <a:pt x="420" y="2351"/>
                      </a:cubicBezTo>
                      <a:cubicBezTo>
                        <a:pt x="411" y="2398"/>
                        <a:pt x="412" y="2175"/>
                        <a:pt x="408" y="2503"/>
                      </a:cubicBezTo>
                      <a:cubicBezTo>
                        <a:pt x="404" y="2831"/>
                        <a:pt x="384" y="4018"/>
                        <a:pt x="395" y="4320"/>
                      </a:cubicBezTo>
                      <a:lnTo>
                        <a:pt x="476" y="4317"/>
                      </a:lnTo>
                      <a:cubicBezTo>
                        <a:pt x="486" y="4201"/>
                        <a:pt x="460" y="3927"/>
                        <a:pt x="459" y="3621"/>
                      </a:cubicBezTo>
                      <a:cubicBezTo>
                        <a:pt x="458" y="3315"/>
                        <a:pt x="462" y="2720"/>
                        <a:pt x="468" y="2479"/>
                      </a:cubicBezTo>
                      <a:cubicBezTo>
                        <a:pt x="464" y="2335"/>
                        <a:pt x="493" y="2225"/>
                        <a:pt x="493" y="2172"/>
                      </a:cubicBezTo>
                      <a:cubicBezTo>
                        <a:pt x="493" y="2118"/>
                        <a:pt x="480" y="2107"/>
                        <a:pt x="468" y="2055"/>
                      </a:cubicBezTo>
                      <a:cubicBezTo>
                        <a:pt x="490" y="2034"/>
                        <a:pt x="484" y="2030"/>
                        <a:pt x="487" y="1989"/>
                      </a:cubicBezTo>
                      <a:cubicBezTo>
                        <a:pt x="490" y="1948"/>
                        <a:pt x="492" y="1967"/>
                        <a:pt x="487" y="1807"/>
                      </a:cubicBezTo>
                      <a:cubicBezTo>
                        <a:pt x="482" y="1647"/>
                        <a:pt x="458" y="1332"/>
                        <a:pt x="456" y="1031"/>
                      </a:cubicBezTo>
                      <a:cubicBezTo>
                        <a:pt x="454" y="730"/>
                        <a:pt x="479" y="171"/>
                        <a:pt x="472" y="0"/>
                      </a:cubicBezTo>
                      <a:lnTo>
                        <a:pt x="416" y="3"/>
                      </a:lnTo>
                      <a:cubicBezTo>
                        <a:pt x="406" y="91"/>
                        <a:pt x="414" y="377"/>
                        <a:pt x="412" y="531"/>
                      </a:cubicBezTo>
                      <a:cubicBezTo>
                        <a:pt x="410" y="685"/>
                        <a:pt x="403" y="749"/>
                        <a:pt x="404" y="927"/>
                      </a:cubicBezTo>
                      <a:cubicBezTo>
                        <a:pt x="405" y="1105"/>
                        <a:pt x="415" y="1426"/>
                        <a:pt x="420" y="1599"/>
                      </a:cubicBezTo>
                      <a:cubicBezTo>
                        <a:pt x="425" y="1772"/>
                        <a:pt x="439" y="1891"/>
                        <a:pt x="436" y="1963"/>
                      </a:cubicBezTo>
                      <a:cubicBezTo>
                        <a:pt x="432" y="1987"/>
                        <a:pt x="441" y="2024"/>
                        <a:pt x="400" y="2031"/>
                      </a:cubicBezTo>
                      <a:cubicBezTo>
                        <a:pt x="373" y="2044"/>
                        <a:pt x="295" y="2012"/>
                        <a:pt x="244" y="2011"/>
                      </a:cubicBezTo>
                      <a:cubicBezTo>
                        <a:pt x="193" y="2010"/>
                        <a:pt x="128" y="2049"/>
                        <a:pt x="96" y="2023"/>
                      </a:cubicBezTo>
                      <a:cubicBezTo>
                        <a:pt x="64" y="1997"/>
                        <a:pt x="55" y="1962"/>
                        <a:pt x="54" y="1852"/>
                      </a:cubicBezTo>
                      <a:cubicBezTo>
                        <a:pt x="53" y="1742"/>
                        <a:pt x="82" y="1574"/>
                        <a:pt x="88" y="1363"/>
                      </a:cubicBezTo>
                      <a:cubicBezTo>
                        <a:pt x="94" y="1152"/>
                        <a:pt x="92" y="814"/>
                        <a:pt x="92" y="587"/>
                      </a:cubicBezTo>
                      <a:cubicBezTo>
                        <a:pt x="92" y="360"/>
                        <a:pt x="97" y="100"/>
                        <a:pt x="88" y="3"/>
                      </a:cubicBezTo>
                      <a:lnTo>
                        <a:pt x="40" y="7"/>
                      </a:ln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 flipV="1">
                  <a:off x="8695080" y="3960"/>
                  <a:ext cx="113400" cy="3491640"/>
                </a:xfrm>
                <a:custGeom>
                  <a:avLst/>
                  <a:gdLst/>
                  <a:ahLst/>
                  <a:rect l="l" t="t" r="r" b="b"/>
                  <a:pathLst>
                    <a:path w="110" h="2131">
                      <a:moveTo>
                        <a:pt x="27" y="477"/>
                      </a:moveTo>
                      <a:cubicBezTo>
                        <a:pt x="24" y="266"/>
                        <a:pt x="26" y="283"/>
                        <a:pt x="23" y="217"/>
                      </a:cubicBezTo>
                      <a:cubicBezTo>
                        <a:pt x="20" y="151"/>
                        <a:pt x="14" y="112"/>
                        <a:pt x="11" y="81"/>
                      </a:cubicBezTo>
                      <a:cubicBezTo>
                        <a:pt x="8" y="50"/>
                        <a:pt x="0" y="42"/>
                        <a:pt x="3" y="29"/>
                      </a:cubicBezTo>
                      <a:cubicBezTo>
                        <a:pt x="6" y="16"/>
                        <a:pt x="18" y="9"/>
                        <a:pt x="31" y="5"/>
                      </a:cubicBezTo>
                      <a:cubicBezTo>
                        <a:pt x="44" y="1"/>
                        <a:pt x="71" y="0"/>
                        <a:pt x="83" y="5"/>
                      </a:cubicBezTo>
                      <a:cubicBezTo>
                        <a:pt x="95" y="10"/>
                        <a:pt x="99" y="12"/>
                        <a:pt x="103" y="33"/>
                      </a:cubicBezTo>
                      <a:cubicBezTo>
                        <a:pt x="107" y="54"/>
                        <a:pt x="110" y="77"/>
                        <a:pt x="107" y="133"/>
                      </a:cubicBezTo>
                      <a:cubicBezTo>
                        <a:pt x="104" y="189"/>
                        <a:pt x="90" y="249"/>
                        <a:pt x="87" y="369"/>
                      </a:cubicBezTo>
                      <a:cubicBezTo>
                        <a:pt x="84" y="489"/>
                        <a:pt x="88" y="646"/>
                        <a:pt x="87" y="853"/>
                      </a:cubicBezTo>
                      <a:cubicBezTo>
                        <a:pt x="86" y="1060"/>
                        <a:pt x="79" y="1414"/>
                        <a:pt x="79" y="1613"/>
                      </a:cubicBezTo>
                      <a:cubicBezTo>
                        <a:pt x="79" y="1812"/>
                        <a:pt x="87" y="1959"/>
                        <a:pt x="87" y="2045"/>
                      </a:cubicBezTo>
                      <a:cubicBezTo>
                        <a:pt x="87" y="2131"/>
                        <a:pt x="87" y="2115"/>
                        <a:pt x="79" y="2129"/>
                      </a:cubicBezTo>
                      <a:lnTo>
                        <a:pt x="39" y="2129"/>
                      </a:lnTo>
                      <a:cubicBezTo>
                        <a:pt x="32" y="2021"/>
                        <a:pt x="42" y="1757"/>
                        <a:pt x="39" y="1481"/>
                      </a:cubicBezTo>
                      <a:cubicBezTo>
                        <a:pt x="36" y="1205"/>
                        <a:pt x="30" y="688"/>
                        <a:pt x="27" y="477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" name=""/>
              <p:cNvGrpSpPr/>
              <p:nvPr/>
            </p:nvGrpSpPr>
            <p:grpSpPr>
              <a:xfrm>
                <a:off x="1790640" y="6120"/>
                <a:ext cx="611280" cy="6848280"/>
                <a:chOff x="1790640" y="6120"/>
                <a:chExt cx="611280" cy="68482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1816200" y="6120"/>
                  <a:ext cx="585720" cy="4150800"/>
                </a:xfrm>
                <a:custGeom>
                  <a:avLst/>
                  <a:gdLst/>
                  <a:ahLst/>
                  <a:rect l="l" t="t" r="r" b="b"/>
                  <a:pathLst>
                    <a:path w="369" h="2611">
                      <a:moveTo>
                        <a:pt x="22" y="0"/>
                      </a:moveTo>
                      <a:lnTo>
                        <a:pt x="14" y="1622"/>
                      </a:lnTo>
                      <a:cubicBezTo>
                        <a:pt x="14" y="1622"/>
                        <a:pt x="10" y="2084"/>
                        <a:pt x="6" y="2547"/>
                      </a:cubicBezTo>
                      <a:cubicBezTo>
                        <a:pt x="0" y="2588"/>
                        <a:pt x="8" y="2597"/>
                        <a:pt x="38" y="2604"/>
                      </a:cubicBezTo>
                      <a:cubicBezTo>
                        <a:pt x="68" y="2611"/>
                        <a:pt x="134" y="2589"/>
                        <a:pt x="184" y="2588"/>
                      </a:cubicBezTo>
                      <a:cubicBezTo>
                        <a:pt x="234" y="2587"/>
                        <a:pt x="309" y="2605"/>
                        <a:pt x="339" y="2596"/>
                      </a:cubicBezTo>
                      <a:cubicBezTo>
                        <a:pt x="369" y="2587"/>
                        <a:pt x="366" y="2567"/>
                        <a:pt x="363" y="2531"/>
                      </a:cubicBezTo>
                      <a:cubicBezTo>
                        <a:pt x="363" y="2378"/>
                        <a:pt x="343" y="2101"/>
                        <a:pt x="339" y="1679"/>
                      </a:cubicBezTo>
                      <a:lnTo>
                        <a:pt x="339" y="0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1960560" y="3460680"/>
                  <a:ext cx="398520" cy="619920"/>
                </a:xfrm>
                <a:custGeom>
                  <a:avLst/>
                  <a:gdLst/>
                  <a:ahLst/>
                  <a:rect l="l" t="t" r="r" b="b"/>
                  <a:pathLst>
                    <a:path w="251" h="390">
                      <a:moveTo>
                        <a:pt x="32" y="379"/>
                      </a:moveTo>
                      <a:cubicBezTo>
                        <a:pt x="43" y="377"/>
                        <a:pt x="57" y="366"/>
                        <a:pt x="77" y="364"/>
                      </a:cubicBezTo>
                      <a:cubicBezTo>
                        <a:pt x="97" y="362"/>
                        <a:pt x="130" y="366"/>
                        <a:pt x="152" y="370"/>
                      </a:cubicBezTo>
                      <a:cubicBezTo>
                        <a:pt x="174" y="374"/>
                        <a:pt x="194" y="386"/>
                        <a:pt x="209" y="388"/>
                      </a:cubicBezTo>
                      <a:cubicBezTo>
                        <a:pt x="224" y="390"/>
                        <a:pt x="235" y="389"/>
                        <a:pt x="242" y="379"/>
                      </a:cubicBezTo>
                      <a:cubicBezTo>
                        <a:pt x="249" y="369"/>
                        <a:pt x="251" y="362"/>
                        <a:pt x="248" y="328"/>
                      </a:cubicBezTo>
                      <a:cubicBezTo>
                        <a:pt x="245" y="294"/>
                        <a:pt x="236" y="208"/>
                        <a:pt x="227" y="175"/>
                      </a:cubicBezTo>
                      <a:cubicBezTo>
                        <a:pt x="218" y="142"/>
                        <a:pt x="202" y="110"/>
                        <a:pt x="194" y="130"/>
                      </a:cubicBezTo>
                      <a:cubicBezTo>
                        <a:pt x="186" y="150"/>
                        <a:pt x="186" y="266"/>
                        <a:pt x="179" y="295"/>
                      </a:cubicBezTo>
                      <a:cubicBezTo>
                        <a:pt x="172" y="324"/>
                        <a:pt x="159" y="329"/>
                        <a:pt x="152" y="307"/>
                      </a:cubicBezTo>
                      <a:cubicBezTo>
                        <a:pt x="145" y="285"/>
                        <a:pt x="149" y="212"/>
                        <a:pt x="134" y="163"/>
                      </a:cubicBezTo>
                      <a:cubicBezTo>
                        <a:pt x="119" y="114"/>
                        <a:pt x="82" y="26"/>
                        <a:pt x="65" y="13"/>
                      </a:cubicBezTo>
                      <a:cubicBezTo>
                        <a:pt x="48" y="0"/>
                        <a:pt x="35" y="42"/>
                        <a:pt x="29" y="85"/>
                      </a:cubicBezTo>
                      <a:cubicBezTo>
                        <a:pt x="23" y="128"/>
                        <a:pt x="30" y="229"/>
                        <a:pt x="26" y="271"/>
                      </a:cubicBezTo>
                      <a:cubicBezTo>
                        <a:pt x="22" y="313"/>
                        <a:pt x="4" y="319"/>
                        <a:pt x="2" y="337"/>
                      </a:cubicBezTo>
                      <a:cubicBezTo>
                        <a:pt x="0" y="355"/>
                        <a:pt x="5" y="373"/>
                        <a:pt x="11" y="379"/>
                      </a:cubicBezTo>
                      <a:cubicBezTo>
                        <a:pt x="17" y="385"/>
                        <a:pt x="21" y="381"/>
                        <a:pt x="32" y="379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d5e3c3"/>
                    </a:gs>
                    <a:gs pos="100000">
                      <a:srgbClr val="e5eed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1790640" y="4129920"/>
                  <a:ext cx="600120" cy="2724480"/>
                </a:xfrm>
                <a:custGeom>
                  <a:avLst/>
                  <a:gdLst/>
                  <a:ahLst/>
                  <a:rect l="l" t="t" r="r" b="b"/>
                  <a:pathLst>
                    <a:path w="378" h="1714">
                      <a:moveTo>
                        <a:pt x="0" y="1714"/>
                      </a:moveTo>
                      <a:cubicBezTo>
                        <a:pt x="15" y="1400"/>
                        <a:pt x="10" y="693"/>
                        <a:pt x="15" y="420"/>
                      </a:cubicBezTo>
                      <a:cubicBezTo>
                        <a:pt x="18" y="145"/>
                        <a:pt x="8" y="126"/>
                        <a:pt x="19" y="63"/>
                      </a:cubicBezTo>
                      <a:cubicBezTo>
                        <a:pt x="30" y="0"/>
                        <a:pt x="49" y="46"/>
                        <a:pt x="79" y="39"/>
                      </a:cubicBezTo>
                      <a:cubicBezTo>
                        <a:pt x="109" y="32"/>
                        <a:pt x="157" y="21"/>
                        <a:pt x="202" y="18"/>
                      </a:cubicBezTo>
                      <a:cubicBezTo>
                        <a:pt x="268" y="33"/>
                        <a:pt x="324" y="6"/>
                        <a:pt x="351" y="23"/>
                      </a:cubicBezTo>
                      <a:cubicBezTo>
                        <a:pt x="378" y="40"/>
                        <a:pt x="370" y="51"/>
                        <a:pt x="366" y="120"/>
                      </a:cubicBezTo>
                      <a:cubicBezTo>
                        <a:pt x="367" y="240"/>
                        <a:pt x="362" y="475"/>
                        <a:pt x="359" y="741"/>
                      </a:cubicBezTo>
                      <a:cubicBezTo>
                        <a:pt x="356" y="1007"/>
                        <a:pt x="351" y="1430"/>
                        <a:pt x="351" y="1714"/>
                      </a:cubicBezTo>
                      <a:cubicBezTo>
                        <a:pt x="351" y="1714"/>
                        <a:pt x="0" y="1714"/>
                        <a:pt x="0" y="1714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1989000" y="4207680"/>
                  <a:ext cx="231840" cy="244440"/>
                </a:xfrm>
                <a:custGeom>
                  <a:avLst/>
                  <a:gdLst/>
                  <a:ahLst/>
                  <a:rect l="l" t="t" r="r" b="b"/>
                  <a:pathLst>
                    <a:path w="146" h="154">
                      <a:moveTo>
                        <a:pt x="14" y="11"/>
                      </a:moveTo>
                      <a:cubicBezTo>
                        <a:pt x="28" y="2"/>
                        <a:pt x="71" y="2"/>
                        <a:pt x="92" y="2"/>
                      </a:cubicBezTo>
                      <a:cubicBezTo>
                        <a:pt x="113" y="2"/>
                        <a:pt x="134" y="0"/>
                        <a:pt x="140" y="14"/>
                      </a:cubicBezTo>
                      <a:cubicBezTo>
                        <a:pt x="146" y="28"/>
                        <a:pt x="132" y="67"/>
                        <a:pt x="128" y="89"/>
                      </a:cubicBezTo>
                      <a:cubicBezTo>
                        <a:pt x="124" y="111"/>
                        <a:pt x="125" y="138"/>
                        <a:pt x="116" y="146"/>
                      </a:cubicBezTo>
                      <a:cubicBezTo>
                        <a:pt x="107" y="154"/>
                        <a:pt x="88" y="137"/>
                        <a:pt x="74" y="134"/>
                      </a:cubicBezTo>
                      <a:cubicBezTo>
                        <a:pt x="60" y="131"/>
                        <a:pt x="44" y="141"/>
                        <a:pt x="32" y="128"/>
                      </a:cubicBezTo>
                      <a:cubicBezTo>
                        <a:pt x="20" y="115"/>
                        <a:pt x="8" y="75"/>
                        <a:pt x="5" y="56"/>
                      </a:cubicBezTo>
                      <a:cubicBezTo>
                        <a:pt x="2" y="37"/>
                        <a:pt x="0" y="20"/>
                        <a:pt x="14" y="1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e5eeda"/>
                    </a:gs>
                    <a:gs pos="100000">
                      <a:srgbClr val="d5e3c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5" name=""/>
              <p:cNvGrpSpPr/>
              <p:nvPr/>
            </p:nvGrpSpPr>
            <p:grpSpPr>
              <a:xfrm>
                <a:off x="677880" y="4680"/>
                <a:ext cx="639720" cy="6854760"/>
                <a:chOff x="677880" y="4680"/>
                <a:chExt cx="639720" cy="68547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77880" y="4680"/>
                  <a:ext cx="639720" cy="6851520"/>
                </a:xfrm>
                <a:custGeom>
                  <a:avLst/>
                  <a:gdLst/>
                  <a:ahLst/>
                  <a:rect l="l" t="t" r="r" b="b"/>
                  <a:pathLst>
                    <a:path w="493" h="4316">
                      <a:moveTo>
                        <a:pt x="40" y="0"/>
                      </a:moveTo>
                      <a:cubicBezTo>
                        <a:pt x="33" y="185"/>
                        <a:pt x="50" y="797"/>
                        <a:pt x="44" y="1104"/>
                      </a:cubicBezTo>
                      <a:cubicBezTo>
                        <a:pt x="38" y="1411"/>
                        <a:pt x="12" y="1699"/>
                        <a:pt x="6" y="1845"/>
                      </a:cubicBezTo>
                      <a:cubicBezTo>
                        <a:pt x="0" y="1991"/>
                        <a:pt x="4" y="1952"/>
                        <a:pt x="6" y="1982"/>
                      </a:cubicBezTo>
                      <a:cubicBezTo>
                        <a:pt x="8" y="2012"/>
                        <a:pt x="17" y="2010"/>
                        <a:pt x="20" y="2024"/>
                      </a:cubicBezTo>
                      <a:cubicBezTo>
                        <a:pt x="23" y="2038"/>
                        <a:pt x="26" y="2052"/>
                        <a:pt x="24" y="2068"/>
                      </a:cubicBezTo>
                      <a:cubicBezTo>
                        <a:pt x="22" y="2084"/>
                        <a:pt x="9" y="2095"/>
                        <a:pt x="6" y="2119"/>
                      </a:cubicBezTo>
                      <a:cubicBezTo>
                        <a:pt x="3" y="2143"/>
                        <a:pt x="2" y="2153"/>
                        <a:pt x="6" y="2210"/>
                      </a:cubicBezTo>
                      <a:cubicBezTo>
                        <a:pt x="10" y="2267"/>
                        <a:pt x="25" y="2325"/>
                        <a:pt x="28" y="2464"/>
                      </a:cubicBezTo>
                      <a:cubicBezTo>
                        <a:pt x="31" y="2603"/>
                        <a:pt x="24" y="2735"/>
                        <a:pt x="24" y="3044"/>
                      </a:cubicBezTo>
                      <a:cubicBezTo>
                        <a:pt x="24" y="3353"/>
                        <a:pt x="19" y="4105"/>
                        <a:pt x="28" y="4316"/>
                      </a:cubicBezTo>
                      <a:lnTo>
                        <a:pt x="80" y="4312"/>
                      </a:lnTo>
                      <a:cubicBezTo>
                        <a:pt x="90" y="4141"/>
                        <a:pt x="87" y="3604"/>
                        <a:pt x="88" y="3288"/>
                      </a:cubicBezTo>
                      <a:cubicBezTo>
                        <a:pt x="89" y="2972"/>
                        <a:pt x="89" y="2596"/>
                        <a:pt x="84" y="2416"/>
                      </a:cubicBezTo>
                      <a:cubicBezTo>
                        <a:pt x="92" y="2340"/>
                        <a:pt x="69" y="2262"/>
                        <a:pt x="60" y="2208"/>
                      </a:cubicBezTo>
                      <a:cubicBezTo>
                        <a:pt x="52" y="2148"/>
                        <a:pt x="48" y="2110"/>
                        <a:pt x="92" y="2100"/>
                      </a:cubicBezTo>
                      <a:cubicBezTo>
                        <a:pt x="134" y="2086"/>
                        <a:pt x="190" y="2081"/>
                        <a:pt x="240" y="2084"/>
                      </a:cubicBezTo>
                      <a:cubicBezTo>
                        <a:pt x="289" y="2081"/>
                        <a:pt x="353" y="2077"/>
                        <a:pt x="384" y="2084"/>
                      </a:cubicBezTo>
                      <a:cubicBezTo>
                        <a:pt x="415" y="2091"/>
                        <a:pt x="421" y="2103"/>
                        <a:pt x="428" y="2128"/>
                      </a:cubicBezTo>
                      <a:cubicBezTo>
                        <a:pt x="435" y="2153"/>
                        <a:pt x="425" y="2200"/>
                        <a:pt x="424" y="2236"/>
                      </a:cubicBezTo>
                      <a:cubicBezTo>
                        <a:pt x="423" y="2272"/>
                        <a:pt x="423" y="2301"/>
                        <a:pt x="420" y="2344"/>
                      </a:cubicBezTo>
                      <a:cubicBezTo>
                        <a:pt x="411" y="2391"/>
                        <a:pt x="412" y="2168"/>
                        <a:pt x="408" y="2496"/>
                      </a:cubicBezTo>
                      <a:cubicBezTo>
                        <a:pt x="404" y="2824"/>
                        <a:pt x="384" y="4011"/>
                        <a:pt x="395" y="4313"/>
                      </a:cubicBezTo>
                      <a:lnTo>
                        <a:pt x="476" y="4310"/>
                      </a:lnTo>
                      <a:cubicBezTo>
                        <a:pt x="486" y="4194"/>
                        <a:pt x="460" y="3920"/>
                        <a:pt x="459" y="3614"/>
                      </a:cubicBezTo>
                      <a:cubicBezTo>
                        <a:pt x="458" y="3308"/>
                        <a:pt x="462" y="2713"/>
                        <a:pt x="468" y="2472"/>
                      </a:cubicBezTo>
                      <a:cubicBezTo>
                        <a:pt x="464" y="2328"/>
                        <a:pt x="493" y="2218"/>
                        <a:pt x="493" y="2165"/>
                      </a:cubicBezTo>
                      <a:cubicBezTo>
                        <a:pt x="493" y="2111"/>
                        <a:pt x="480" y="2100"/>
                        <a:pt x="468" y="2048"/>
                      </a:cubicBezTo>
                      <a:cubicBezTo>
                        <a:pt x="490" y="2027"/>
                        <a:pt x="484" y="2023"/>
                        <a:pt x="487" y="1982"/>
                      </a:cubicBezTo>
                      <a:cubicBezTo>
                        <a:pt x="490" y="1941"/>
                        <a:pt x="492" y="1960"/>
                        <a:pt x="487" y="1800"/>
                      </a:cubicBezTo>
                      <a:cubicBezTo>
                        <a:pt x="482" y="1640"/>
                        <a:pt x="459" y="1324"/>
                        <a:pt x="456" y="1024"/>
                      </a:cubicBezTo>
                      <a:cubicBezTo>
                        <a:pt x="453" y="724"/>
                        <a:pt x="474" y="171"/>
                        <a:pt x="468" y="0"/>
                      </a:cubicBezTo>
                      <a:lnTo>
                        <a:pt x="420" y="0"/>
                      </a:lnTo>
                      <a:cubicBezTo>
                        <a:pt x="411" y="87"/>
                        <a:pt x="415" y="371"/>
                        <a:pt x="412" y="524"/>
                      </a:cubicBezTo>
                      <a:cubicBezTo>
                        <a:pt x="409" y="677"/>
                        <a:pt x="403" y="742"/>
                        <a:pt x="404" y="920"/>
                      </a:cubicBezTo>
                      <a:cubicBezTo>
                        <a:pt x="405" y="1098"/>
                        <a:pt x="415" y="1419"/>
                        <a:pt x="420" y="1592"/>
                      </a:cubicBezTo>
                      <a:cubicBezTo>
                        <a:pt x="425" y="1765"/>
                        <a:pt x="439" y="1884"/>
                        <a:pt x="436" y="1956"/>
                      </a:cubicBezTo>
                      <a:cubicBezTo>
                        <a:pt x="432" y="1980"/>
                        <a:pt x="441" y="2017"/>
                        <a:pt x="400" y="2024"/>
                      </a:cubicBezTo>
                      <a:cubicBezTo>
                        <a:pt x="373" y="2037"/>
                        <a:pt x="295" y="2005"/>
                        <a:pt x="244" y="2004"/>
                      </a:cubicBezTo>
                      <a:cubicBezTo>
                        <a:pt x="193" y="2003"/>
                        <a:pt x="128" y="2042"/>
                        <a:pt x="96" y="2016"/>
                      </a:cubicBezTo>
                      <a:cubicBezTo>
                        <a:pt x="64" y="1990"/>
                        <a:pt x="55" y="1955"/>
                        <a:pt x="54" y="1845"/>
                      </a:cubicBezTo>
                      <a:cubicBezTo>
                        <a:pt x="53" y="1735"/>
                        <a:pt x="82" y="1567"/>
                        <a:pt x="88" y="1356"/>
                      </a:cubicBezTo>
                      <a:cubicBezTo>
                        <a:pt x="94" y="1145"/>
                        <a:pt x="93" y="806"/>
                        <a:pt x="92" y="580"/>
                      </a:cubicBezTo>
                      <a:cubicBezTo>
                        <a:pt x="91" y="354"/>
                        <a:pt x="93" y="97"/>
                        <a:pt x="84" y="0"/>
                      </a:cubicBezTo>
                      <a:lnTo>
                        <a:pt x="40" y="0"/>
                      </a:ln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011240" y="3362400"/>
                  <a:ext cx="142560" cy="3497040"/>
                </a:xfrm>
                <a:custGeom>
                  <a:avLst/>
                  <a:gdLst/>
                  <a:ahLst/>
                  <a:rect l="l" t="t" r="r" b="b"/>
                  <a:pathLst>
                    <a:path w="110" h="2131">
                      <a:moveTo>
                        <a:pt x="27" y="477"/>
                      </a:moveTo>
                      <a:cubicBezTo>
                        <a:pt x="24" y="266"/>
                        <a:pt x="26" y="283"/>
                        <a:pt x="23" y="217"/>
                      </a:cubicBezTo>
                      <a:cubicBezTo>
                        <a:pt x="20" y="151"/>
                        <a:pt x="14" y="112"/>
                        <a:pt x="11" y="81"/>
                      </a:cubicBezTo>
                      <a:cubicBezTo>
                        <a:pt x="8" y="50"/>
                        <a:pt x="0" y="42"/>
                        <a:pt x="3" y="29"/>
                      </a:cubicBezTo>
                      <a:cubicBezTo>
                        <a:pt x="6" y="16"/>
                        <a:pt x="18" y="9"/>
                        <a:pt x="31" y="5"/>
                      </a:cubicBezTo>
                      <a:cubicBezTo>
                        <a:pt x="44" y="1"/>
                        <a:pt x="71" y="0"/>
                        <a:pt x="83" y="5"/>
                      </a:cubicBezTo>
                      <a:cubicBezTo>
                        <a:pt x="95" y="10"/>
                        <a:pt x="99" y="12"/>
                        <a:pt x="103" y="33"/>
                      </a:cubicBezTo>
                      <a:cubicBezTo>
                        <a:pt x="107" y="54"/>
                        <a:pt x="110" y="77"/>
                        <a:pt x="107" y="133"/>
                      </a:cubicBezTo>
                      <a:cubicBezTo>
                        <a:pt x="104" y="189"/>
                        <a:pt x="90" y="249"/>
                        <a:pt x="87" y="369"/>
                      </a:cubicBezTo>
                      <a:cubicBezTo>
                        <a:pt x="84" y="489"/>
                        <a:pt x="88" y="646"/>
                        <a:pt x="87" y="853"/>
                      </a:cubicBezTo>
                      <a:cubicBezTo>
                        <a:pt x="86" y="1060"/>
                        <a:pt x="79" y="1414"/>
                        <a:pt x="79" y="1613"/>
                      </a:cubicBezTo>
                      <a:cubicBezTo>
                        <a:pt x="79" y="1812"/>
                        <a:pt x="87" y="1959"/>
                        <a:pt x="87" y="2045"/>
                      </a:cubicBezTo>
                      <a:cubicBezTo>
                        <a:pt x="87" y="2131"/>
                        <a:pt x="87" y="2115"/>
                        <a:pt x="79" y="2129"/>
                      </a:cubicBezTo>
                      <a:lnTo>
                        <a:pt x="39" y="2129"/>
                      </a:lnTo>
                      <a:cubicBezTo>
                        <a:pt x="32" y="2021"/>
                        <a:pt x="42" y="1757"/>
                        <a:pt x="39" y="1481"/>
                      </a:cubicBezTo>
                      <a:cubicBezTo>
                        <a:pt x="36" y="1205"/>
                        <a:pt x="30" y="688"/>
                        <a:pt x="27" y="477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8" name=""/>
              <p:cNvGrpSpPr/>
              <p:nvPr/>
            </p:nvGrpSpPr>
            <p:grpSpPr>
              <a:xfrm>
                <a:off x="4546440" y="0"/>
                <a:ext cx="628920" cy="6854400"/>
                <a:chOff x="4546440" y="0"/>
                <a:chExt cx="628920" cy="6854400"/>
              </a:xfrm>
            </p:grpSpPr>
            <p:sp>
              <p:nvSpPr>
                <p:cNvPr id="149" name=""/>
                <p:cNvSpPr/>
                <p:nvPr/>
              </p:nvSpPr>
              <p:spPr>
                <a:xfrm flipV="1">
                  <a:off x="4546440" y="2520"/>
                  <a:ext cx="628920" cy="6851520"/>
                </a:xfrm>
                <a:custGeom>
                  <a:avLst/>
                  <a:gdLst/>
                  <a:ahLst/>
                  <a:rect l="l" t="t" r="r" b="b"/>
                  <a:pathLst>
                    <a:path w="493" h="4323">
                      <a:moveTo>
                        <a:pt x="40" y="7"/>
                      </a:moveTo>
                      <a:cubicBezTo>
                        <a:pt x="33" y="192"/>
                        <a:pt x="50" y="804"/>
                        <a:pt x="44" y="1111"/>
                      </a:cubicBezTo>
                      <a:cubicBezTo>
                        <a:pt x="38" y="1418"/>
                        <a:pt x="12" y="1706"/>
                        <a:pt x="6" y="1852"/>
                      </a:cubicBezTo>
                      <a:cubicBezTo>
                        <a:pt x="0" y="1998"/>
                        <a:pt x="4" y="1959"/>
                        <a:pt x="6" y="1989"/>
                      </a:cubicBezTo>
                      <a:cubicBezTo>
                        <a:pt x="8" y="2019"/>
                        <a:pt x="17" y="2017"/>
                        <a:pt x="20" y="2031"/>
                      </a:cubicBezTo>
                      <a:cubicBezTo>
                        <a:pt x="23" y="2045"/>
                        <a:pt x="26" y="2059"/>
                        <a:pt x="24" y="2075"/>
                      </a:cubicBezTo>
                      <a:cubicBezTo>
                        <a:pt x="22" y="2091"/>
                        <a:pt x="9" y="2102"/>
                        <a:pt x="6" y="2126"/>
                      </a:cubicBezTo>
                      <a:cubicBezTo>
                        <a:pt x="3" y="2150"/>
                        <a:pt x="2" y="2160"/>
                        <a:pt x="6" y="2217"/>
                      </a:cubicBezTo>
                      <a:cubicBezTo>
                        <a:pt x="10" y="2274"/>
                        <a:pt x="25" y="2332"/>
                        <a:pt x="28" y="2471"/>
                      </a:cubicBezTo>
                      <a:cubicBezTo>
                        <a:pt x="31" y="2610"/>
                        <a:pt x="24" y="2742"/>
                        <a:pt x="24" y="3051"/>
                      </a:cubicBezTo>
                      <a:cubicBezTo>
                        <a:pt x="24" y="3360"/>
                        <a:pt x="19" y="4112"/>
                        <a:pt x="28" y="4323"/>
                      </a:cubicBezTo>
                      <a:lnTo>
                        <a:pt x="80" y="4319"/>
                      </a:lnTo>
                      <a:cubicBezTo>
                        <a:pt x="90" y="4148"/>
                        <a:pt x="87" y="3611"/>
                        <a:pt x="88" y="3295"/>
                      </a:cubicBezTo>
                      <a:cubicBezTo>
                        <a:pt x="89" y="2979"/>
                        <a:pt x="89" y="2603"/>
                        <a:pt x="84" y="2423"/>
                      </a:cubicBezTo>
                      <a:cubicBezTo>
                        <a:pt x="92" y="2347"/>
                        <a:pt x="69" y="2269"/>
                        <a:pt x="60" y="2215"/>
                      </a:cubicBezTo>
                      <a:cubicBezTo>
                        <a:pt x="52" y="2155"/>
                        <a:pt x="48" y="2117"/>
                        <a:pt x="92" y="2107"/>
                      </a:cubicBezTo>
                      <a:cubicBezTo>
                        <a:pt x="134" y="2093"/>
                        <a:pt x="190" y="2088"/>
                        <a:pt x="240" y="2091"/>
                      </a:cubicBezTo>
                      <a:cubicBezTo>
                        <a:pt x="289" y="2088"/>
                        <a:pt x="353" y="2084"/>
                        <a:pt x="384" y="2091"/>
                      </a:cubicBezTo>
                      <a:cubicBezTo>
                        <a:pt x="415" y="2098"/>
                        <a:pt x="421" y="2110"/>
                        <a:pt x="428" y="2135"/>
                      </a:cubicBezTo>
                      <a:cubicBezTo>
                        <a:pt x="435" y="2160"/>
                        <a:pt x="425" y="2207"/>
                        <a:pt x="424" y="2243"/>
                      </a:cubicBezTo>
                      <a:cubicBezTo>
                        <a:pt x="423" y="2279"/>
                        <a:pt x="423" y="2308"/>
                        <a:pt x="420" y="2351"/>
                      </a:cubicBezTo>
                      <a:cubicBezTo>
                        <a:pt x="411" y="2398"/>
                        <a:pt x="412" y="2175"/>
                        <a:pt x="408" y="2503"/>
                      </a:cubicBezTo>
                      <a:cubicBezTo>
                        <a:pt x="404" y="2831"/>
                        <a:pt x="384" y="4018"/>
                        <a:pt x="395" y="4320"/>
                      </a:cubicBezTo>
                      <a:lnTo>
                        <a:pt x="476" y="4317"/>
                      </a:lnTo>
                      <a:cubicBezTo>
                        <a:pt x="486" y="4201"/>
                        <a:pt x="460" y="3927"/>
                        <a:pt x="459" y="3621"/>
                      </a:cubicBezTo>
                      <a:cubicBezTo>
                        <a:pt x="458" y="3315"/>
                        <a:pt x="462" y="2720"/>
                        <a:pt x="468" y="2479"/>
                      </a:cubicBezTo>
                      <a:cubicBezTo>
                        <a:pt x="464" y="2335"/>
                        <a:pt x="493" y="2225"/>
                        <a:pt x="493" y="2172"/>
                      </a:cubicBezTo>
                      <a:cubicBezTo>
                        <a:pt x="493" y="2118"/>
                        <a:pt x="480" y="2107"/>
                        <a:pt x="468" y="2055"/>
                      </a:cubicBezTo>
                      <a:cubicBezTo>
                        <a:pt x="490" y="2034"/>
                        <a:pt x="484" y="2030"/>
                        <a:pt x="487" y="1989"/>
                      </a:cubicBezTo>
                      <a:cubicBezTo>
                        <a:pt x="490" y="1948"/>
                        <a:pt x="492" y="1967"/>
                        <a:pt x="487" y="1807"/>
                      </a:cubicBezTo>
                      <a:cubicBezTo>
                        <a:pt x="482" y="1647"/>
                        <a:pt x="458" y="1332"/>
                        <a:pt x="456" y="1031"/>
                      </a:cubicBezTo>
                      <a:cubicBezTo>
                        <a:pt x="454" y="730"/>
                        <a:pt x="479" y="171"/>
                        <a:pt x="472" y="0"/>
                      </a:cubicBezTo>
                      <a:lnTo>
                        <a:pt x="416" y="3"/>
                      </a:lnTo>
                      <a:cubicBezTo>
                        <a:pt x="406" y="91"/>
                        <a:pt x="414" y="377"/>
                        <a:pt x="412" y="531"/>
                      </a:cubicBezTo>
                      <a:cubicBezTo>
                        <a:pt x="410" y="685"/>
                        <a:pt x="403" y="749"/>
                        <a:pt x="404" y="927"/>
                      </a:cubicBezTo>
                      <a:cubicBezTo>
                        <a:pt x="405" y="1105"/>
                        <a:pt x="415" y="1426"/>
                        <a:pt x="420" y="1599"/>
                      </a:cubicBezTo>
                      <a:cubicBezTo>
                        <a:pt x="425" y="1772"/>
                        <a:pt x="439" y="1891"/>
                        <a:pt x="436" y="1963"/>
                      </a:cubicBezTo>
                      <a:cubicBezTo>
                        <a:pt x="432" y="1987"/>
                        <a:pt x="441" y="2024"/>
                        <a:pt x="400" y="2031"/>
                      </a:cubicBezTo>
                      <a:cubicBezTo>
                        <a:pt x="373" y="2044"/>
                        <a:pt x="295" y="2012"/>
                        <a:pt x="244" y="2011"/>
                      </a:cubicBezTo>
                      <a:cubicBezTo>
                        <a:pt x="193" y="2010"/>
                        <a:pt x="128" y="2049"/>
                        <a:pt x="96" y="2023"/>
                      </a:cubicBezTo>
                      <a:cubicBezTo>
                        <a:pt x="64" y="1997"/>
                        <a:pt x="55" y="1962"/>
                        <a:pt x="54" y="1852"/>
                      </a:cubicBezTo>
                      <a:cubicBezTo>
                        <a:pt x="53" y="1742"/>
                        <a:pt x="82" y="1574"/>
                        <a:pt x="88" y="1363"/>
                      </a:cubicBezTo>
                      <a:cubicBezTo>
                        <a:pt x="94" y="1152"/>
                        <a:pt x="92" y="814"/>
                        <a:pt x="92" y="587"/>
                      </a:cubicBezTo>
                      <a:cubicBezTo>
                        <a:pt x="92" y="360"/>
                        <a:pt x="97" y="100"/>
                        <a:pt x="88" y="3"/>
                      </a:cubicBezTo>
                      <a:lnTo>
                        <a:pt x="40" y="7"/>
                      </a:ln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 flipV="1">
                  <a:off x="4874400" y="-360"/>
                  <a:ext cx="140040" cy="3491640"/>
                </a:xfrm>
                <a:custGeom>
                  <a:avLst/>
                  <a:gdLst/>
                  <a:ahLst/>
                  <a:rect l="l" t="t" r="r" b="b"/>
                  <a:pathLst>
                    <a:path w="110" h="2131">
                      <a:moveTo>
                        <a:pt x="27" y="477"/>
                      </a:moveTo>
                      <a:cubicBezTo>
                        <a:pt x="24" y="266"/>
                        <a:pt x="26" y="283"/>
                        <a:pt x="23" y="217"/>
                      </a:cubicBezTo>
                      <a:cubicBezTo>
                        <a:pt x="20" y="151"/>
                        <a:pt x="14" y="112"/>
                        <a:pt x="11" y="81"/>
                      </a:cubicBezTo>
                      <a:cubicBezTo>
                        <a:pt x="8" y="50"/>
                        <a:pt x="0" y="42"/>
                        <a:pt x="3" y="29"/>
                      </a:cubicBezTo>
                      <a:cubicBezTo>
                        <a:pt x="6" y="16"/>
                        <a:pt x="18" y="9"/>
                        <a:pt x="31" y="5"/>
                      </a:cubicBezTo>
                      <a:cubicBezTo>
                        <a:pt x="44" y="1"/>
                        <a:pt x="71" y="0"/>
                        <a:pt x="83" y="5"/>
                      </a:cubicBezTo>
                      <a:cubicBezTo>
                        <a:pt x="95" y="10"/>
                        <a:pt x="99" y="12"/>
                        <a:pt x="103" y="33"/>
                      </a:cubicBezTo>
                      <a:cubicBezTo>
                        <a:pt x="107" y="54"/>
                        <a:pt x="110" y="77"/>
                        <a:pt x="107" y="133"/>
                      </a:cubicBezTo>
                      <a:cubicBezTo>
                        <a:pt x="104" y="189"/>
                        <a:pt x="90" y="249"/>
                        <a:pt x="87" y="369"/>
                      </a:cubicBezTo>
                      <a:cubicBezTo>
                        <a:pt x="84" y="489"/>
                        <a:pt x="88" y="646"/>
                        <a:pt x="87" y="853"/>
                      </a:cubicBezTo>
                      <a:cubicBezTo>
                        <a:pt x="86" y="1060"/>
                        <a:pt x="79" y="1414"/>
                        <a:pt x="79" y="1613"/>
                      </a:cubicBezTo>
                      <a:cubicBezTo>
                        <a:pt x="79" y="1812"/>
                        <a:pt x="87" y="1959"/>
                        <a:pt x="87" y="2045"/>
                      </a:cubicBezTo>
                      <a:cubicBezTo>
                        <a:pt x="87" y="2131"/>
                        <a:pt x="87" y="2115"/>
                        <a:pt x="79" y="2129"/>
                      </a:cubicBezTo>
                      <a:lnTo>
                        <a:pt x="39" y="2129"/>
                      </a:lnTo>
                      <a:cubicBezTo>
                        <a:pt x="32" y="2021"/>
                        <a:pt x="42" y="1757"/>
                        <a:pt x="39" y="1481"/>
                      </a:cubicBezTo>
                      <a:cubicBezTo>
                        <a:pt x="36" y="1205"/>
                        <a:pt x="30" y="688"/>
                        <a:pt x="27" y="477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1" name=""/>
              <p:cNvSpPr/>
              <p:nvPr/>
            </p:nvSpPr>
            <p:spPr>
              <a:xfrm flipH="1" rot="2200200">
                <a:off x="3464280" y="3916080"/>
                <a:ext cx="760680" cy="1508040"/>
              </a:xfrm>
              <a:custGeom>
                <a:avLst/>
                <a:gdLst/>
                <a:ahLst/>
                <a:rect l="l" t="t" r="r" b="b"/>
                <a:pathLst>
                  <a:path w="1456" h="2088">
                    <a:moveTo>
                      <a:pt x="184" y="48"/>
                    </a:moveTo>
                    <a:cubicBezTo>
                      <a:pt x="288" y="48"/>
                      <a:pt x="480" y="0"/>
                      <a:pt x="664" y="192"/>
                    </a:cubicBezTo>
                    <a:cubicBezTo>
                      <a:pt x="848" y="384"/>
                      <a:pt x="1160" y="904"/>
                      <a:pt x="1288" y="1200"/>
                    </a:cubicBezTo>
                    <a:cubicBezTo>
                      <a:pt x="1416" y="1496"/>
                      <a:pt x="1416" y="1848"/>
                      <a:pt x="1432" y="1968"/>
                    </a:cubicBezTo>
                    <a:cubicBezTo>
                      <a:pt x="1448" y="2088"/>
                      <a:pt x="1456" y="2048"/>
                      <a:pt x="1384" y="1920"/>
                    </a:cubicBezTo>
                    <a:cubicBezTo>
                      <a:pt x="1312" y="1792"/>
                      <a:pt x="1128" y="1424"/>
                      <a:pt x="1000" y="1200"/>
                    </a:cubicBezTo>
                    <a:cubicBezTo>
                      <a:pt x="872" y="976"/>
                      <a:pt x="736" y="736"/>
                      <a:pt x="616" y="576"/>
                    </a:cubicBezTo>
                    <a:cubicBezTo>
                      <a:pt x="496" y="416"/>
                      <a:pt x="344" y="288"/>
                      <a:pt x="280" y="240"/>
                    </a:cubicBezTo>
                    <a:cubicBezTo>
                      <a:pt x="216" y="192"/>
                      <a:pt x="200" y="240"/>
                      <a:pt x="232" y="288"/>
                    </a:cubicBezTo>
                    <a:cubicBezTo>
                      <a:pt x="264" y="336"/>
                      <a:pt x="384" y="416"/>
                      <a:pt x="472" y="528"/>
                    </a:cubicBezTo>
                    <a:cubicBezTo>
                      <a:pt x="560" y="640"/>
                      <a:pt x="648" y="776"/>
                      <a:pt x="760" y="960"/>
                    </a:cubicBezTo>
                    <a:cubicBezTo>
                      <a:pt x="872" y="1144"/>
                      <a:pt x="1040" y="1456"/>
                      <a:pt x="1144" y="1632"/>
                    </a:cubicBezTo>
                    <a:cubicBezTo>
                      <a:pt x="1248" y="1808"/>
                      <a:pt x="1352" y="1952"/>
                      <a:pt x="1384" y="2016"/>
                    </a:cubicBezTo>
                    <a:cubicBezTo>
                      <a:pt x="1416" y="2080"/>
                      <a:pt x="1384" y="2048"/>
                      <a:pt x="1336" y="2016"/>
                    </a:cubicBezTo>
                    <a:cubicBezTo>
                      <a:pt x="1288" y="1984"/>
                      <a:pt x="1224" y="1944"/>
                      <a:pt x="1096" y="1824"/>
                    </a:cubicBezTo>
                    <a:cubicBezTo>
                      <a:pt x="968" y="1704"/>
                      <a:pt x="736" y="1504"/>
                      <a:pt x="568" y="1296"/>
                    </a:cubicBezTo>
                    <a:cubicBezTo>
                      <a:pt x="400" y="1088"/>
                      <a:pt x="176" y="760"/>
                      <a:pt x="88" y="576"/>
                    </a:cubicBezTo>
                    <a:cubicBezTo>
                      <a:pt x="0" y="392"/>
                      <a:pt x="24" y="280"/>
                      <a:pt x="40" y="192"/>
                    </a:cubicBezTo>
                    <a:cubicBezTo>
                      <a:pt x="56" y="104"/>
                      <a:pt x="80" y="48"/>
                      <a:pt x="184" y="48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H="1" rot="21429000">
                <a:off x="3638160" y="4654080"/>
                <a:ext cx="1120680" cy="1609920"/>
              </a:xfrm>
              <a:custGeom>
                <a:avLst/>
                <a:gdLst/>
                <a:ahLst/>
                <a:rect l="l" t="t" r="r" b="b"/>
                <a:pathLst>
                  <a:path w="1456" h="2088">
                    <a:moveTo>
                      <a:pt x="184" y="48"/>
                    </a:moveTo>
                    <a:cubicBezTo>
                      <a:pt x="288" y="48"/>
                      <a:pt x="480" y="0"/>
                      <a:pt x="664" y="192"/>
                    </a:cubicBezTo>
                    <a:cubicBezTo>
                      <a:pt x="848" y="384"/>
                      <a:pt x="1160" y="904"/>
                      <a:pt x="1288" y="1200"/>
                    </a:cubicBezTo>
                    <a:cubicBezTo>
                      <a:pt x="1416" y="1496"/>
                      <a:pt x="1416" y="1848"/>
                      <a:pt x="1432" y="1968"/>
                    </a:cubicBezTo>
                    <a:cubicBezTo>
                      <a:pt x="1448" y="2088"/>
                      <a:pt x="1456" y="2048"/>
                      <a:pt x="1384" y="1920"/>
                    </a:cubicBezTo>
                    <a:cubicBezTo>
                      <a:pt x="1312" y="1792"/>
                      <a:pt x="1128" y="1424"/>
                      <a:pt x="1000" y="1200"/>
                    </a:cubicBezTo>
                    <a:cubicBezTo>
                      <a:pt x="872" y="976"/>
                      <a:pt x="736" y="736"/>
                      <a:pt x="616" y="576"/>
                    </a:cubicBezTo>
                    <a:cubicBezTo>
                      <a:pt x="496" y="416"/>
                      <a:pt x="344" y="288"/>
                      <a:pt x="280" y="240"/>
                    </a:cubicBezTo>
                    <a:cubicBezTo>
                      <a:pt x="216" y="192"/>
                      <a:pt x="200" y="240"/>
                      <a:pt x="232" y="288"/>
                    </a:cubicBezTo>
                    <a:cubicBezTo>
                      <a:pt x="264" y="336"/>
                      <a:pt x="384" y="416"/>
                      <a:pt x="472" y="528"/>
                    </a:cubicBezTo>
                    <a:cubicBezTo>
                      <a:pt x="560" y="640"/>
                      <a:pt x="648" y="776"/>
                      <a:pt x="760" y="960"/>
                    </a:cubicBezTo>
                    <a:cubicBezTo>
                      <a:pt x="872" y="1144"/>
                      <a:pt x="1040" y="1456"/>
                      <a:pt x="1144" y="1632"/>
                    </a:cubicBezTo>
                    <a:cubicBezTo>
                      <a:pt x="1248" y="1808"/>
                      <a:pt x="1352" y="1952"/>
                      <a:pt x="1384" y="2016"/>
                    </a:cubicBezTo>
                    <a:cubicBezTo>
                      <a:pt x="1416" y="2080"/>
                      <a:pt x="1384" y="2048"/>
                      <a:pt x="1336" y="2016"/>
                    </a:cubicBezTo>
                    <a:cubicBezTo>
                      <a:pt x="1288" y="1984"/>
                      <a:pt x="1224" y="1944"/>
                      <a:pt x="1096" y="1824"/>
                    </a:cubicBezTo>
                    <a:cubicBezTo>
                      <a:pt x="968" y="1704"/>
                      <a:pt x="736" y="1504"/>
                      <a:pt x="568" y="1296"/>
                    </a:cubicBezTo>
                    <a:cubicBezTo>
                      <a:pt x="400" y="1088"/>
                      <a:pt x="176" y="760"/>
                      <a:pt x="88" y="576"/>
                    </a:cubicBezTo>
                    <a:cubicBezTo>
                      <a:pt x="0" y="392"/>
                      <a:pt x="24" y="280"/>
                      <a:pt x="40" y="192"/>
                    </a:cubicBezTo>
                    <a:cubicBezTo>
                      <a:pt x="56" y="104"/>
                      <a:pt x="80" y="48"/>
                      <a:pt x="184" y="48"/>
                    </a:cubicBezTo>
                    <a:close/>
                  </a:path>
                </a:pathLst>
              </a:cu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5057640" y="3900240"/>
                <a:ext cx="1552680" cy="527040"/>
              </a:xfrm>
              <a:custGeom>
                <a:avLst/>
                <a:gdLst/>
                <a:ahLst/>
                <a:rect l="l" t="t" r="r" b="b"/>
                <a:pathLst>
                  <a:path w="2020" h="688">
                    <a:moveTo>
                      <a:pt x="96" y="464"/>
                    </a:moveTo>
                    <a:cubicBezTo>
                      <a:pt x="0" y="416"/>
                      <a:pt x="48" y="408"/>
                      <a:pt x="48" y="368"/>
                    </a:cubicBezTo>
                    <a:cubicBezTo>
                      <a:pt x="48" y="328"/>
                      <a:pt x="40" y="280"/>
                      <a:pt x="96" y="224"/>
                    </a:cubicBezTo>
                    <a:cubicBezTo>
                      <a:pt x="152" y="168"/>
                      <a:pt x="240" y="64"/>
                      <a:pt x="384" y="32"/>
                    </a:cubicBezTo>
                    <a:cubicBezTo>
                      <a:pt x="528" y="0"/>
                      <a:pt x="760" y="0"/>
                      <a:pt x="960" y="32"/>
                    </a:cubicBezTo>
                    <a:cubicBezTo>
                      <a:pt x="1160" y="64"/>
                      <a:pt x="1424" y="160"/>
                      <a:pt x="1584" y="224"/>
                    </a:cubicBezTo>
                    <a:cubicBezTo>
                      <a:pt x="1744" y="288"/>
                      <a:pt x="1850" y="363"/>
                      <a:pt x="1920" y="416"/>
                    </a:cubicBezTo>
                    <a:cubicBezTo>
                      <a:pt x="1990" y="469"/>
                      <a:pt x="2020" y="520"/>
                      <a:pt x="2004" y="544"/>
                    </a:cubicBezTo>
                    <a:cubicBezTo>
                      <a:pt x="1988" y="568"/>
                      <a:pt x="1910" y="573"/>
                      <a:pt x="1824" y="560"/>
                    </a:cubicBezTo>
                    <a:cubicBezTo>
                      <a:pt x="1738" y="547"/>
                      <a:pt x="1632" y="504"/>
                      <a:pt x="1488" y="464"/>
                    </a:cubicBezTo>
                    <a:cubicBezTo>
                      <a:pt x="1344" y="424"/>
                      <a:pt x="1128" y="344"/>
                      <a:pt x="960" y="320"/>
                    </a:cubicBezTo>
                    <a:cubicBezTo>
                      <a:pt x="792" y="296"/>
                      <a:pt x="584" y="312"/>
                      <a:pt x="480" y="320"/>
                    </a:cubicBezTo>
                    <a:cubicBezTo>
                      <a:pt x="376" y="328"/>
                      <a:pt x="360" y="352"/>
                      <a:pt x="336" y="368"/>
                    </a:cubicBezTo>
                    <a:cubicBezTo>
                      <a:pt x="312" y="384"/>
                      <a:pt x="304" y="416"/>
                      <a:pt x="336" y="416"/>
                    </a:cubicBezTo>
                    <a:cubicBezTo>
                      <a:pt x="368" y="416"/>
                      <a:pt x="424" y="376"/>
                      <a:pt x="528" y="368"/>
                    </a:cubicBezTo>
                    <a:cubicBezTo>
                      <a:pt x="632" y="360"/>
                      <a:pt x="784" y="336"/>
                      <a:pt x="960" y="368"/>
                    </a:cubicBezTo>
                    <a:cubicBezTo>
                      <a:pt x="1136" y="400"/>
                      <a:pt x="1472" y="520"/>
                      <a:pt x="1584" y="560"/>
                    </a:cubicBezTo>
                    <a:cubicBezTo>
                      <a:pt x="1696" y="600"/>
                      <a:pt x="1664" y="592"/>
                      <a:pt x="1632" y="608"/>
                    </a:cubicBezTo>
                    <a:cubicBezTo>
                      <a:pt x="1600" y="624"/>
                      <a:pt x="1560" y="648"/>
                      <a:pt x="1392" y="656"/>
                    </a:cubicBezTo>
                    <a:cubicBezTo>
                      <a:pt x="1224" y="664"/>
                      <a:pt x="840" y="688"/>
                      <a:pt x="624" y="656"/>
                    </a:cubicBezTo>
                    <a:cubicBezTo>
                      <a:pt x="408" y="624"/>
                      <a:pt x="192" y="512"/>
                      <a:pt x="96" y="464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rot="20854800">
                <a:off x="5227560" y="4335120"/>
                <a:ext cx="1120680" cy="1609560"/>
              </a:xfrm>
              <a:custGeom>
                <a:avLst/>
                <a:gdLst/>
                <a:ahLst/>
                <a:rect l="l" t="t" r="r" b="b"/>
                <a:pathLst>
                  <a:path w="1456" h="2088">
                    <a:moveTo>
                      <a:pt x="184" y="48"/>
                    </a:moveTo>
                    <a:cubicBezTo>
                      <a:pt x="288" y="48"/>
                      <a:pt x="480" y="0"/>
                      <a:pt x="664" y="192"/>
                    </a:cubicBezTo>
                    <a:cubicBezTo>
                      <a:pt x="848" y="384"/>
                      <a:pt x="1160" y="904"/>
                      <a:pt x="1288" y="1200"/>
                    </a:cubicBezTo>
                    <a:cubicBezTo>
                      <a:pt x="1416" y="1496"/>
                      <a:pt x="1416" y="1848"/>
                      <a:pt x="1432" y="1968"/>
                    </a:cubicBezTo>
                    <a:cubicBezTo>
                      <a:pt x="1448" y="2088"/>
                      <a:pt x="1456" y="2048"/>
                      <a:pt x="1384" y="1920"/>
                    </a:cubicBezTo>
                    <a:cubicBezTo>
                      <a:pt x="1312" y="1792"/>
                      <a:pt x="1128" y="1424"/>
                      <a:pt x="1000" y="1200"/>
                    </a:cubicBezTo>
                    <a:cubicBezTo>
                      <a:pt x="872" y="976"/>
                      <a:pt x="736" y="736"/>
                      <a:pt x="616" y="576"/>
                    </a:cubicBezTo>
                    <a:cubicBezTo>
                      <a:pt x="496" y="416"/>
                      <a:pt x="344" y="288"/>
                      <a:pt x="280" y="240"/>
                    </a:cubicBezTo>
                    <a:cubicBezTo>
                      <a:pt x="216" y="192"/>
                      <a:pt x="200" y="240"/>
                      <a:pt x="232" y="288"/>
                    </a:cubicBezTo>
                    <a:cubicBezTo>
                      <a:pt x="264" y="336"/>
                      <a:pt x="384" y="416"/>
                      <a:pt x="472" y="528"/>
                    </a:cubicBezTo>
                    <a:cubicBezTo>
                      <a:pt x="560" y="640"/>
                      <a:pt x="648" y="776"/>
                      <a:pt x="760" y="960"/>
                    </a:cubicBezTo>
                    <a:cubicBezTo>
                      <a:pt x="872" y="1144"/>
                      <a:pt x="1040" y="1456"/>
                      <a:pt x="1144" y="1632"/>
                    </a:cubicBezTo>
                    <a:cubicBezTo>
                      <a:pt x="1248" y="1808"/>
                      <a:pt x="1352" y="1952"/>
                      <a:pt x="1384" y="2016"/>
                    </a:cubicBezTo>
                    <a:cubicBezTo>
                      <a:pt x="1416" y="2080"/>
                      <a:pt x="1384" y="2048"/>
                      <a:pt x="1336" y="2016"/>
                    </a:cubicBezTo>
                    <a:cubicBezTo>
                      <a:pt x="1288" y="1984"/>
                      <a:pt x="1224" y="1944"/>
                      <a:pt x="1096" y="1824"/>
                    </a:cubicBezTo>
                    <a:cubicBezTo>
                      <a:pt x="968" y="1704"/>
                      <a:pt x="736" y="1504"/>
                      <a:pt x="568" y="1296"/>
                    </a:cubicBezTo>
                    <a:cubicBezTo>
                      <a:pt x="400" y="1088"/>
                      <a:pt x="176" y="760"/>
                      <a:pt x="88" y="576"/>
                    </a:cubicBezTo>
                    <a:cubicBezTo>
                      <a:pt x="0" y="392"/>
                      <a:pt x="24" y="280"/>
                      <a:pt x="40" y="192"/>
                    </a:cubicBezTo>
                    <a:cubicBezTo>
                      <a:pt x="56" y="104"/>
                      <a:pt x="80" y="48"/>
                      <a:pt x="184" y="4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e5eeda"/>
                  </a:gs>
                  <a:gs pos="100000">
                    <a:srgbClr val="d5e3c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4748040" y="4713120"/>
                <a:ext cx="752760" cy="1847880"/>
              </a:xfrm>
              <a:custGeom>
                <a:avLst/>
                <a:gdLst/>
                <a:ahLst/>
                <a:rect l="l" t="t" r="r" b="b"/>
                <a:pathLst>
                  <a:path w="980" h="2408">
                    <a:moveTo>
                      <a:pt x="253" y="1432"/>
                    </a:moveTo>
                    <a:cubicBezTo>
                      <a:pt x="184" y="1264"/>
                      <a:pt x="122" y="1070"/>
                      <a:pt x="82" y="881"/>
                    </a:cubicBezTo>
                    <a:cubicBezTo>
                      <a:pt x="42" y="692"/>
                      <a:pt x="0" y="433"/>
                      <a:pt x="12" y="296"/>
                    </a:cubicBezTo>
                    <a:cubicBezTo>
                      <a:pt x="24" y="159"/>
                      <a:pt x="84" y="96"/>
                      <a:pt x="156" y="56"/>
                    </a:cubicBezTo>
                    <a:cubicBezTo>
                      <a:pt x="228" y="16"/>
                      <a:pt x="364" y="0"/>
                      <a:pt x="444" y="56"/>
                    </a:cubicBezTo>
                    <a:cubicBezTo>
                      <a:pt x="524" y="112"/>
                      <a:pt x="564" y="216"/>
                      <a:pt x="636" y="392"/>
                    </a:cubicBezTo>
                    <a:cubicBezTo>
                      <a:pt x="708" y="568"/>
                      <a:pt x="820" y="840"/>
                      <a:pt x="876" y="1112"/>
                    </a:cubicBezTo>
                    <a:cubicBezTo>
                      <a:pt x="932" y="1384"/>
                      <a:pt x="964" y="1816"/>
                      <a:pt x="972" y="2024"/>
                    </a:cubicBezTo>
                    <a:cubicBezTo>
                      <a:pt x="980" y="2232"/>
                      <a:pt x="940" y="2312"/>
                      <a:pt x="924" y="2360"/>
                    </a:cubicBezTo>
                    <a:cubicBezTo>
                      <a:pt x="908" y="2408"/>
                      <a:pt x="892" y="2384"/>
                      <a:pt x="876" y="2312"/>
                    </a:cubicBezTo>
                    <a:cubicBezTo>
                      <a:pt x="860" y="2240"/>
                      <a:pt x="860" y="2096"/>
                      <a:pt x="828" y="1928"/>
                    </a:cubicBezTo>
                    <a:cubicBezTo>
                      <a:pt x="796" y="1760"/>
                      <a:pt x="756" y="1544"/>
                      <a:pt x="684" y="1304"/>
                    </a:cubicBezTo>
                    <a:cubicBezTo>
                      <a:pt x="612" y="1064"/>
                      <a:pt x="460" y="648"/>
                      <a:pt x="396" y="488"/>
                    </a:cubicBezTo>
                    <a:cubicBezTo>
                      <a:pt x="332" y="328"/>
                      <a:pt x="316" y="352"/>
                      <a:pt x="300" y="344"/>
                    </a:cubicBezTo>
                    <a:cubicBezTo>
                      <a:pt x="284" y="336"/>
                      <a:pt x="260" y="320"/>
                      <a:pt x="300" y="440"/>
                    </a:cubicBezTo>
                    <a:cubicBezTo>
                      <a:pt x="340" y="560"/>
                      <a:pt x="468" y="840"/>
                      <a:pt x="540" y="1064"/>
                    </a:cubicBezTo>
                    <a:cubicBezTo>
                      <a:pt x="612" y="1288"/>
                      <a:pt x="692" y="1584"/>
                      <a:pt x="732" y="1784"/>
                    </a:cubicBezTo>
                    <a:cubicBezTo>
                      <a:pt x="772" y="1984"/>
                      <a:pt x="780" y="2176"/>
                      <a:pt x="780" y="2264"/>
                    </a:cubicBezTo>
                    <a:cubicBezTo>
                      <a:pt x="780" y="2352"/>
                      <a:pt x="779" y="2375"/>
                      <a:pt x="732" y="2312"/>
                    </a:cubicBezTo>
                    <a:cubicBezTo>
                      <a:pt x="685" y="2249"/>
                      <a:pt x="576" y="2034"/>
                      <a:pt x="496" y="1887"/>
                    </a:cubicBezTo>
                    <a:cubicBezTo>
                      <a:pt x="416" y="1740"/>
                      <a:pt x="304" y="1527"/>
                      <a:pt x="253" y="1432"/>
                    </a:cubicBezTo>
                    <a:close/>
                  </a:path>
                </a:pathLst>
              </a:cu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grpSp>
            <p:nvGrpSpPr>
              <p:cNvPr id="156" name=""/>
              <p:cNvGrpSpPr/>
              <p:nvPr/>
            </p:nvGrpSpPr>
            <p:grpSpPr>
              <a:xfrm>
                <a:off x="3054240" y="-56880"/>
                <a:ext cx="3519000" cy="2722320"/>
                <a:chOff x="3054240" y="-56880"/>
                <a:chExt cx="3519000" cy="2722320"/>
              </a:xfrm>
            </p:grpSpPr>
            <p:sp>
              <p:nvSpPr>
                <p:cNvPr id="157" name=""/>
                <p:cNvSpPr/>
                <p:nvPr/>
              </p:nvSpPr>
              <p:spPr>
                <a:xfrm flipH="1" rot="2200200">
                  <a:off x="3428640" y="20880"/>
                  <a:ext cx="760320" cy="150804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 flipH="1" rot="21429000">
                  <a:off x="3601440" y="758520"/>
                  <a:ext cx="1120320" cy="160956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20920" y="4680"/>
                  <a:ext cx="1552320" cy="527040"/>
                </a:xfrm>
                <a:custGeom>
                  <a:avLst/>
                  <a:gdLst/>
                  <a:ahLst/>
                  <a:rect l="l" t="t" r="r" b="b"/>
                  <a:pathLst>
                    <a:path w="2020" h="688">
                      <a:moveTo>
                        <a:pt x="96" y="464"/>
                      </a:moveTo>
                      <a:cubicBezTo>
                        <a:pt x="0" y="416"/>
                        <a:pt x="48" y="408"/>
                        <a:pt x="48" y="368"/>
                      </a:cubicBezTo>
                      <a:cubicBezTo>
                        <a:pt x="48" y="328"/>
                        <a:pt x="40" y="280"/>
                        <a:pt x="96" y="224"/>
                      </a:cubicBezTo>
                      <a:cubicBezTo>
                        <a:pt x="152" y="168"/>
                        <a:pt x="240" y="64"/>
                        <a:pt x="384" y="32"/>
                      </a:cubicBezTo>
                      <a:cubicBezTo>
                        <a:pt x="528" y="0"/>
                        <a:pt x="760" y="0"/>
                        <a:pt x="960" y="32"/>
                      </a:cubicBezTo>
                      <a:cubicBezTo>
                        <a:pt x="1160" y="64"/>
                        <a:pt x="1424" y="160"/>
                        <a:pt x="1584" y="224"/>
                      </a:cubicBezTo>
                      <a:cubicBezTo>
                        <a:pt x="1744" y="288"/>
                        <a:pt x="1850" y="363"/>
                        <a:pt x="1920" y="416"/>
                      </a:cubicBezTo>
                      <a:cubicBezTo>
                        <a:pt x="1990" y="469"/>
                        <a:pt x="2020" y="520"/>
                        <a:pt x="2004" y="544"/>
                      </a:cubicBezTo>
                      <a:cubicBezTo>
                        <a:pt x="1988" y="568"/>
                        <a:pt x="1910" y="573"/>
                        <a:pt x="1824" y="560"/>
                      </a:cubicBezTo>
                      <a:cubicBezTo>
                        <a:pt x="1738" y="547"/>
                        <a:pt x="1632" y="504"/>
                        <a:pt x="1488" y="464"/>
                      </a:cubicBezTo>
                      <a:cubicBezTo>
                        <a:pt x="1344" y="424"/>
                        <a:pt x="1128" y="344"/>
                        <a:pt x="960" y="320"/>
                      </a:cubicBezTo>
                      <a:cubicBezTo>
                        <a:pt x="792" y="296"/>
                        <a:pt x="584" y="312"/>
                        <a:pt x="480" y="320"/>
                      </a:cubicBezTo>
                      <a:cubicBezTo>
                        <a:pt x="376" y="328"/>
                        <a:pt x="360" y="352"/>
                        <a:pt x="336" y="368"/>
                      </a:cubicBezTo>
                      <a:cubicBezTo>
                        <a:pt x="312" y="384"/>
                        <a:pt x="304" y="416"/>
                        <a:pt x="336" y="416"/>
                      </a:cubicBezTo>
                      <a:cubicBezTo>
                        <a:pt x="368" y="416"/>
                        <a:pt x="424" y="376"/>
                        <a:pt x="528" y="368"/>
                      </a:cubicBezTo>
                      <a:cubicBezTo>
                        <a:pt x="632" y="360"/>
                        <a:pt x="784" y="336"/>
                        <a:pt x="960" y="368"/>
                      </a:cubicBezTo>
                      <a:cubicBezTo>
                        <a:pt x="1136" y="400"/>
                        <a:pt x="1472" y="520"/>
                        <a:pt x="1584" y="560"/>
                      </a:cubicBezTo>
                      <a:cubicBezTo>
                        <a:pt x="1696" y="600"/>
                        <a:pt x="1664" y="592"/>
                        <a:pt x="1632" y="608"/>
                      </a:cubicBezTo>
                      <a:cubicBezTo>
                        <a:pt x="1600" y="624"/>
                        <a:pt x="1560" y="648"/>
                        <a:pt x="1392" y="656"/>
                      </a:cubicBezTo>
                      <a:cubicBezTo>
                        <a:pt x="1224" y="664"/>
                        <a:pt x="840" y="688"/>
                        <a:pt x="624" y="656"/>
                      </a:cubicBezTo>
                      <a:cubicBezTo>
                        <a:pt x="408" y="624"/>
                        <a:pt x="192" y="512"/>
                        <a:pt x="96" y="464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rot="20854800">
                  <a:off x="5190840" y="439920"/>
                  <a:ext cx="1120320" cy="160956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4711320" y="817560"/>
                  <a:ext cx="752400" cy="1847880"/>
                </a:xfrm>
                <a:custGeom>
                  <a:avLst/>
                  <a:gdLst/>
                  <a:ahLst/>
                  <a:rect l="l" t="t" r="r" b="b"/>
                  <a:pathLst>
                    <a:path w="980" h="2408">
                      <a:moveTo>
                        <a:pt x="253" y="1432"/>
                      </a:moveTo>
                      <a:cubicBezTo>
                        <a:pt x="184" y="1264"/>
                        <a:pt x="122" y="1070"/>
                        <a:pt x="82" y="881"/>
                      </a:cubicBezTo>
                      <a:cubicBezTo>
                        <a:pt x="42" y="692"/>
                        <a:pt x="0" y="433"/>
                        <a:pt x="12" y="296"/>
                      </a:cubicBezTo>
                      <a:cubicBezTo>
                        <a:pt x="24" y="159"/>
                        <a:pt x="84" y="96"/>
                        <a:pt x="156" y="56"/>
                      </a:cubicBezTo>
                      <a:cubicBezTo>
                        <a:pt x="228" y="16"/>
                        <a:pt x="364" y="0"/>
                        <a:pt x="444" y="56"/>
                      </a:cubicBezTo>
                      <a:cubicBezTo>
                        <a:pt x="524" y="112"/>
                        <a:pt x="564" y="216"/>
                        <a:pt x="636" y="392"/>
                      </a:cubicBezTo>
                      <a:cubicBezTo>
                        <a:pt x="708" y="568"/>
                        <a:pt x="820" y="840"/>
                        <a:pt x="876" y="1112"/>
                      </a:cubicBezTo>
                      <a:cubicBezTo>
                        <a:pt x="932" y="1384"/>
                        <a:pt x="964" y="1816"/>
                        <a:pt x="972" y="2024"/>
                      </a:cubicBezTo>
                      <a:cubicBezTo>
                        <a:pt x="980" y="2232"/>
                        <a:pt x="940" y="2312"/>
                        <a:pt x="924" y="2360"/>
                      </a:cubicBezTo>
                      <a:cubicBezTo>
                        <a:pt x="908" y="2408"/>
                        <a:pt x="892" y="2384"/>
                        <a:pt x="876" y="2312"/>
                      </a:cubicBezTo>
                      <a:cubicBezTo>
                        <a:pt x="860" y="2240"/>
                        <a:pt x="860" y="2096"/>
                        <a:pt x="828" y="1928"/>
                      </a:cubicBezTo>
                      <a:cubicBezTo>
                        <a:pt x="796" y="1760"/>
                        <a:pt x="756" y="1544"/>
                        <a:pt x="684" y="1304"/>
                      </a:cubicBezTo>
                      <a:cubicBezTo>
                        <a:pt x="612" y="1064"/>
                        <a:pt x="460" y="648"/>
                        <a:pt x="396" y="488"/>
                      </a:cubicBezTo>
                      <a:cubicBezTo>
                        <a:pt x="332" y="328"/>
                        <a:pt x="316" y="352"/>
                        <a:pt x="300" y="344"/>
                      </a:cubicBezTo>
                      <a:cubicBezTo>
                        <a:pt x="284" y="336"/>
                        <a:pt x="260" y="320"/>
                        <a:pt x="300" y="440"/>
                      </a:cubicBezTo>
                      <a:cubicBezTo>
                        <a:pt x="340" y="560"/>
                        <a:pt x="468" y="840"/>
                        <a:pt x="540" y="1064"/>
                      </a:cubicBezTo>
                      <a:cubicBezTo>
                        <a:pt x="612" y="1288"/>
                        <a:pt x="692" y="1584"/>
                        <a:pt x="732" y="1784"/>
                      </a:cubicBezTo>
                      <a:cubicBezTo>
                        <a:pt x="772" y="1984"/>
                        <a:pt x="780" y="2176"/>
                        <a:pt x="780" y="2264"/>
                      </a:cubicBezTo>
                      <a:cubicBezTo>
                        <a:pt x="780" y="2352"/>
                        <a:pt x="779" y="2375"/>
                        <a:pt x="732" y="2312"/>
                      </a:cubicBezTo>
                      <a:cubicBezTo>
                        <a:pt x="685" y="2249"/>
                        <a:pt x="576" y="2034"/>
                        <a:pt x="496" y="1887"/>
                      </a:cubicBezTo>
                      <a:cubicBezTo>
                        <a:pt x="416" y="1740"/>
                        <a:pt x="304" y="1527"/>
                        <a:pt x="253" y="1432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77200" y="1751040"/>
                <a:ext cx="3577320" cy="2708280"/>
                <a:chOff x="277200" y="1751040"/>
                <a:chExt cx="3577320" cy="2708280"/>
              </a:xfrm>
            </p:grpSpPr>
            <p:sp>
              <p:nvSpPr>
                <p:cNvPr id="163" name=""/>
                <p:cNvSpPr/>
                <p:nvPr/>
              </p:nvSpPr>
              <p:spPr>
                <a:xfrm rot="20854800">
                  <a:off x="2509920" y="2161800"/>
                  <a:ext cx="1120680" cy="160956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052720" y="2611440"/>
                  <a:ext cx="752400" cy="1847880"/>
                </a:xfrm>
                <a:custGeom>
                  <a:avLst/>
                  <a:gdLst/>
                  <a:ahLst/>
                  <a:rect l="l" t="t" r="r" b="b"/>
                  <a:pathLst>
                    <a:path w="980" h="2408">
                      <a:moveTo>
                        <a:pt x="253" y="1432"/>
                      </a:moveTo>
                      <a:cubicBezTo>
                        <a:pt x="184" y="1264"/>
                        <a:pt x="122" y="1070"/>
                        <a:pt x="82" y="881"/>
                      </a:cubicBezTo>
                      <a:cubicBezTo>
                        <a:pt x="42" y="692"/>
                        <a:pt x="0" y="433"/>
                        <a:pt x="12" y="296"/>
                      </a:cubicBezTo>
                      <a:cubicBezTo>
                        <a:pt x="24" y="159"/>
                        <a:pt x="84" y="96"/>
                        <a:pt x="156" y="56"/>
                      </a:cubicBezTo>
                      <a:cubicBezTo>
                        <a:pt x="228" y="16"/>
                        <a:pt x="364" y="0"/>
                        <a:pt x="444" y="56"/>
                      </a:cubicBezTo>
                      <a:cubicBezTo>
                        <a:pt x="524" y="112"/>
                        <a:pt x="564" y="216"/>
                        <a:pt x="636" y="392"/>
                      </a:cubicBezTo>
                      <a:cubicBezTo>
                        <a:pt x="708" y="568"/>
                        <a:pt x="820" y="840"/>
                        <a:pt x="876" y="1112"/>
                      </a:cubicBezTo>
                      <a:cubicBezTo>
                        <a:pt x="932" y="1384"/>
                        <a:pt x="964" y="1816"/>
                        <a:pt x="972" y="2024"/>
                      </a:cubicBezTo>
                      <a:cubicBezTo>
                        <a:pt x="980" y="2232"/>
                        <a:pt x="940" y="2312"/>
                        <a:pt x="924" y="2360"/>
                      </a:cubicBezTo>
                      <a:cubicBezTo>
                        <a:pt x="908" y="2408"/>
                        <a:pt x="892" y="2384"/>
                        <a:pt x="876" y="2312"/>
                      </a:cubicBezTo>
                      <a:cubicBezTo>
                        <a:pt x="860" y="2240"/>
                        <a:pt x="860" y="2096"/>
                        <a:pt x="828" y="1928"/>
                      </a:cubicBezTo>
                      <a:cubicBezTo>
                        <a:pt x="796" y="1760"/>
                        <a:pt x="756" y="1544"/>
                        <a:pt x="684" y="1304"/>
                      </a:cubicBezTo>
                      <a:cubicBezTo>
                        <a:pt x="612" y="1064"/>
                        <a:pt x="460" y="648"/>
                        <a:pt x="396" y="488"/>
                      </a:cubicBezTo>
                      <a:cubicBezTo>
                        <a:pt x="332" y="328"/>
                        <a:pt x="316" y="352"/>
                        <a:pt x="300" y="344"/>
                      </a:cubicBezTo>
                      <a:cubicBezTo>
                        <a:pt x="284" y="336"/>
                        <a:pt x="260" y="320"/>
                        <a:pt x="300" y="440"/>
                      </a:cubicBezTo>
                      <a:cubicBezTo>
                        <a:pt x="340" y="560"/>
                        <a:pt x="468" y="840"/>
                        <a:pt x="540" y="1064"/>
                      </a:cubicBezTo>
                      <a:cubicBezTo>
                        <a:pt x="612" y="1288"/>
                        <a:pt x="692" y="1584"/>
                        <a:pt x="732" y="1784"/>
                      </a:cubicBezTo>
                      <a:cubicBezTo>
                        <a:pt x="772" y="1984"/>
                        <a:pt x="780" y="2176"/>
                        <a:pt x="780" y="2264"/>
                      </a:cubicBezTo>
                      <a:cubicBezTo>
                        <a:pt x="780" y="2352"/>
                        <a:pt x="779" y="2375"/>
                        <a:pt x="732" y="2312"/>
                      </a:cubicBezTo>
                      <a:cubicBezTo>
                        <a:pt x="685" y="2249"/>
                        <a:pt x="576" y="2034"/>
                        <a:pt x="496" y="1887"/>
                      </a:cubicBezTo>
                      <a:cubicBezTo>
                        <a:pt x="416" y="1740"/>
                        <a:pt x="304" y="1527"/>
                        <a:pt x="253" y="1432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2301840" y="1751040"/>
                  <a:ext cx="1552680" cy="527040"/>
                </a:xfrm>
                <a:custGeom>
                  <a:avLst/>
                  <a:gdLst/>
                  <a:ahLst/>
                  <a:rect l="l" t="t" r="r" b="b"/>
                  <a:pathLst>
                    <a:path w="2020" h="688">
                      <a:moveTo>
                        <a:pt x="96" y="464"/>
                      </a:moveTo>
                      <a:cubicBezTo>
                        <a:pt x="0" y="416"/>
                        <a:pt x="48" y="408"/>
                        <a:pt x="48" y="368"/>
                      </a:cubicBezTo>
                      <a:cubicBezTo>
                        <a:pt x="48" y="328"/>
                        <a:pt x="40" y="280"/>
                        <a:pt x="96" y="224"/>
                      </a:cubicBezTo>
                      <a:cubicBezTo>
                        <a:pt x="152" y="168"/>
                        <a:pt x="240" y="64"/>
                        <a:pt x="384" y="32"/>
                      </a:cubicBezTo>
                      <a:cubicBezTo>
                        <a:pt x="528" y="0"/>
                        <a:pt x="760" y="0"/>
                        <a:pt x="960" y="32"/>
                      </a:cubicBezTo>
                      <a:cubicBezTo>
                        <a:pt x="1160" y="64"/>
                        <a:pt x="1424" y="160"/>
                        <a:pt x="1584" y="224"/>
                      </a:cubicBezTo>
                      <a:cubicBezTo>
                        <a:pt x="1744" y="288"/>
                        <a:pt x="1850" y="363"/>
                        <a:pt x="1920" y="416"/>
                      </a:cubicBezTo>
                      <a:cubicBezTo>
                        <a:pt x="1990" y="469"/>
                        <a:pt x="2020" y="520"/>
                        <a:pt x="2004" y="544"/>
                      </a:cubicBezTo>
                      <a:cubicBezTo>
                        <a:pt x="1988" y="568"/>
                        <a:pt x="1910" y="573"/>
                        <a:pt x="1824" y="560"/>
                      </a:cubicBezTo>
                      <a:cubicBezTo>
                        <a:pt x="1738" y="547"/>
                        <a:pt x="1632" y="504"/>
                        <a:pt x="1488" y="464"/>
                      </a:cubicBezTo>
                      <a:cubicBezTo>
                        <a:pt x="1344" y="424"/>
                        <a:pt x="1128" y="344"/>
                        <a:pt x="960" y="320"/>
                      </a:cubicBezTo>
                      <a:cubicBezTo>
                        <a:pt x="792" y="296"/>
                        <a:pt x="584" y="312"/>
                        <a:pt x="480" y="320"/>
                      </a:cubicBezTo>
                      <a:cubicBezTo>
                        <a:pt x="376" y="328"/>
                        <a:pt x="360" y="352"/>
                        <a:pt x="336" y="368"/>
                      </a:cubicBezTo>
                      <a:cubicBezTo>
                        <a:pt x="312" y="384"/>
                        <a:pt x="304" y="416"/>
                        <a:pt x="336" y="416"/>
                      </a:cubicBezTo>
                      <a:cubicBezTo>
                        <a:pt x="368" y="416"/>
                        <a:pt x="424" y="376"/>
                        <a:pt x="528" y="368"/>
                      </a:cubicBezTo>
                      <a:cubicBezTo>
                        <a:pt x="632" y="360"/>
                        <a:pt x="784" y="336"/>
                        <a:pt x="960" y="368"/>
                      </a:cubicBezTo>
                      <a:cubicBezTo>
                        <a:pt x="1136" y="400"/>
                        <a:pt x="1472" y="520"/>
                        <a:pt x="1584" y="560"/>
                      </a:cubicBezTo>
                      <a:cubicBezTo>
                        <a:pt x="1696" y="600"/>
                        <a:pt x="1664" y="592"/>
                        <a:pt x="1632" y="608"/>
                      </a:cubicBezTo>
                      <a:cubicBezTo>
                        <a:pt x="1600" y="624"/>
                        <a:pt x="1560" y="648"/>
                        <a:pt x="1392" y="656"/>
                      </a:cubicBezTo>
                      <a:cubicBezTo>
                        <a:pt x="1224" y="664"/>
                        <a:pt x="840" y="688"/>
                        <a:pt x="624" y="656"/>
                      </a:cubicBezTo>
                      <a:cubicBezTo>
                        <a:pt x="408" y="624"/>
                        <a:pt x="192" y="512"/>
                        <a:pt x="96" y="464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 flipH="1" rot="745200">
                  <a:off x="689760" y="2401560"/>
                  <a:ext cx="1120680" cy="160992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 flipH="1" rot="505800">
                  <a:off x="307080" y="1964880"/>
                  <a:ext cx="1552680" cy="527040"/>
                </a:xfrm>
                <a:custGeom>
                  <a:avLst/>
                  <a:gdLst/>
                  <a:ahLst/>
                  <a:rect l="l" t="t" r="r" b="b"/>
                  <a:pathLst>
                    <a:path w="2020" h="688">
                      <a:moveTo>
                        <a:pt x="96" y="464"/>
                      </a:moveTo>
                      <a:cubicBezTo>
                        <a:pt x="0" y="416"/>
                        <a:pt x="48" y="408"/>
                        <a:pt x="48" y="368"/>
                      </a:cubicBezTo>
                      <a:cubicBezTo>
                        <a:pt x="48" y="328"/>
                        <a:pt x="40" y="280"/>
                        <a:pt x="96" y="224"/>
                      </a:cubicBezTo>
                      <a:cubicBezTo>
                        <a:pt x="152" y="168"/>
                        <a:pt x="240" y="64"/>
                        <a:pt x="384" y="32"/>
                      </a:cubicBezTo>
                      <a:cubicBezTo>
                        <a:pt x="528" y="0"/>
                        <a:pt x="760" y="0"/>
                        <a:pt x="960" y="32"/>
                      </a:cubicBezTo>
                      <a:cubicBezTo>
                        <a:pt x="1160" y="64"/>
                        <a:pt x="1424" y="160"/>
                        <a:pt x="1584" y="224"/>
                      </a:cubicBezTo>
                      <a:cubicBezTo>
                        <a:pt x="1744" y="288"/>
                        <a:pt x="1850" y="363"/>
                        <a:pt x="1920" y="416"/>
                      </a:cubicBezTo>
                      <a:cubicBezTo>
                        <a:pt x="1990" y="469"/>
                        <a:pt x="2020" y="520"/>
                        <a:pt x="2004" y="544"/>
                      </a:cubicBezTo>
                      <a:cubicBezTo>
                        <a:pt x="1988" y="568"/>
                        <a:pt x="1910" y="573"/>
                        <a:pt x="1824" y="560"/>
                      </a:cubicBezTo>
                      <a:cubicBezTo>
                        <a:pt x="1738" y="547"/>
                        <a:pt x="1632" y="504"/>
                        <a:pt x="1488" y="464"/>
                      </a:cubicBezTo>
                      <a:cubicBezTo>
                        <a:pt x="1344" y="424"/>
                        <a:pt x="1128" y="344"/>
                        <a:pt x="960" y="320"/>
                      </a:cubicBezTo>
                      <a:cubicBezTo>
                        <a:pt x="792" y="296"/>
                        <a:pt x="584" y="312"/>
                        <a:pt x="480" y="320"/>
                      </a:cubicBezTo>
                      <a:cubicBezTo>
                        <a:pt x="376" y="328"/>
                        <a:pt x="360" y="352"/>
                        <a:pt x="336" y="368"/>
                      </a:cubicBezTo>
                      <a:cubicBezTo>
                        <a:pt x="312" y="384"/>
                        <a:pt x="304" y="416"/>
                        <a:pt x="336" y="416"/>
                      </a:cubicBezTo>
                      <a:cubicBezTo>
                        <a:pt x="368" y="416"/>
                        <a:pt x="424" y="376"/>
                        <a:pt x="528" y="368"/>
                      </a:cubicBezTo>
                      <a:cubicBezTo>
                        <a:pt x="632" y="360"/>
                        <a:pt x="784" y="336"/>
                        <a:pt x="960" y="368"/>
                      </a:cubicBezTo>
                      <a:cubicBezTo>
                        <a:pt x="1136" y="400"/>
                        <a:pt x="1472" y="520"/>
                        <a:pt x="1584" y="560"/>
                      </a:cubicBezTo>
                      <a:cubicBezTo>
                        <a:pt x="1696" y="600"/>
                        <a:pt x="1664" y="592"/>
                        <a:pt x="1632" y="608"/>
                      </a:cubicBezTo>
                      <a:cubicBezTo>
                        <a:pt x="1600" y="624"/>
                        <a:pt x="1560" y="648"/>
                        <a:pt x="1392" y="656"/>
                      </a:cubicBezTo>
                      <a:cubicBezTo>
                        <a:pt x="1224" y="664"/>
                        <a:pt x="840" y="688"/>
                        <a:pt x="624" y="656"/>
                      </a:cubicBezTo>
                      <a:cubicBezTo>
                        <a:pt x="408" y="624"/>
                        <a:pt x="192" y="512"/>
                        <a:pt x="96" y="464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8" name=""/>
              <p:cNvGrpSpPr/>
              <p:nvPr/>
            </p:nvGrpSpPr>
            <p:grpSpPr>
              <a:xfrm>
                <a:off x="7394400" y="4680"/>
                <a:ext cx="611280" cy="6838920"/>
                <a:chOff x="7394400" y="4680"/>
                <a:chExt cx="611280" cy="683892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7419960" y="4680"/>
                  <a:ext cx="585720" cy="4145040"/>
                </a:xfrm>
                <a:custGeom>
                  <a:avLst/>
                  <a:gdLst/>
                  <a:ahLst/>
                  <a:rect l="l" t="t" r="r" b="b"/>
                  <a:pathLst>
                    <a:path w="369" h="2611">
                      <a:moveTo>
                        <a:pt x="22" y="0"/>
                      </a:moveTo>
                      <a:lnTo>
                        <a:pt x="14" y="1622"/>
                      </a:lnTo>
                      <a:cubicBezTo>
                        <a:pt x="14" y="1622"/>
                        <a:pt x="10" y="2084"/>
                        <a:pt x="6" y="2547"/>
                      </a:cubicBezTo>
                      <a:cubicBezTo>
                        <a:pt x="0" y="2588"/>
                        <a:pt x="8" y="2597"/>
                        <a:pt x="38" y="2604"/>
                      </a:cubicBezTo>
                      <a:cubicBezTo>
                        <a:pt x="68" y="2611"/>
                        <a:pt x="134" y="2589"/>
                        <a:pt x="184" y="2588"/>
                      </a:cubicBezTo>
                      <a:cubicBezTo>
                        <a:pt x="234" y="2587"/>
                        <a:pt x="309" y="2605"/>
                        <a:pt x="339" y="2596"/>
                      </a:cubicBezTo>
                      <a:cubicBezTo>
                        <a:pt x="369" y="2587"/>
                        <a:pt x="366" y="2567"/>
                        <a:pt x="363" y="2531"/>
                      </a:cubicBezTo>
                      <a:cubicBezTo>
                        <a:pt x="363" y="2378"/>
                        <a:pt x="343" y="2101"/>
                        <a:pt x="339" y="1679"/>
                      </a:cubicBezTo>
                      <a:lnTo>
                        <a:pt x="339" y="0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7564320" y="3454200"/>
                  <a:ext cx="398520" cy="619200"/>
                </a:xfrm>
                <a:custGeom>
                  <a:avLst/>
                  <a:gdLst/>
                  <a:ahLst/>
                  <a:rect l="l" t="t" r="r" b="b"/>
                  <a:pathLst>
                    <a:path w="251" h="390">
                      <a:moveTo>
                        <a:pt x="32" y="379"/>
                      </a:moveTo>
                      <a:cubicBezTo>
                        <a:pt x="43" y="377"/>
                        <a:pt x="57" y="366"/>
                        <a:pt x="77" y="364"/>
                      </a:cubicBezTo>
                      <a:cubicBezTo>
                        <a:pt x="97" y="362"/>
                        <a:pt x="130" y="366"/>
                        <a:pt x="152" y="370"/>
                      </a:cubicBezTo>
                      <a:cubicBezTo>
                        <a:pt x="174" y="374"/>
                        <a:pt x="194" y="386"/>
                        <a:pt x="209" y="388"/>
                      </a:cubicBezTo>
                      <a:cubicBezTo>
                        <a:pt x="224" y="390"/>
                        <a:pt x="235" y="389"/>
                        <a:pt x="242" y="379"/>
                      </a:cubicBezTo>
                      <a:cubicBezTo>
                        <a:pt x="249" y="369"/>
                        <a:pt x="251" y="362"/>
                        <a:pt x="248" y="328"/>
                      </a:cubicBezTo>
                      <a:cubicBezTo>
                        <a:pt x="245" y="294"/>
                        <a:pt x="236" y="208"/>
                        <a:pt x="227" y="175"/>
                      </a:cubicBezTo>
                      <a:cubicBezTo>
                        <a:pt x="218" y="142"/>
                        <a:pt x="202" y="110"/>
                        <a:pt x="194" y="130"/>
                      </a:cubicBezTo>
                      <a:cubicBezTo>
                        <a:pt x="186" y="150"/>
                        <a:pt x="186" y="266"/>
                        <a:pt x="179" y="295"/>
                      </a:cubicBezTo>
                      <a:cubicBezTo>
                        <a:pt x="172" y="324"/>
                        <a:pt x="159" y="329"/>
                        <a:pt x="152" y="307"/>
                      </a:cubicBezTo>
                      <a:cubicBezTo>
                        <a:pt x="145" y="285"/>
                        <a:pt x="149" y="212"/>
                        <a:pt x="134" y="163"/>
                      </a:cubicBezTo>
                      <a:cubicBezTo>
                        <a:pt x="119" y="114"/>
                        <a:pt x="82" y="26"/>
                        <a:pt x="65" y="13"/>
                      </a:cubicBezTo>
                      <a:cubicBezTo>
                        <a:pt x="48" y="0"/>
                        <a:pt x="35" y="42"/>
                        <a:pt x="29" y="85"/>
                      </a:cubicBezTo>
                      <a:cubicBezTo>
                        <a:pt x="23" y="128"/>
                        <a:pt x="30" y="229"/>
                        <a:pt x="26" y="271"/>
                      </a:cubicBezTo>
                      <a:cubicBezTo>
                        <a:pt x="22" y="313"/>
                        <a:pt x="4" y="319"/>
                        <a:pt x="2" y="337"/>
                      </a:cubicBezTo>
                      <a:cubicBezTo>
                        <a:pt x="0" y="355"/>
                        <a:pt x="5" y="373"/>
                        <a:pt x="11" y="379"/>
                      </a:cubicBezTo>
                      <a:cubicBezTo>
                        <a:pt x="17" y="385"/>
                        <a:pt x="21" y="381"/>
                        <a:pt x="32" y="379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d5e3c3"/>
                    </a:gs>
                    <a:gs pos="100000">
                      <a:srgbClr val="e5eed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7394400" y="4122720"/>
                  <a:ext cx="600120" cy="2720880"/>
                </a:xfrm>
                <a:custGeom>
                  <a:avLst/>
                  <a:gdLst/>
                  <a:ahLst/>
                  <a:rect l="l" t="t" r="r" b="b"/>
                  <a:pathLst>
                    <a:path w="378" h="1714">
                      <a:moveTo>
                        <a:pt x="0" y="1714"/>
                      </a:moveTo>
                      <a:cubicBezTo>
                        <a:pt x="15" y="1400"/>
                        <a:pt x="10" y="693"/>
                        <a:pt x="15" y="420"/>
                      </a:cubicBezTo>
                      <a:cubicBezTo>
                        <a:pt x="18" y="145"/>
                        <a:pt x="8" y="126"/>
                        <a:pt x="19" y="63"/>
                      </a:cubicBezTo>
                      <a:cubicBezTo>
                        <a:pt x="30" y="0"/>
                        <a:pt x="49" y="46"/>
                        <a:pt x="79" y="39"/>
                      </a:cubicBezTo>
                      <a:cubicBezTo>
                        <a:pt x="109" y="32"/>
                        <a:pt x="157" y="21"/>
                        <a:pt x="202" y="18"/>
                      </a:cubicBezTo>
                      <a:cubicBezTo>
                        <a:pt x="268" y="33"/>
                        <a:pt x="324" y="6"/>
                        <a:pt x="351" y="23"/>
                      </a:cubicBezTo>
                      <a:cubicBezTo>
                        <a:pt x="378" y="40"/>
                        <a:pt x="370" y="51"/>
                        <a:pt x="366" y="120"/>
                      </a:cubicBezTo>
                      <a:cubicBezTo>
                        <a:pt x="367" y="240"/>
                        <a:pt x="362" y="475"/>
                        <a:pt x="359" y="741"/>
                      </a:cubicBezTo>
                      <a:cubicBezTo>
                        <a:pt x="356" y="1007"/>
                        <a:pt x="351" y="1430"/>
                        <a:pt x="351" y="1714"/>
                      </a:cubicBezTo>
                      <a:cubicBezTo>
                        <a:pt x="351" y="1714"/>
                        <a:pt x="0" y="1714"/>
                        <a:pt x="0" y="1714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7593120" y="4200480"/>
                  <a:ext cx="231480" cy="244440"/>
                </a:xfrm>
                <a:custGeom>
                  <a:avLst/>
                  <a:gdLst/>
                  <a:ahLst/>
                  <a:rect l="l" t="t" r="r" b="b"/>
                  <a:pathLst>
                    <a:path w="146" h="154">
                      <a:moveTo>
                        <a:pt x="14" y="11"/>
                      </a:moveTo>
                      <a:cubicBezTo>
                        <a:pt x="28" y="2"/>
                        <a:pt x="71" y="2"/>
                        <a:pt x="92" y="2"/>
                      </a:cubicBezTo>
                      <a:cubicBezTo>
                        <a:pt x="113" y="2"/>
                        <a:pt x="134" y="0"/>
                        <a:pt x="140" y="14"/>
                      </a:cubicBezTo>
                      <a:cubicBezTo>
                        <a:pt x="146" y="28"/>
                        <a:pt x="132" y="67"/>
                        <a:pt x="128" y="89"/>
                      </a:cubicBezTo>
                      <a:cubicBezTo>
                        <a:pt x="124" y="111"/>
                        <a:pt x="125" y="138"/>
                        <a:pt x="116" y="146"/>
                      </a:cubicBezTo>
                      <a:cubicBezTo>
                        <a:pt x="107" y="154"/>
                        <a:pt x="88" y="137"/>
                        <a:pt x="74" y="134"/>
                      </a:cubicBezTo>
                      <a:cubicBezTo>
                        <a:pt x="60" y="131"/>
                        <a:pt x="44" y="141"/>
                        <a:pt x="32" y="128"/>
                      </a:cubicBezTo>
                      <a:cubicBezTo>
                        <a:pt x="20" y="115"/>
                        <a:pt x="8" y="75"/>
                        <a:pt x="5" y="56"/>
                      </a:cubicBezTo>
                      <a:cubicBezTo>
                        <a:pt x="2" y="37"/>
                        <a:pt x="0" y="20"/>
                        <a:pt x="14" y="1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e5eeda"/>
                    </a:gs>
                    <a:gs pos="100000">
                      <a:srgbClr val="d5e3c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3" name=""/>
              <p:cNvGrpSpPr/>
              <p:nvPr/>
            </p:nvGrpSpPr>
            <p:grpSpPr>
              <a:xfrm>
                <a:off x="5553000" y="4680"/>
                <a:ext cx="784080" cy="6846480"/>
                <a:chOff x="5553000" y="4680"/>
                <a:chExt cx="784080" cy="6846480"/>
              </a:xfrm>
            </p:grpSpPr>
            <p:sp>
              <p:nvSpPr>
                <p:cNvPr id="174" name=""/>
                <p:cNvSpPr/>
                <p:nvPr/>
              </p:nvSpPr>
              <p:spPr>
                <a:xfrm>
                  <a:off x="5553000" y="15480"/>
                  <a:ext cx="660240" cy="6835680"/>
                </a:xfrm>
                <a:custGeom>
                  <a:avLst/>
                  <a:gdLst/>
                  <a:ahLst/>
                  <a:rect l="l" t="t" r="r" b="b"/>
                  <a:pathLst>
                    <a:path w="416" h="4321">
                      <a:moveTo>
                        <a:pt x="12" y="0"/>
                      </a:moveTo>
                      <a:lnTo>
                        <a:pt x="18" y="406"/>
                      </a:lnTo>
                      <a:lnTo>
                        <a:pt x="3" y="662"/>
                      </a:lnTo>
                      <a:lnTo>
                        <a:pt x="8" y="713"/>
                      </a:lnTo>
                      <a:lnTo>
                        <a:pt x="24" y="740"/>
                      </a:lnTo>
                      <a:lnTo>
                        <a:pt x="42" y="758"/>
                      </a:lnTo>
                      <a:lnTo>
                        <a:pt x="36" y="803"/>
                      </a:lnTo>
                      <a:lnTo>
                        <a:pt x="12" y="824"/>
                      </a:lnTo>
                      <a:lnTo>
                        <a:pt x="0" y="878"/>
                      </a:lnTo>
                      <a:cubicBezTo>
                        <a:pt x="0" y="1224"/>
                        <a:pt x="8" y="2504"/>
                        <a:pt x="9" y="2903"/>
                      </a:cubicBezTo>
                      <a:cubicBezTo>
                        <a:pt x="10" y="3302"/>
                        <a:pt x="8" y="3205"/>
                        <a:pt x="9" y="3276"/>
                      </a:cubicBezTo>
                      <a:lnTo>
                        <a:pt x="16" y="3330"/>
                      </a:lnTo>
                      <a:lnTo>
                        <a:pt x="42" y="3354"/>
                      </a:lnTo>
                      <a:lnTo>
                        <a:pt x="51" y="3390"/>
                      </a:lnTo>
                      <a:lnTo>
                        <a:pt x="39" y="3427"/>
                      </a:lnTo>
                      <a:lnTo>
                        <a:pt x="24" y="3466"/>
                      </a:lnTo>
                      <a:cubicBezTo>
                        <a:pt x="23" y="3615"/>
                        <a:pt x="18" y="4179"/>
                        <a:pt x="31" y="4321"/>
                      </a:cubicBezTo>
                      <a:lnTo>
                        <a:pt x="102" y="4317"/>
                      </a:lnTo>
                      <a:cubicBezTo>
                        <a:pt x="112" y="4185"/>
                        <a:pt x="91" y="3666"/>
                        <a:pt x="93" y="3529"/>
                      </a:cubicBezTo>
                      <a:lnTo>
                        <a:pt x="117" y="3496"/>
                      </a:lnTo>
                      <a:lnTo>
                        <a:pt x="156" y="3493"/>
                      </a:lnTo>
                      <a:cubicBezTo>
                        <a:pt x="186" y="3494"/>
                        <a:pt x="266" y="3501"/>
                        <a:pt x="297" y="3502"/>
                      </a:cubicBezTo>
                      <a:cubicBezTo>
                        <a:pt x="328" y="3503"/>
                        <a:pt x="335" y="3506"/>
                        <a:pt x="345" y="3502"/>
                      </a:cubicBezTo>
                      <a:cubicBezTo>
                        <a:pt x="355" y="3498"/>
                        <a:pt x="362" y="3485"/>
                        <a:pt x="357" y="3478"/>
                      </a:cubicBezTo>
                      <a:cubicBezTo>
                        <a:pt x="352" y="3471"/>
                        <a:pt x="353" y="3465"/>
                        <a:pt x="315" y="3459"/>
                      </a:cubicBezTo>
                      <a:cubicBezTo>
                        <a:pt x="277" y="3453"/>
                        <a:pt x="164" y="3449"/>
                        <a:pt x="128" y="3444"/>
                      </a:cubicBezTo>
                      <a:cubicBezTo>
                        <a:pt x="92" y="3439"/>
                        <a:pt x="100" y="3436"/>
                        <a:pt x="99" y="3430"/>
                      </a:cubicBezTo>
                      <a:cubicBezTo>
                        <a:pt x="98" y="3424"/>
                        <a:pt x="102" y="3413"/>
                        <a:pt x="120" y="3408"/>
                      </a:cubicBezTo>
                      <a:lnTo>
                        <a:pt x="210" y="3399"/>
                      </a:lnTo>
                      <a:cubicBezTo>
                        <a:pt x="246" y="3397"/>
                        <a:pt x="309" y="3401"/>
                        <a:pt x="337" y="3398"/>
                      </a:cubicBezTo>
                      <a:cubicBezTo>
                        <a:pt x="365" y="3395"/>
                        <a:pt x="416" y="3385"/>
                        <a:pt x="381" y="3381"/>
                      </a:cubicBezTo>
                      <a:cubicBezTo>
                        <a:pt x="346" y="3377"/>
                        <a:pt x="177" y="3382"/>
                        <a:pt x="128" y="3375"/>
                      </a:cubicBezTo>
                      <a:lnTo>
                        <a:pt x="87" y="3336"/>
                      </a:lnTo>
                      <a:lnTo>
                        <a:pt x="68" y="3285"/>
                      </a:lnTo>
                      <a:cubicBezTo>
                        <a:pt x="64" y="2983"/>
                        <a:pt x="63" y="1925"/>
                        <a:pt x="63" y="1525"/>
                      </a:cubicBezTo>
                      <a:lnTo>
                        <a:pt x="68" y="885"/>
                      </a:lnTo>
                      <a:lnTo>
                        <a:pt x="84" y="851"/>
                      </a:lnTo>
                      <a:lnTo>
                        <a:pt x="120" y="832"/>
                      </a:lnTo>
                      <a:lnTo>
                        <a:pt x="405" y="825"/>
                      </a:lnTo>
                      <a:lnTo>
                        <a:pt x="405" y="765"/>
                      </a:lnTo>
                      <a:lnTo>
                        <a:pt x="203" y="765"/>
                      </a:lnTo>
                      <a:lnTo>
                        <a:pt x="150" y="752"/>
                      </a:lnTo>
                      <a:lnTo>
                        <a:pt x="105" y="728"/>
                      </a:lnTo>
                      <a:lnTo>
                        <a:pt x="75" y="705"/>
                      </a:lnTo>
                      <a:lnTo>
                        <a:pt x="60" y="645"/>
                      </a:lnTo>
                      <a:lnTo>
                        <a:pt x="81" y="316"/>
                      </a:lnTo>
                      <a:lnTo>
                        <a:pt x="81" y="0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6040080" y="4680"/>
                  <a:ext cx="297000" cy="6838920"/>
                </a:xfrm>
                <a:custGeom>
                  <a:avLst/>
                  <a:gdLst/>
                  <a:ahLst/>
                  <a:rect l="l" t="t" r="r" b="b"/>
                  <a:pathLst>
                    <a:path w="187" h="4323">
                      <a:moveTo>
                        <a:pt x="142" y="0"/>
                      </a:moveTo>
                      <a:lnTo>
                        <a:pt x="157" y="658"/>
                      </a:lnTo>
                      <a:lnTo>
                        <a:pt x="142" y="733"/>
                      </a:lnTo>
                      <a:lnTo>
                        <a:pt x="90" y="763"/>
                      </a:lnTo>
                      <a:lnTo>
                        <a:pt x="53" y="792"/>
                      </a:lnTo>
                      <a:lnTo>
                        <a:pt x="83" y="830"/>
                      </a:lnTo>
                      <a:lnTo>
                        <a:pt x="127" y="837"/>
                      </a:lnTo>
                      <a:lnTo>
                        <a:pt x="157" y="875"/>
                      </a:lnTo>
                      <a:lnTo>
                        <a:pt x="157" y="1152"/>
                      </a:lnTo>
                      <a:lnTo>
                        <a:pt x="135" y="1466"/>
                      </a:lnTo>
                      <a:lnTo>
                        <a:pt x="135" y="2573"/>
                      </a:lnTo>
                      <a:lnTo>
                        <a:pt x="165" y="3037"/>
                      </a:lnTo>
                      <a:lnTo>
                        <a:pt x="180" y="3298"/>
                      </a:lnTo>
                      <a:lnTo>
                        <a:pt x="142" y="3418"/>
                      </a:lnTo>
                      <a:lnTo>
                        <a:pt x="150" y="3463"/>
                      </a:lnTo>
                      <a:lnTo>
                        <a:pt x="172" y="3523"/>
                      </a:lnTo>
                      <a:lnTo>
                        <a:pt x="187" y="3807"/>
                      </a:lnTo>
                      <a:lnTo>
                        <a:pt x="187" y="4323"/>
                      </a:lnTo>
                      <a:lnTo>
                        <a:pt x="120" y="4316"/>
                      </a:lnTo>
                      <a:lnTo>
                        <a:pt x="105" y="3605"/>
                      </a:lnTo>
                      <a:lnTo>
                        <a:pt x="68" y="3463"/>
                      </a:lnTo>
                      <a:lnTo>
                        <a:pt x="83" y="3381"/>
                      </a:lnTo>
                      <a:lnTo>
                        <a:pt x="127" y="3313"/>
                      </a:lnTo>
                      <a:lnTo>
                        <a:pt x="98" y="3081"/>
                      </a:lnTo>
                      <a:lnTo>
                        <a:pt x="83" y="2573"/>
                      </a:lnTo>
                      <a:lnTo>
                        <a:pt x="83" y="1825"/>
                      </a:lnTo>
                      <a:lnTo>
                        <a:pt x="75" y="1264"/>
                      </a:lnTo>
                      <a:lnTo>
                        <a:pt x="83" y="950"/>
                      </a:lnTo>
                      <a:lnTo>
                        <a:pt x="38" y="852"/>
                      </a:lnTo>
                      <a:lnTo>
                        <a:pt x="0" y="807"/>
                      </a:lnTo>
                      <a:lnTo>
                        <a:pt x="75" y="718"/>
                      </a:lnTo>
                      <a:lnTo>
                        <a:pt x="105" y="605"/>
                      </a:lnTo>
                      <a:lnTo>
                        <a:pt x="90" y="119"/>
                      </a:lnTo>
                      <a:lnTo>
                        <a:pt x="75" y="7"/>
                      </a:lnTo>
                      <a:lnTo>
                        <a:pt x="142" y="0"/>
                      </a:ln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6" name=""/>
              <p:cNvGrpSpPr/>
              <p:nvPr/>
            </p:nvGrpSpPr>
            <p:grpSpPr>
              <a:xfrm>
                <a:off x="4648320" y="1806120"/>
                <a:ext cx="3003120" cy="2403360"/>
                <a:chOff x="4648320" y="1806120"/>
                <a:chExt cx="3003120" cy="2403360"/>
              </a:xfrm>
            </p:grpSpPr>
            <p:sp>
              <p:nvSpPr>
                <p:cNvPr id="177" name=""/>
                <p:cNvSpPr/>
                <p:nvPr/>
              </p:nvSpPr>
              <p:spPr>
                <a:xfrm flipH="1" rot="21429000">
                  <a:off x="4688640" y="2240640"/>
                  <a:ext cx="1156680" cy="166212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 rot="20854800">
                  <a:off x="6329160" y="1910880"/>
                  <a:ext cx="1156680" cy="166212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5834520" y="2301120"/>
                  <a:ext cx="776520" cy="1908360"/>
                </a:xfrm>
                <a:custGeom>
                  <a:avLst/>
                  <a:gdLst/>
                  <a:ahLst/>
                  <a:rect l="l" t="t" r="r" b="b"/>
                  <a:pathLst>
                    <a:path w="980" h="2408">
                      <a:moveTo>
                        <a:pt x="253" y="1432"/>
                      </a:moveTo>
                      <a:cubicBezTo>
                        <a:pt x="184" y="1264"/>
                        <a:pt x="122" y="1070"/>
                        <a:pt x="82" y="881"/>
                      </a:cubicBezTo>
                      <a:cubicBezTo>
                        <a:pt x="42" y="692"/>
                        <a:pt x="0" y="433"/>
                        <a:pt x="12" y="296"/>
                      </a:cubicBezTo>
                      <a:cubicBezTo>
                        <a:pt x="24" y="159"/>
                        <a:pt x="84" y="96"/>
                        <a:pt x="156" y="56"/>
                      </a:cubicBezTo>
                      <a:cubicBezTo>
                        <a:pt x="228" y="16"/>
                        <a:pt x="364" y="0"/>
                        <a:pt x="444" y="56"/>
                      </a:cubicBezTo>
                      <a:cubicBezTo>
                        <a:pt x="524" y="112"/>
                        <a:pt x="564" y="216"/>
                        <a:pt x="636" y="392"/>
                      </a:cubicBezTo>
                      <a:cubicBezTo>
                        <a:pt x="708" y="568"/>
                        <a:pt x="820" y="840"/>
                        <a:pt x="876" y="1112"/>
                      </a:cubicBezTo>
                      <a:cubicBezTo>
                        <a:pt x="932" y="1384"/>
                        <a:pt x="964" y="1816"/>
                        <a:pt x="972" y="2024"/>
                      </a:cubicBezTo>
                      <a:cubicBezTo>
                        <a:pt x="980" y="2232"/>
                        <a:pt x="940" y="2312"/>
                        <a:pt x="924" y="2360"/>
                      </a:cubicBezTo>
                      <a:cubicBezTo>
                        <a:pt x="908" y="2408"/>
                        <a:pt x="892" y="2384"/>
                        <a:pt x="876" y="2312"/>
                      </a:cubicBezTo>
                      <a:cubicBezTo>
                        <a:pt x="860" y="2240"/>
                        <a:pt x="860" y="2096"/>
                        <a:pt x="828" y="1928"/>
                      </a:cubicBezTo>
                      <a:cubicBezTo>
                        <a:pt x="796" y="1760"/>
                        <a:pt x="756" y="1544"/>
                        <a:pt x="684" y="1304"/>
                      </a:cubicBezTo>
                      <a:cubicBezTo>
                        <a:pt x="612" y="1064"/>
                        <a:pt x="460" y="648"/>
                        <a:pt x="396" y="488"/>
                      </a:cubicBezTo>
                      <a:cubicBezTo>
                        <a:pt x="332" y="328"/>
                        <a:pt x="316" y="352"/>
                        <a:pt x="300" y="344"/>
                      </a:cubicBezTo>
                      <a:cubicBezTo>
                        <a:pt x="284" y="336"/>
                        <a:pt x="260" y="320"/>
                        <a:pt x="300" y="440"/>
                      </a:cubicBezTo>
                      <a:cubicBezTo>
                        <a:pt x="340" y="560"/>
                        <a:pt x="468" y="840"/>
                        <a:pt x="540" y="1064"/>
                      </a:cubicBezTo>
                      <a:cubicBezTo>
                        <a:pt x="612" y="1288"/>
                        <a:pt x="692" y="1584"/>
                        <a:pt x="732" y="1784"/>
                      </a:cubicBezTo>
                      <a:cubicBezTo>
                        <a:pt x="772" y="1984"/>
                        <a:pt x="780" y="2176"/>
                        <a:pt x="780" y="2264"/>
                      </a:cubicBezTo>
                      <a:cubicBezTo>
                        <a:pt x="780" y="2352"/>
                        <a:pt x="779" y="2375"/>
                        <a:pt x="732" y="2312"/>
                      </a:cubicBezTo>
                      <a:cubicBezTo>
                        <a:pt x="685" y="2249"/>
                        <a:pt x="576" y="2034"/>
                        <a:pt x="496" y="1887"/>
                      </a:cubicBezTo>
                      <a:cubicBezTo>
                        <a:pt x="416" y="1740"/>
                        <a:pt x="304" y="1527"/>
                        <a:pt x="253" y="1432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0" name=""/>
              <p:cNvSpPr/>
              <p:nvPr/>
            </p:nvSpPr>
            <p:spPr>
              <a:xfrm flipH="1" rot="21429000">
                <a:off x="7746840" y="1052280"/>
                <a:ext cx="787320" cy="1132200"/>
              </a:xfrm>
              <a:custGeom>
                <a:avLst/>
                <a:gdLst/>
                <a:ahLst/>
                <a:rect l="l" t="t" r="r" b="b"/>
                <a:pathLst>
                  <a:path w="1456" h="2088">
                    <a:moveTo>
                      <a:pt x="184" y="48"/>
                    </a:moveTo>
                    <a:cubicBezTo>
                      <a:pt x="288" y="48"/>
                      <a:pt x="480" y="0"/>
                      <a:pt x="664" y="192"/>
                    </a:cubicBezTo>
                    <a:cubicBezTo>
                      <a:pt x="848" y="384"/>
                      <a:pt x="1160" y="904"/>
                      <a:pt x="1288" y="1200"/>
                    </a:cubicBezTo>
                    <a:cubicBezTo>
                      <a:pt x="1416" y="1496"/>
                      <a:pt x="1416" y="1848"/>
                      <a:pt x="1432" y="1968"/>
                    </a:cubicBezTo>
                    <a:cubicBezTo>
                      <a:pt x="1448" y="2088"/>
                      <a:pt x="1456" y="2048"/>
                      <a:pt x="1384" y="1920"/>
                    </a:cubicBezTo>
                    <a:cubicBezTo>
                      <a:pt x="1312" y="1792"/>
                      <a:pt x="1128" y="1424"/>
                      <a:pt x="1000" y="1200"/>
                    </a:cubicBezTo>
                    <a:cubicBezTo>
                      <a:pt x="872" y="976"/>
                      <a:pt x="736" y="736"/>
                      <a:pt x="616" y="576"/>
                    </a:cubicBezTo>
                    <a:cubicBezTo>
                      <a:pt x="496" y="416"/>
                      <a:pt x="344" y="288"/>
                      <a:pt x="280" y="240"/>
                    </a:cubicBezTo>
                    <a:cubicBezTo>
                      <a:pt x="216" y="192"/>
                      <a:pt x="200" y="240"/>
                      <a:pt x="232" y="288"/>
                    </a:cubicBezTo>
                    <a:cubicBezTo>
                      <a:pt x="264" y="336"/>
                      <a:pt x="384" y="416"/>
                      <a:pt x="472" y="528"/>
                    </a:cubicBezTo>
                    <a:cubicBezTo>
                      <a:pt x="560" y="640"/>
                      <a:pt x="648" y="776"/>
                      <a:pt x="760" y="960"/>
                    </a:cubicBezTo>
                    <a:cubicBezTo>
                      <a:pt x="872" y="1144"/>
                      <a:pt x="1040" y="1456"/>
                      <a:pt x="1144" y="1632"/>
                    </a:cubicBezTo>
                    <a:cubicBezTo>
                      <a:pt x="1248" y="1808"/>
                      <a:pt x="1352" y="1952"/>
                      <a:pt x="1384" y="2016"/>
                    </a:cubicBezTo>
                    <a:cubicBezTo>
                      <a:pt x="1416" y="2080"/>
                      <a:pt x="1384" y="2048"/>
                      <a:pt x="1336" y="2016"/>
                    </a:cubicBezTo>
                    <a:cubicBezTo>
                      <a:pt x="1288" y="1984"/>
                      <a:pt x="1224" y="1944"/>
                      <a:pt x="1096" y="1824"/>
                    </a:cubicBezTo>
                    <a:cubicBezTo>
                      <a:pt x="968" y="1704"/>
                      <a:pt x="736" y="1504"/>
                      <a:pt x="568" y="1296"/>
                    </a:cubicBezTo>
                    <a:cubicBezTo>
                      <a:pt x="400" y="1088"/>
                      <a:pt x="176" y="760"/>
                      <a:pt x="88" y="576"/>
                    </a:cubicBezTo>
                    <a:cubicBezTo>
                      <a:pt x="0" y="392"/>
                      <a:pt x="24" y="280"/>
                      <a:pt x="40" y="192"/>
                    </a:cubicBezTo>
                    <a:cubicBezTo>
                      <a:pt x="56" y="104"/>
                      <a:pt x="80" y="48"/>
                      <a:pt x="184" y="48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8793000" y="915840"/>
                <a:ext cx="343080" cy="579600"/>
              </a:xfrm>
              <a:custGeom>
                <a:avLst/>
                <a:gdLst/>
                <a:ahLst/>
                <a:rect l="l" t="t" r="r" b="b"/>
                <a:pathLst>
                  <a:path w="216" h="365">
                    <a:moveTo>
                      <a:pt x="39" y="8"/>
                    </a:moveTo>
                    <a:cubicBezTo>
                      <a:pt x="74" y="1"/>
                      <a:pt x="183" y="0"/>
                      <a:pt x="213" y="23"/>
                    </a:cubicBezTo>
                    <a:lnTo>
                      <a:pt x="216" y="146"/>
                    </a:lnTo>
                    <a:cubicBezTo>
                      <a:pt x="195" y="153"/>
                      <a:pt x="108" y="76"/>
                      <a:pt x="84" y="66"/>
                    </a:cubicBezTo>
                    <a:cubicBezTo>
                      <a:pt x="60" y="56"/>
                      <a:pt x="58" y="72"/>
                      <a:pt x="72" y="85"/>
                    </a:cubicBezTo>
                    <a:cubicBezTo>
                      <a:pt x="86" y="99"/>
                      <a:pt x="146" y="129"/>
                      <a:pt x="169" y="147"/>
                    </a:cubicBezTo>
                    <a:cubicBezTo>
                      <a:pt x="192" y="165"/>
                      <a:pt x="205" y="158"/>
                      <a:pt x="213" y="194"/>
                    </a:cubicBezTo>
                    <a:lnTo>
                      <a:pt x="216" y="365"/>
                    </a:lnTo>
                    <a:cubicBezTo>
                      <a:pt x="188" y="365"/>
                      <a:pt x="81" y="242"/>
                      <a:pt x="45" y="192"/>
                    </a:cubicBezTo>
                    <a:cubicBezTo>
                      <a:pt x="9" y="142"/>
                      <a:pt x="2" y="98"/>
                      <a:pt x="1" y="68"/>
                    </a:cubicBezTo>
                    <a:cubicBezTo>
                      <a:pt x="0" y="37"/>
                      <a:pt x="3" y="16"/>
                      <a:pt x="39" y="8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8526240" y="1093680"/>
                <a:ext cx="530280" cy="1300320"/>
              </a:xfrm>
              <a:custGeom>
                <a:avLst/>
                <a:gdLst/>
                <a:ahLst/>
                <a:rect l="l" t="t" r="r" b="b"/>
                <a:pathLst>
                  <a:path w="980" h="2408">
                    <a:moveTo>
                      <a:pt x="253" y="1432"/>
                    </a:moveTo>
                    <a:cubicBezTo>
                      <a:pt x="184" y="1264"/>
                      <a:pt x="122" y="1070"/>
                      <a:pt x="82" y="881"/>
                    </a:cubicBezTo>
                    <a:cubicBezTo>
                      <a:pt x="42" y="692"/>
                      <a:pt x="0" y="433"/>
                      <a:pt x="12" y="296"/>
                    </a:cubicBezTo>
                    <a:cubicBezTo>
                      <a:pt x="24" y="159"/>
                      <a:pt x="84" y="96"/>
                      <a:pt x="156" y="56"/>
                    </a:cubicBezTo>
                    <a:cubicBezTo>
                      <a:pt x="228" y="16"/>
                      <a:pt x="364" y="0"/>
                      <a:pt x="444" y="56"/>
                    </a:cubicBezTo>
                    <a:cubicBezTo>
                      <a:pt x="524" y="112"/>
                      <a:pt x="564" y="216"/>
                      <a:pt x="636" y="392"/>
                    </a:cubicBezTo>
                    <a:cubicBezTo>
                      <a:pt x="708" y="568"/>
                      <a:pt x="820" y="840"/>
                      <a:pt x="876" y="1112"/>
                    </a:cubicBezTo>
                    <a:cubicBezTo>
                      <a:pt x="932" y="1384"/>
                      <a:pt x="964" y="1816"/>
                      <a:pt x="972" y="2024"/>
                    </a:cubicBezTo>
                    <a:cubicBezTo>
                      <a:pt x="980" y="2232"/>
                      <a:pt x="940" y="2312"/>
                      <a:pt x="924" y="2360"/>
                    </a:cubicBezTo>
                    <a:cubicBezTo>
                      <a:pt x="908" y="2408"/>
                      <a:pt x="892" y="2384"/>
                      <a:pt x="876" y="2312"/>
                    </a:cubicBezTo>
                    <a:cubicBezTo>
                      <a:pt x="860" y="2240"/>
                      <a:pt x="860" y="2096"/>
                      <a:pt x="828" y="1928"/>
                    </a:cubicBezTo>
                    <a:cubicBezTo>
                      <a:pt x="796" y="1760"/>
                      <a:pt x="756" y="1544"/>
                      <a:pt x="684" y="1304"/>
                    </a:cubicBezTo>
                    <a:cubicBezTo>
                      <a:pt x="612" y="1064"/>
                      <a:pt x="460" y="648"/>
                      <a:pt x="396" y="488"/>
                    </a:cubicBezTo>
                    <a:cubicBezTo>
                      <a:pt x="332" y="328"/>
                      <a:pt x="316" y="352"/>
                      <a:pt x="300" y="344"/>
                    </a:cubicBezTo>
                    <a:cubicBezTo>
                      <a:pt x="284" y="336"/>
                      <a:pt x="260" y="320"/>
                      <a:pt x="300" y="440"/>
                    </a:cubicBezTo>
                    <a:cubicBezTo>
                      <a:pt x="340" y="560"/>
                      <a:pt x="468" y="840"/>
                      <a:pt x="540" y="1064"/>
                    </a:cubicBezTo>
                    <a:cubicBezTo>
                      <a:pt x="612" y="1288"/>
                      <a:pt x="692" y="1584"/>
                      <a:pt x="732" y="1784"/>
                    </a:cubicBezTo>
                    <a:cubicBezTo>
                      <a:pt x="772" y="1984"/>
                      <a:pt x="780" y="2176"/>
                      <a:pt x="780" y="2264"/>
                    </a:cubicBezTo>
                    <a:cubicBezTo>
                      <a:pt x="780" y="2352"/>
                      <a:pt x="779" y="2375"/>
                      <a:pt x="732" y="2312"/>
                    </a:cubicBezTo>
                    <a:cubicBezTo>
                      <a:pt x="685" y="2249"/>
                      <a:pt x="576" y="2034"/>
                      <a:pt x="496" y="1887"/>
                    </a:cubicBezTo>
                    <a:cubicBezTo>
                      <a:pt x="416" y="1740"/>
                      <a:pt x="304" y="1527"/>
                      <a:pt x="253" y="1432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grpSp>
            <p:nvGrpSpPr>
              <p:cNvPr id="183" name=""/>
              <p:cNvGrpSpPr/>
              <p:nvPr/>
            </p:nvGrpSpPr>
            <p:grpSpPr>
              <a:xfrm>
                <a:off x="6887520" y="4248000"/>
                <a:ext cx="2044800" cy="1636560"/>
                <a:chOff x="6887520" y="4248000"/>
                <a:chExt cx="2044800" cy="1636560"/>
              </a:xfrm>
            </p:grpSpPr>
            <p:sp>
              <p:nvSpPr>
                <p:cNvPr id="184" name=""/>
                <p:cNvSpPr/>
                <p:nvPr/>
              </p:nvSpPr>
              <p:spPr>
                <a:xfrm flipH="1" rot="21429000">
                  <a:off x="6915240" y="4543920"/>
                  <a:ext cx="787680" cy="113184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 rot="20854800">
                  <a:off x="8031960" y="4319280"/>
                  <a:ext cx="787680" cy="113184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7695000" y="4584960"/>
                  <a:ext cx="528840" cy="1299600"/>
                </a:xfrm>
                <a:custGeom>
                  <a:avLst/>
                  <a:gdLst/>
                  <a:ahLst/>
                  <a:rect l="l" t="t" r="r" b="b"/>
                  <a:pathLst>
                    <a:path w="980" h="2408">
                      <a:moveTo>
                        <a:pt x="253" y="1432"/>
                      </a:moveTo>
                      <a:cubicBezTo>
                        <a:pt x="184" y="1264"/>
                        <a:pt x="122" y="1070"/>
                        <a:pt x="82" y="881"/>
                      </a:cubicBezTo>
                      <a:cubicBezTo>
                        <a:pt x="42" y="692"/>
                        <a:pt x="0" y="433"/>
                        <a:pt x="12" y="296"/>
                      </a:cubicBezTo>
                      <a:cubicBezTo>
                        <a:pt x="24" y="159"/>
                        <a:pt x="84" y="96"/>
                        <a:pt x="156" y="56"/>
                      </a:cubicBezTo>
                      <a:cubicBezTo>
                        <a:pt x="228" y="16"/>
                        <a:pt x="364" y="0"/>
                        <a:pt x="444" y="56"/>
                      </a:cubicBezTo>
                      <a:cubicBezTo>
                        <a:pt x="524" y="112"/>
                        <a:pt x="564" y="216"/>
                        <a:pt x="636" y="392"/>
                      </a:cubicBezTo>
                      <a:cubicBezTo>
                        <a:pt x="708" y="568"/>
                        <a:pt x="820" y="840"/>
                        <a:pt x="876" y="1112"/>
                      </a:cubicBezTo>
                      <a:cubicBezTo>
                        <a:pt x="932" y="1384"/>
                        <a:pt x="964" y="1816"/>
                        <a:pt x="972" y="2024"/>
                      </a:cubicBezTo>
                      <a:cubicBezTo>
                        <a:pt x="980" y="2232"/>
                        <a:pt x="940" y="2312"/>
                        <a:pt x="924" y="2360"/>
                      </a:cubicBezTo>
                      <a:cubicBezTo>
                        <a:pt x="908" y="2408"/>
                        <a:pt x="892" y="2384"/>
                        <a:pt x="876" y="2312"/>
                      </a:cubicBezTo>
                      <a:cubicBezTo>
                        <a:pt x="860" y="2240"/>
                        <a:pt x="860" y="2096"/>
                        <a:pt x="828" y="1928"/>
                      </a:cubicBezTo>
                      <a:cubicBezTo>
                        <a:pt x="796" y="1760"/>
                        <a:pt x="756" y="1544"/>
                        <a:pt x="684" y="1304"/>
                      </a:cubicBezTo>
                      <a:cubicBezTo>
                        <a:pt x="612" y="1064"/>
                        <a:pt x="460" y="648"/>
                        <a:pt x="396" y="488"/>
                      </a:cubicBezTo>
                      <a:cubicBezTo>
                        <a:pt x="332" y="328"/>
                        <a:pt x="316" y="352"/>
                        <a:pt x="300" y="344"/>
                      </a:cubicBezTo>
                      <a:cubicBezTo>
                        <a:pt x="284" y="336"/>
                        <a:pt x="260" y="320"/>
                        <a:pt x="300" y="440"/>
                      </a:cubicBezTo>
                      <a:cubicBezTo>
                        <a:pt x="340" y="560"/>
                        <a:pt x="468" y="840"/>
                        <a:pt x="540" y="1064"/>
                      </a:cubicBezTo>
                      <a:cubicBezTo>
                        <a:pt x="612" y="1288"/>
                        <a:pt x="692" y="1584"/>
                        <a:pt x="732" y="1784"/>
                      </a:cubicBezTo>
                      <a:cubicBezTo>
                        <a:pt x="772" y="1984"/>
                        <a:pt x="780" y="2176"/>
                        <a:pt x="780" y="2264"/>
                      </a:cubicBezTo>
                      <a:cubicBezTo>
                        <a:pt x="780" y="2352"/>
                        <a:pt x="779" y="2375"/>
                        <a:pt x="732" y="2312"/>
                      </a:cubicBezTo>
                      <a:cubicBezTo>
                        <a:pt x="685" y="2249"/>
                        <a:pt x="576" y="2034"/>
                        <a:pt x="496" y="1887"/>
                      </a:cubicBezTo>
                      <a:cubicBezTo>
                        <a:pt x="416" y="1740"/>
                        <a:pt x="304" y="1527"/>
                        <a:pt x="253" y="1432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7" name=""/>
              <p:cNvGrpSpPr/>
              <p:nvPr/>
            </p:nvGrpSpPr>
            <p:grpSpPr>
              <a:xfrm>
                <a:off x="2321640" y="5472000"/>
                <a:ext cx="1585080" cy="1267920"/>
                <a:chOff x="2321640" y="5472000"/>
                <a:chExt cx="1585080" cy="1267920"/>
              </a:xfrm>
            </p:grpSpPr>
            <p:sp>
              <p:nvSpPr>
                <p:cNvPr id="188" name=""/>
                <p:cNvSpPr/>
                <p:nvPr/>
              </p:nvSpPr>
              <p:spPr>
                <a:xfrm flipH="1" rot="21429000">
                  <a:off x="2342520" y="5700600"/>
                  <a:ext cx="610560" cy="87696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 rot="20854800">
                  <a:off x="3209040" y="5527440"/>
                  <a:ext cx="610560" cy="87696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947680" y="5733000"/>
                  <a:ext cx="409680" cy="1006920"/>
                </a:xfrm>
                <a:custGeom>
                  <a:avLst/>
                  <a:gdLst/>
                  <a:ahLst/>
                  <a:rect l="l" t="t" r="r" b="b"/>
                  <a:pathLst>
                    <a:path w="980" h="2408">
                      <a:moveTo>
                        <a:pt x="253" y="1432"/>
                      </a:moveTo>
                      <a:cubicBezTo>
                        <a:pt x="184" y="1264"/>
                        <a:pt x="122" y="1070"/>
                        <a:pt x="82" y="881"/>
                      </a:cubicBezTo>
                      <a:cubicBezTo>
                        <a:pt x="42" y="692"/>
                        <a:pt x="0" y="433"/>
                        <a:pt x="12" y="296"/>
                      </a:cubicBezTo>
                      <a:cubicBezTo>
                        <a:pt x="24" y="159"/>
                        <a:pt x="84" y="96"/>
                        <a:pt x="156" y="56"/>
                      </a:cubicBezTo>
                      <a:cubicBezTo>
                        <a:pt x="228" y="16"/>
                        <a:pt x="364" y="0"/>
                        <a:pt x="444" y="56"/>
                      </a:cubicBezTo>
                      <a:cubicBezTo>
                        <a:pt x="524" y="112"/>
                        <a:pt x="564" y="216"/>
                        <a:pt x="636" y="392"/>
                      </a:cubicBezTo>
                      <a:cubicBezTo>
                        <a:pt x="708" y="568"/>
                        <a:pt x="820" y="840"/>
                        <a:pt x="876" y="1112"/>
                      </a:cubicBezTo>
                      <a:cubicBezTo>
                        <a:pt x="932" y="1384"/>
                        <a:pt x="964" y="1816"/>
                        <a:pt x="972" y="2024"/>
                      </a:cubicBezTo>
                      <a:cubicBezTo>
                        <a:pt x="980" y="2232"/>
                        <a:pt x="940" y="2312"/>
                        <a:pt x="924" y="2360"/>
                      </a:cubicBezTo>
                      <a:cubicBezTo>
                        <a:pt x="908" y="2408"/>
                        <a:pt x="892" y="2384"/>
                        <a:pt x="876" y="2312"/>
                      </a:cubicBezTo>
                      <a:cubicBezTo>
                        <a:pt x="860" y="2240"/>
                        <a:pt x="860" y="2096"/>
                        <a:pt x="828" y="1928"/>
                      </a:cubicBezTo>
                      <a:cubicBezTo>
                        <a:pt x="796" y="1760"/>
                        <a:pt x="756" y="1544"/>
                        <a:pt x="684" y="1304"/>
                      </a:cubicBezTo>
                      <a:cubicBezTo>
                        <a:pt x="612" y="1064"/>
                        <a:pt x="460" y="648"/>
                        <a:pt x="396" y="488"/>
                      </a:cubicBezTo>
                      <a:cubicBezTo>
                        <a:pt x="332" y="328"/>
                        <a:pt x="316" y="352"/>
                        <a:pt x="300" y="344"/>
                      </a:cubicBezTo>
                      <a:cubicBezTo>
                        <a:pt x="284" y="336"/>
                        <a:pt x="260" y="320"/>
                        <a:pt x="300" y="440"/>
                      </a:cubicBezTo>
                      <a:cubicBezTo>
                        <a:pt x="340" y="560"/>
                        <a:pt x="468" y="840"/>
                        <a:pt x="540" y="1064"/>
                      </a:cubicBezTo>
                      <a:cubicBezTo>
                        <a:pt x="612" y="1288"/>
                        <a:pt x="692" y="1584"/>
                        <a:pt x="732" y="1784"/>
                      </a:cubicBezTo>
                      <a:cubicBezTo>
                        <a:pt x="772" y="1984"/>
                        <a:pt x="780" y="2176"/>
                        <a:pt x="780" y="2264"/>
                      </a:cubicBezTo>
                      <a:cubicBezTo>
                        <a:pt x="780" y="2352"/>
                        <a:pt x="779" y="2375"/>
                        <a:pt x="732" y="2312"/>
                      </a:cubicBezTo>
                      <a:cubicBezTo>
                        <a:pt x="685" y="2249"/>
                        <a:pt x="576" y="2034"/>
                        <a:pt x="496" y="1887"/>
                      </a:cubicBezTo>
                      <a:cubicBezTo>
                        <a:pt x="416" y="1740"/>
                        <a:pt x="304" y="1527"/>
                        <a:pt x="253" y="1432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1" name=""/>
              <p:cNvSpPr/>
              <p:nvPr/>
            </p:nvSpPr>
            <p:spPr>
              <a:xfrm rot="20854800">
                <a:off x="1295280" y="4991040"/>
                <a:ext cx="836640" cy="1200240"/>
              </a:xfrm>
              <a:custGeom>
                <a:avLst/>
                <a:gdLst/>
                <a:ahLst/>
                <a:rect l="l" t="t" r="r" b="b"/>
                <a:pathLst>
                  <a:path w="1456" h="2088">
                    <a:moveTo>
                      <a:pt x="184" y="48"/>
                    </a:moveTo>
                    <a:cubicBezTo>
                      <a:pt x="288" y="48"/>
                      <a:pt x="480" y="0"/>
                      <a:pt x="664" y="192"/>
                    </a:cubicBezTo>
                    <a:cubicBezTo>
                      <a:pt x="848" y="384"/>
                      <a:pt x="1160" y="904"/>
                      <a:pt x="1288" y="1200"/>
                    </a:cubicBezTo>
                    <a:cubicBezTo>
                      <a:pt x="1416" y="1496"/>
                      <a:pt x="1416" y="1848"/>
                      <a:pt x="1432" y="1968"/>
                    </a:cubicBezTo>
                    <a:cubicBezTo>
                      <a:pt x="1448" y="2088"/>
                      <a:pt x="1456" y="2048"/>
                      <a:pt x="1384" y="1920"/>
                    </a:cubicBezTo>
                    <a:cubicBezTo>
                      <a:pt x="1312" y="1792"/>
                      <a:pt x="1128" y="1424"/>
                      <a:pt x="1000" y="1200"/>
                    </a:cubicBezTo>
                    <a:cubicBezTo>
                      <a:pt x="872" y="976"/>
                      <a:pt x="736" y="736"/>
                      <a:pt x="616" y="576"/>
                    </a:cubicBezTo>
                    <a:cubicBezTo>
                      <a:pt x="496" y="416"/>
                      <a:pt x="344" y="288"/>
                      <a:pt x="280" y="240"/>
                    </a:cubicBezTo>
                    <a:cubicBezTo>
                      <a:pt x="216" y="192"/>
                      <a:pt x="200" y="240"/>
                      <a:pt x="232" y="288"/>
                    </a:cubicBezTo>
                    <a:cubicBezTo>
                      <a:pt x="264" y="336"/>
                      <a:pt x="384" y="416"/>
                      <a:pt x="472" y="528"/>
                    </a:cubicBezTo>
                    <a:cubicBezTo>
                      <a:pt x="560" y="640"/>
                      <a:pt x="648" y="776"/>
                      <a:pt x="760" y="960"/>
                    </a:cubicBezTo>
                    <a:cubicBezTo>
                      <a:pt x="872" y="1144"/>
                      <a:pt x="1040" y="1456"/>
                      <a:pt x="1144" y="1632"/>
                    </a:cubicBezTo>
                    <a:cubicBezTo>
                      <a:pt x="1248" y="1808"/>
                      <a:pt x="1352" y="1952"/>
                      <a:pt x="1384" y="2016"/>
                    </a:cubicBezTo>
                    <a:cubicBezTo>
                      <a:pt x="1416" y="2080"/>
                      <a:pt x="1384" y="2048"/>
                      <a:pt x="1336" y="2016"/>
                    </a:cubicBezTo>
                    <a:cubicBezTo>
                      <a:pt x="1288" y="1984"/>
                      <a:pt x="1224" y="1944"/>
                      <a:pt x="1096" y="1824"/>
                    </a:cubicBezTo>
                    <a:cubicBezTo>
                      <a:pt x="968" y="1704"/>
                      <a:pt x="736" y="1504"/>
                      <a:pt x="568" y="1296"/>
                    </a:cubicBezTo>
                    <a:cubicBezTo>
                      <a:pt x="400" y="1088"/>
                      <a:pt x="176" y="760"/>
                      <a:pt x="88" y="576"/>
                    </a:cubicBezTo>
                    <a:cubicBezTo>
                      <a:pt x="0" y="392"/>
                      <a:pt x="24" y="280"/>
                      <a:pt x="40" y="192"/>
                    </a:cubicBezTo>
                    <a:cubicBezTo>
                      <a:pt x="56" y="104"/>
                      <a:pt x="80" y="48"/>
                      <a:pt x="184" y="48"/>
                    </a:cubicBezTo>
                    <a:close/>
                  </a:path>
                </a:pathLst>
              </a:cu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955440" y="5325840"/>
                <a:ext cx="560520" cy="1378080"/>
              </a:xfrm>
              <a:custGeom>
                <a:avLst/>
                <a:gdLst/>
                <a:ahLst/>
                <a:rect l="l" t="t" r="r" b="b"/>
                <a:pathLst>
                  <a:path w="980" h="2408">
                    <a:moveTo>
                      <a:pt x="253" y="1432"/>
                    </a:moveTo>
                    <a:cubicBezTo>
                      <a:pt x="184" y="1264"/>
                      <a:pt x="122" y="1070"/>
                      <a:pt x="82" y="881"/>
                    </a:cubicBezTo>
                    <a:cubicBezTo>
                      <a:pt x="42" y="692"/>
                      <a:pt x="0" y="433"/>
                      <a:pt x="12" y="296"/>
                    </a:cubicBezTo>
                    <a:cubicBezTo>
                      <a:pt x="24" y="159"/>
                      <a:pt x="84" y="96"/>
                      <a:pt x="156" y="56"/>
                    </a:cubicBezTo>
                    <a:cubicBezTo>
                      <a:pt x="228" y="16"/>
                      <a:pt x="364" y="0"/>
                      <a:pt x="444" y="56"/>
                    </a:cubicBezTo>
                    <a:cubicBezTo>
                      <a:pt x="524" y="112"/>
                      <a:pt x="564" y="216"/>
                      <a:pt x="636" y="392"/>
                    </a:cubicBezTo>
                    <a:cubicBezTo>
                      <a:pt x="708" y="568"/>
                      <a:pt x="820" y="840"/>
                      <a:pt x="876" y="1112"/>
                    </a:cubicBezTo>
                    <a:cubicBezTo>
                      <a:pt x="932" y="1384"/>
                      <a:pt x="964" y="1816"/>
                      <a:pt x="972" y="2024"/>
                    </a:cubicBezTo>
                    <a:cubicBezTo>
                      <a:pt x="980" y="2232"/>
                      <a:pt x="940" y="2312"/>
                      <a:pt x="924" y="2360"/>
                    </a:cubicBezTo>
                    <a:cubicBezTo>
                      <a:pt x="908" y="2408"/>
                      <a:pt x="892" y="2384"/>
                      <a:pt x="876" y="2312"/>
                    </a:cubicBezTo>
                    <a:cubicBezTo>
                      <a:pt x="860" y="2240"/>
                      <a:pt x="860" y="2096"/>
                      <a:pt x="828" y="1928"/>
                    </a:cubicBezTo>
                    <a:cubicBezTo>
                      <a:pt x="796" y="1760"/>
                      <a:pt x="756" y="1544"/>
                      <a:pt x="684" y="1304"/>
                    </a:cubicBezTo>
                    <a:cubicBezTo>
                      <a:pt x="612" y="1064"/>
                      <a:pt x="460" y="648"/>
                      <a:pt x="396" y="488"/>
                    </a:cubicBezTo>
                    <a:cubicBezTo>
                      <a:pt x="332" y="328"/>
                      <a:pt x="316" y="352"/>
                      <a:pt x="300" y="344"/>
                    </a:cubicBezTo>
                    <a:cubicBezTo>
                      <a:pt x="284" y="336"/>
                      <a:pt x="260" y="320"/>
                      <a:pt x="300" y="440"/>
                    </a:cubicBezTo>
                    <a:cubicBezTo>
                      <a:pt x="340" y="560"/>
                      <a:pt x="468" y="840"/>
                      <a:pt x="540" y="1064"/>
                    </a:cubicBezTo>
                    <a:cubicBezTo>
                      <a:pt x="612" y="1288"/>
                      <a:pt x="692" y="1584"/>
                      <a:pt x="732" y="1784"/>
                    </a:cubicBezTo>
                    <a:cubicBezTo>
                      <a:pt x="772" y="1984"/>
                      <a:pt x="780" y="2176"/>
                      <a:pt x="780" y="2264"/>
                    </a:cubicBezTo>
                    <a:cubicBezTo>
                      <a:pt x="780" y="2352"/>
                      <a:pt x="779" y="2375"/>
                      <a:pt x="732" y="2312"/>
                    </a:cubicBezTo>
                    <a:cubicBezTo>
                      <a:pt x="685" y="2249"/>
                      <a:pt x="576" y="2034"/>
                      <a:pt x="496" y="1887"/>
                    </a:cubicBezTo>
                    <a:cubicBezTo>
                      <a:pt x="416" y="1740"/>
                      <a:pt x="304" y="1527"/>
                      <a:pt x="253" y="1432"/>
                    </a:cubicBezTo>
                    <a:close/>
                  </a:path>
                </a:pathLst>
              </a:cu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1141200" y="4684680"/>
                <a:ext cx="1157400" cy="393480"/>
              </a:xfrm>
              <a:custGeom>
                <a:avLst/>
                <a:gdLst/>
                <a:ahLst/>
                <a:rect l="l" t="t" r="r" b="b"/>
                <a:pathLst>
                  <a:path w="2020" h="688">
                    <a:moveTo>
                      <a:pt x="96" y="464"/>
                    </a:moveTo>
                    <a:cubicBezTo>
                      <a:pt x="0" y="416"/>
                      <a:pt x="48" y="408"/>
                      <a:pt x="48" y="368"/>
                    </a:cubicBezTo>
                    <a:cubicBezTo>
                      <a:pt x="48" y="328"/>
                      <a:pt x="40" y="280"/>
                      <a:pt x="96" y="224"/>
                    </a:cubicBezTo>
                    <a:cubicBezTo>
                      <a:pt x="152" y="168"/>
                      <a:pt x="240" y="64"/>
                      <a:pt x="384" y="32"/>
                    </a:cubicBezTo>
                    <a:cubicBezTo>
                      <a:pt x="528" y="0"/>
                      <a:pt x="760" y="0"/>
                      <a:pt x="960" y="32"/>
                    </a:cubicBezTo>
                    <a:cubicBezTo>
                      <a:pt x="1160" y="64"/>
                      <a:pt x="1424" y="160"/>
                      <a:pt x="1584" y="224"/>
                    </a:cubicBezTo>
                    <a:cubicBezTo>
                      <a:pt x="1744" y="288"/>
                      <a:pt x="1850" y="363"/>
                      <a:pt x="1920" y="416"/>
                    </a:cubicBezTo>
                    <a:cubicBezTo>
                      <a:pt x="1990" y="469"/>
                      <a:pt x="2020" y="520"/>
                      <a:pt x="2004" y="544"/>
                    </a:cubicBezTo>
                    <a:cubicBezTo>
                      <a:pt x="1988" y="568"/>
                      <a:pt x="1910" y="573"/>
                      <a:pt x="1824" y="560"/>
                    </a:cubicBezTo>
                    <a:cubicBezTo>
                      <a:pt x="1738" y="547"/>
                      <a:pt x="1632" y="504"/>
                      <a:pt x="1488" y="464"/>
                    </a:cubicBezTo>
                    <a:cubicBezTo>
                      <a:pt x="1344" y="424"/>
                      <a:pt x="1128" y="344"/>
                      <a:pt x="960" y="320"/>
                    </a:cubicBezTo>
                    <a:cubicBezTo>
                      <a:pt x="792" y="296"/>
                      <a:pt x="584" y="312"/>
                      <a:pt x="480" y="320"/>
                    </a:cubicBezTo>
                    <a:cubicBezTo>
                      <a:pt x="376" y="328"/>
                      <a:pt x="360" y="352"/>
                      <a:pt x="336" y="368"/>
                    </a:cubicBezTo>
                    <a:cubicBezTo>
                      <a:pt x="312" y="384"/>
                      <a:pt x="304" y="416"/>
                      <a:pt x="336" y="416"/>
                    </a:cubicBezTo>
                    <a:cubicBezTo>
                      <a:pt x="368" y="416"/>
                      <a:pt x="424" y="376"/>
                      <a:pt x="528" y="368"/>
                    </a:cubicBezTo>
                    <a:cubicBezTo>
                      <a:pt x="632" y="360"/>
                      <a:pt x="784" y="336"/>
                      <a:pt x="960" y="368"/>
                    </a:cubicBezTo>
                    <a:cubicBezTo>
                      <a:pt x="1136" y="400"/>
                      <a:pt x="1472" y="520"/>
                      <a:pt x="1584" y="560"/>
                    </a:cubicBezTo>
                    <a:cubicBezTo>
                      <a:pt x="1696" y="600"/>
                      <a:pt x="1664" y="592"/>
                      <a:pt x="1632" y="608"/>
                    </a:cubicBezTo>
                    <a:cubicBezTo>
                      <a:pt x="1600" y="624"/>
                      <a:pt x="1560" y="648"/>
                      <a:pt x="1392" y="656"/>
                    </a:cubicBezTo>
                    <a:cubicBezTo>
                      <a:pt x="1224" y="664"/>
                      <a:pt x="840" y="688"/>
                      <a:pt x="624" y="656"/>
                    </a:cubicBezTo>
                    <a:cubicBezTo>
                      <a:pt x="408" y="624"/>
                      <a:pt x="192" y="512"/>
                      <a:pt x="96" y="464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-3240" y="5208480"/>
                <a:ext cx="852480" cy="982800"/>
              </a:xfrm>
              <a:custGeom>
                <a:avLst/>
                <a:gdLst/>
                <a:ahLst/>
                <a:rect l="l" t="t" r="r" b="b"/>
                <a:pathLst>
                  <a:path w="537" h="619">
                    <a:moveTo>
                      <a:pt x="497" y="43"/>
                    </a:moveTo>
                    <a:cubicBezTo>
                      <a:pt x="459" y="35"/>
                      <a:pt x="398" y="0"/>
                      <a:pt x="315" y="58"/>
                    </a:cubicBezTo>
                    <a:cubicBezTo>
                      <a:pt x="232" y="116"/>
                      <a:pt x="52" y="311"/>
                      <a:pt x="0" y="388"/>
                    </a:cubicBezTo>
                    <a:lnTo>
                      <a:pt x="3" y="520"/>
                    </a:lnTo>
                    <a:cubicBezTo>
                      <a:pt x="23" y="520"/>
                      <a:pt x="69" y="441"/>
                      <a:pt x="119" y="387"/>
                    </a:cubicBezTo>
                    <a:cubicBezTo>
                      <a:pt x="169" y="333"/>
                      <a:pt x="248" y="243"/>
                      <a:pt x="302" y="197"/>
                    </a:cubicBezTo>
                    <a:cubicBezTo>
                      <a:pt x="357" y="150"/>
                      <a:pt x="421" y="116"/>
                      <a:pt x="447" y="104"/>
                    </a:cubicBezTo>
                    <a:cubicBezTo>
                      <a:pt x="473" y="92"/>
                      <a:pt x="476" y="110"/>
                      <a:pt x="460" y="124"/>
                    </a:cubicBezTo>
                    <a:cubicBezTo>
                      <a:pt x="446" y="140"/>
                      <a:pt x="396" y="158"/>
                      <a:pt x="357" y="191"/>
                    </a:cubicBezTo>
                    <a:cubicBezTo>
                      <a:pt x="317" y="224"/>
                      <a:pt x="280" y="260"/>
                      <a:pt x="221" y="322"/>
                    </a:cubicBezTo>
                    <a:cubicBezTo>
                      <a:pt x="162" y="384"/>
                      <a:pt x="37" y="513"/>
                      <a:pt x="0" y="562"/>
                    </a:cubicBezTo>
                    <a:lnTo>
                      <a:pt x="0" y="619"/>
                    </a:lnTo>
                    <a:cubicBezTo>
                      <a:pt x="44" y="601"/>
                      <a:pt x="183" y="518"/>
                      <a:pt x="264" y="455"/>
                    </a:cubicBezTo>
                    <a:cubicBezTo>
                      <a:pt x="345" y="392"/>
                      <a:pt x="443" y="296"/>
                      <a:pt x="488" y="238"/>
                    </a:cubicBezTo>
                    <a:cubicBezTo>
                      <a:pt x="534" y="180"/>
                      <a:pt x="534" y="138"/>
                      <a:pt x="536" y="106"/>
                    </a:cubicBezTo>
                    <a:cubicBezTo>
                      <a:pt x="537" y="74"/>
                      <a:pt x="533" y="51"/>
                      <a:pt x="497" y="43"/>
                    </a:cubicBezTo>
                    <a:close/>
                  </a:path>
                </a:pathLst>
              </a:cu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-3240" y="4867200"/>
                <a:ext cx="803160" cy="384120"/>
              </a:xfrm>
              <a:custGeom>
                <a:avLst/>
                <a:gdLst/>
                <a:ahLst/>
                <a:rect l="l" t="t" r="r" b="b"/>
                <a:pathLst>
                  <a:path w="506" h="242">
                    <a:moveTo>
                      <a:pt x="469" y="200"/>
                    </a:moveTo>
                    <a:cubicBezTo>
                      <a:pt x="506" y="188"/>
                      <a:pt x="490" y="182"/>
                      <a:pt x="492" y="168"/>
                    </a:cubicBezTo>
                    <a:cubicBezTo>
                      <a:pt x="494" y="155"/>
                      <a:pt x="499" y="138"/>
                      <a:pt x="481" y="114"/>
                    </a:cubicBezTo>
                    <a:cubicBezTo>
                      <a:pt x="465" y="92"/>
                      <a:pt x="438" y="50"/>
                      <a:pt x="389" y="31"/>
                    </a:cubicBezTo>
                    <a:cubicBezTo>
                      <a:pt x="339" y="12"/>
                      <a:pt x="248" y="2"/>
                      <a:pt x="184" y="1"/>
                    </a:cubicBezTo>
                    <a:cubicBezTo>
                      <a:pt x="120" y="0"/>
                      <a:pt x="34" y="5"/>
                      <a:pt x="3" y="24"/>
                    </a:cubicBezTo>
                    <a:lnTo>
                      <a:pt x="0" y="114"/>
                    </a:lnTo>
                    <a:cubicBezTo>
                      <a:pt x="28" y="127"/>
                      <a:pt x="112" y="101"/>
                      <a:pt x="169" y="103"/>
                    </a:cubicBezTo>
                    <a:cubicBezTo>
                      <a:pt x="226" y="105"/>
                      <a:pt x="303" y="120"/>
                      <a:pt x="340" y="129"/>
                    </a:cubicBezTo>
                    <a:cubicBezTo>
                      <a:pt x="376" y="137"/>
                      <a:pt x="381" y="146"/>
                      <a:pt x="389" y="153"/>
                    </a:cubicBezTo>
                    <a:cubicBezTo>
                      <a:pt x="396" y="160"/>
                      <a:pt x="397" y="172"/>
                      <a:pt x="386" y="170"/>
                    </a:cubicBezTo>
                    <a:cubicBezTo>
                      <a:pt x="374" y="168"/>
                      <a:pt x="357" y="151"/>
                      <a:pt x="319" y="143"/>
                    </a:cubicBezTo>
                    <a:cubicBezTo>
                      <a:pt x="283" y="135"/>
                      <a:pt x="219" y="120"/>
                      <a:pt x="166" y="120"/>
                    </a:cubicBezTo>
                    <a:cubicBezTo>
                      <a:pt x="113" y="120"/>
                      <a:pt x="30" y="130"/>
                      <a:pt x="3" y="144"/>
                    </a:cubicBezTo>
                    <a:lnTo>
                      <a:pt x="6" y="204"/>
                    </a:lnTo>
                    <a:cubicBezTo>
                      <a:pt x="51" y="220"/>
                      <a:pt x="194" y="242"/>
                      <a:pt x="271" y="241"/>
                    </a:cubicBezTo>
                    <a:cubicBezTo>
                      <a:pt x="348" y="240"/>
                      <a:pt x="433" y="212"/>
                      <a:pt x="469" y="200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rot="20854800">
                <a:off x="1284120" y="39600"/>
                <a:ext cx="836640" cy="1200240"/>
              </a:xfrm>
              <a:custGeom>
                <a:avLst/>
                <a:gdLst/>
                <a:ahLst/>
                <a:rect l="l" t="t" r="r" b="b"/>
                <a:pathLst>
                  <a:path w="1456" h="2088">
                    <a:moveTo>
                      <a:pt x="184" y="48"/>
                    </a:moveTo>
                    <a:cubicBezTo>
                      <a:pt x="288" y="48"/>
                      <a:pt x="480" y="0"/>
                      <a:pt x="664" y="192"/>
                    </a:cubicBezTo>
                    <a:cubicBezTo>
                      <a:pt x="848" y="384"/>
                      <a:pt x="1160" y="904"/>
                      <a:pt x="1288" y="1200"/>
                    </a:cubicBezTo>
                    <a:cubicBezTo>
                      <a:pt x="1416" y="1496"/>
                      <a:pt x="1416" y="1848"/>
                      <a:pt x="1432" y="1968"/>
                    </a:cubicBezTo>
                    <a:cubicBezTo>
                      <a:pt x="1448" y="2088"/>
                      <a:pt x="1456" y="2048"/>
                      <a:pt x="1384" y="1920"/>
                    </a:cubicBezTo>
                    <a:cubicBezTo>
                      <a:pt x="1312" y="1792"/>
                      <a:pt x="1128" y="1424"/>
                      <a:pt x="1000" y="1200"/>
                    </a:cubicBezTo>
                    <a:cubicBezTo>
                      <a:pt x="872" y="976"/>
                      <a:pt x="736" y="736"/>
                      <a:pt x="616" y="576"/>
                    </a:cubicBezTo>
                    <a:cubicBezTo>
                      <a:pt x="496" y="416"/>
                      <a:pt x="344" y="288"/>
                      <a:pt x="280" y="240"/>
                    </a:cubicBezTo>
                    <a:cubicBezTo>
                      <a:pt x="216" y="192"/>
                      <a:pt x="200" y="240"/>
                      <a:pt x="232" y="288"/>
                    </a:cubicBezTo>
                    <a:cubicBezTo>
                      <a:pt x="264" y="336"/>
                      <a:pt x="384" y="416"/>
                      <a:pt x="472" y="528"/>
                    </a:cubicBezTo>
                    <a:cubicBezTo>
                      <a:pt x="560" y="640"/>
                      <a:pt x="648" y="776"/>
                      <a:pt x="760" y="960"/>
                    </a:cubicBezTo>
                    <a:cubicBezTo>
                      <a:pt x="872" y="1144"/>
                      <a:pt x="1040" y="1456"/>
                      <a:pt x="1144" y="1632"/>
                    </a:cubicBezTo>
                    <a:cubicBezTo>
                      <a:pt x="1248" y="1808"/>
                      <a:pt x="1352" y="1952"/>
                      <a:pt x="1384" y="2016"/>
                    </a:cubicBezTo>
                    <a:cubicBezTo>
                      <a:pt x="1416" y="2080"/>
                      <a:pt x="1384" y="2048"/>
                      <a:pt x="1336" y="2016"/>
                    </a:cubicBezTo>
                    <a:cubicBezTo>
                      <a:pt x="1288" y="1984"/>
                      <a:pt x="1224" y="1944"/>
                      <a:pt x="1096" y="1824"/>
                    </a:cubicBezTo>
                    <a:cubicBezTo>
                      <a:pt x="968" y="1704"/>
                      <a:pt x="736" y="1504"/>
                      <a:pt x="568" y="1296"/>
                    </a:cubicBezTo>
                    <a:cubicBezTo>
                      <a:pt x="400" y="1088"/>
                      <a:pt x="176" y="760"/>
                      <a:pt x="88" y="576"/>
                    </a:cubicBezTo>
                    <a:cubicBezTo>
                      <a:pt x="0" y="392"/>
                      <a:pt x="24" y="280"/>
                      <a:pt x="40" y="192"/>
                    </a:cubicBezTo>
                    <a:cubicBezTo>
                      <a:pt x="56" y="104"/>
                      <a:pt x="80" y="48"/>
                      <a:pt x="184" y="48"/>
                    </a:cubicBezTo>
                    <a:close/>
                  </a:path>
                </a:pathLst>
              </a:cu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944640" y="374400"/>
                <a:ext cx="560160" cy="1378080"/>
              </a:xfrm>
              <a:custGeom>
                <a:avLst/>
                <a:gdLst/>
                <a:ahLst/>
                <a:rect l="l" t="t" r="r" b="b"/>
                <a:pathLst>
                  <a:path w="980" h="2408">
                    <a:moveTo>
                      <a:pt x="253" y="1432"/>
                    </a:moveTo>
                    <a:cubicBezTo>
                      <a:pt x="184" y="1264"/>
                      <a:pt x="122" y="1070"/>
                      <a:pt x="82" y="881"/>
                    </a:cubicBezTo>
                    <a:cubicBezTo>
                      <a:pt x="42" y="692"/>
                      <a:pt x="0" y="433"/>
                      <a:pt x="12" y="296"/>
                    </a:cubicBezTo>
                    <a:cubicBezTo>
                      <a:pt x="24" y="159"/>
                      <a:pt x="84" y="96"/>
                      <a:pt x="156" y="56"/>
                    </a:cubicBezTo>
                    <a:cubicBezTo>
                      <a:pt x="228" y="16"/>
                      <a:pt x="364" y="0"/>
                      <a:pt x="444" y="56"/>
                    </a:cubicBezTo>
                    <a:cubicBezTo>
                      <a:pt x="524" y="112"/>
                      <a:pt x="564" y="216"/>
                      <a:pt x="636" y="392"/>
                    </a:cubicBezTo>
                    <a:cubicBezTo>
                      <a:pt x="708" y="568"/>
                      <a:pt x="820" y="840"/>
                      <a:pt x="876" y="1112"/>
                    </a:cubicBezTo>
                    <a:cubicBezTo>
                      <a:pt x="932" y="1384"/>
                      <a:pt x="964" y="1816"/>
                      <a:pt x="972" y="2024"/>
                    </a:cubicBezTo>
                    <a:cubicBezTo>
                      <a:pt x="980" y="2232"/>
                      <a:pt x="940" y="2312"/>
                      <a:pt x="924" y="2360"/>
                    </a:cubicBezTo>
                    <a:cubicBezTo>
                      <a:pt x="908" y="2408"/>
                      <a:pt x="892" y="2384"/>
                      <a:pt x="876" y="2312"/>
                    </a:cubicBezTo>
                    <a:cubicBezTo>
                      <a:pt x="860" y="2240"/>
                      <a:pt x="860" y="2096"/>
                      <a:pt x="828" y="1928"/>
                    </a:cubicBezTo>
                    <a:cubicBezTo>
                      <a:pt x="796" y="1760"/>
                      <a:pt x="756" y="1544"/>
                      <a:pt x="684" y="1304"/>
                    </a:cubicBezTo>
                    <a:cubicBezTo>
                      <a:pt x="612" y="1064"/>
                      <a:pt x="460" y="648"/>
                      <a:pt x="396" y="488"/>
                    </a:cubicBezTo>
                    <a:cubicBezTo>
                      <a:pt x="332" y="328"/>
                      <a:pt x="316" y="352"/>
                      <a:pt x="300" y="344"/>
                    </a:cubicBezTo>
                    <a:cubicBezTo>
                      <a:pt x="284" y="336"/>
                      <a:pt x="260" y="320"/>
                      <a:pt x="300" y="440"/>
                    </a:cubicBezTo>
                    <a:cubicBezTo>
                      <a:pt x="340" y="560"/>
                      <a:pt x="468" y="840"/>
                      <a:pt x="540" y="1064"/>
                    </a:cubicBezTo>
                    <a:cubicBezTo>
                      <a:pt x="612" y="1288"/>
                      <a:pt x="692" y="1584"/>
                      <a:pt x="732" y="1784"/>
                    </a:cubicBezTo>
                    <a:cubicBezTo>
                      <a:pt x="772" y="1984"/>
                      <a:pt x="780" y="2176"/>
                      <a:pt x="780" y="2264"/>
                    </a:cubicBezTo>
                    <a:cubicBezTo>
                      <a:pt x="780" y="2352"/>
                      <a:pt x="779" y="2375"/>
                      <a:pt x="732" y="2312"/>
                    </a:cubicBezTo>
                    <a:cubicBezTo>
                      <a:pt x="685" y="2249"/>
                      <a:pt x="576" y="2034"/>
                      <a:pt x="496" y="1887"/>
                    </a:cubicBezTo>
                    <a:cubicBezTo>
                      <a:pt x="416" y="1740"/>
                      <a:pt x="304" y="1527"/>
                      <a:pt x="253" y="1432"/>
                    </a:cubicBezTo>
                    <a:close/>
                  </a:path>
                </a:pathLst>
              </a:cu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1055520" y="4680"/>
                <a:ext cx="1397160" cy="120600"/>
              </a:xfrm>
              <a:custGeom>
                <a:avLst/>
                <a:gdLst/>
                <a:ahLst/>
                <a:rect l="l" t="t" r="r" b="b"/>
                <a:pathLst>
                  <a:path w="880" h="76">
                    <a:moveTo>
                      <a:pt x="83" y="0"/>
                    </a:moveTo>
                    <a:lnTo>
                      <a:pt x="776" y="0"/>
                    </a:lnTo>
                    <a:cubicBezTo>
                      <a:pt x="880" y="5"/>
                      <a:pt x="731" y="26"/>
                      <a:pt x="705" y="31"/>
                    </a:cubicBezTo>
                    <a:cubicBezTo>
                      <a:pt x="679" y="36"/>
                      <a:pt x="630" y="28"/>
                      <a:pt x="619" y="31"/>
                    </a:cubicBezTo>
                    <a:cubicBezTo>
                      <a:pt x="608" y="34"/>
                      <a:pt x="648" y="42"/>
                      <a:pt x="636" y="48"/>
                    </a:cubicBezTo>
                    <a:cubicBezTo>
                      <a:pt x="624" y="54"/>
                      <a:pt x="610" y="63"/>
                      <a:pt x="549" y="65"/>
                    </a:cubicBezTo>
                    <a:cubicBezTo>
                      <a:pt x="489" y="68"/>
                      <a:pt x="350" y="76"/>
                      <a:pt x="272" y="65"/>
                    </a:cubicBezTo>
                    <a:cubicBezTo>
                      <a:pt x="194" y="54"/>
                      <a:pt x="0" y="7"/>
                      <a:pt x="83" y="0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-25560" y="260280"/>
                <a:ext cx="863640" cy="1006560"/>
              </a:xfrm>
              <a:custGeom>
                <a:avLst/>
                <a:gdLst/>
                <a:ahLst/>
                <a:rect l="l" t="t" r="r" b="b"/>
                <a:pathLst>
                  <a:path w="544" h="634">
                    <a:moveTo>
                      <a:pt x="504" y="41"/>
                    </a:moveTo>
                    <a:cubicBezTo>
                      <a:pt x="466" y="33"/>
                      <a:pt x="403" y="0"/>
                      <a:pt x="322" y="56"/>
                    </a:cubicBezTo>
                    <a:cubicBezTo>
                      <a:pt x="241" y="112"/>
                      <a:pt x="68" y="302"/>
                      <a:pt x="17" y="379"/>
                    </a:cubicBezTo>
                    <a:lnTo>
                      <a:pt x="14" y="520"/>
                    </a:lnTo>
                    <a:cubicBezTo>
                      <a:pt x="32" y="521"/>
                      <a:pt x="77" y="439"/>
                      <a:pt x="126" y="385"/>
                    </a:cubicBezTo>
                    <a:cubicBezTo>
                      <a:pt x="175" y="331"/>
                      <a:pt x="255" y="241"/>
                      <a:pt x="309" y="195"/>
                    </a:cubicBezTo>
                    <a:cubicBezTo>
                      <a:pt x="364" y="148"/>
                      <a:pt x="428" y="114"/>
                      <a:pt x="454" y="102"/>
                    </a:cubicBezTo>
                    <a:cubicBezTo>
                      <a:pt x="480" y="90"/>
                      <a:pt x="483" y="108"/>
                      <a:pt x="467" y="122"/>
                    </a:cubicBezTo>
                    <a:cubicBezTo>
                      <a:pt x="453" y="138"/>
                      <a:pt x="403" y="156"/>
                      <a:pt x="364" y="189"/>
                    </a:cubicBezTo>
                    <a:cubicBezTo>
                      <a:pt x="324" y="222"/>
                      <a:pt x="283" y="263"/>
                      <a:pt x="228" y="320"/>
                    </a:cubicBezTo>
                    <a:cubicBezTo>
                      <a:pt x="175" y="375"/>
                      <a:pt x="76" y="487"/>
                      <a:pt x="41" y="527"/>
                    </a:cubicBezTo>
                    <a:cubicBezTo>
                      <a:pt x="6" y="567"/>
                      <a:pt x="21" y="542"/>
                      <a:pt x="17" y="559"/>
                    </a:cubicBezTo>
                    <a:cubicBezTo>
                      <a:pt x="13" y="576"/>
                      <a:pt x="10" y="622"/>
                      <a:pt x="14" y="628"/>
                    </a:cubicBezTo>
                    <a:cubicBezTo>
                      <a:pt x="18" y="634"/>
                      <a:pt x="0" y="627"/>
                      <a:pt x="43" y="598"/>
                    </a:cubicBezTo>
                    <a:cubicBezTo>
                      <a:pt x="86" y="569"/>
                      <a:pt x="195" y="514"/>
                      <a:pt x="271" y="453"/>
                    </a:cubicBezTo>
                    <a:cubicBezTo>
                      <a:pt x="345" y="392"/>
                      <a:pt x="450" y="294"/>
                      <a:pt x="495" y="236"/>
                    </a:cubicBezTo>
                    <a:cubicBezTo>
                      <a:pt x="541" y="178"/>
                      <a:pt x="541" y="136"/>
                      <a:pt x="543" y="104"/>
                    </a:cubicBezTo>
                    <a:cubicBezTo>
                      <a:pt x="544" y="72"/>
                      <a:pt x="540" y="49"/>
                      <a:pt x="504" y="41"/>
                    </a:cubicBezTo>
                    <a:close/>
                  </a:path>
                </a:pathLst>
              </a:cu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-3240" y="4680"/>
                <a:ext cx="792000" cy="295200"/>
              </a:xfrm>
              <a:custGeom>
                <a:avLst/>
                <a:gdLst/>
                <a:ahLst/>
                <a:rect l="l" t="t" r="r" b="b"/>
                <a:pathLst>
                  <a:path w="499" h="186">
                    <a:moveTo>
                      <a:pt x="462" y="144"/>
                    </a:moveTo>
                    <a:cubicBezTo>
                      <a:pt x="499" y="132"/>
                      <a:pt x="483" y="126"/>
                      <a:pt x="485" y="112"/>
                    </a:cubicBezTo>
                    <a:cubicBezTo>
                      <a:pt x="487" y="99"/>
                      <a:pt x="486" y="76"/>
                      <a:pt x="474" y="58"/>
                    </a:cubicBezTo>
                    <a:cubicBezTo>
                      <a:pt x="462" y="40"/>
                      <a:pt x="490" y="13"/>
                      <a:pt x="411" y="3"/>
                    </a:cubicBezTo>
                    <a:lnTo>
                      <a:pt x="0" y="0"/>
                    </a:lnTo>
                    <a:lnTo>
                      <a:pt x="3" y="60"/>
                    </a:lnTo>
                    <a:cubicBezTo>
                      <a:pt x="30" y="68"/>
                      <a:pt x="107" y="45"/>
                      <a:pt x="162" y="47"/>
                    </a:cubicBezTo>
                    <a:cubicBezTo>
                      <a:pt x="217" y="49"/>
                      <a:pt x="296" y="64"/>
                      <a:pt x="333" y="73"/>
                    </a:cubicBezTo>
                    <a:cubicBezTo>
                      <a:pt x="369" y="81"/>
                      <a:pt x="374" y="90"/>
                      <a:pt x="382" y="97"/>
                    </a:cubicBezTo>
                    <a:cubicBezTo>
                      <a:pt x="389" y="104"/>
                      <a:pt x="390" y="116"/>
                      <a:pt x="379" y="114"/>
                    </a:cubicBezTo>
                    <a:cubicBezTo>
                      <a:pt x="367" y="112"/>
                      <a:pt x="350" y="95"/>
                      <a:pt x="312" y="87"/>
                    </a:cubicBezTo>
                    <a:cubicBezTo>
                      <a:pt x="276" y="79"/>
                      <a:pt x="210" y="64"/>
                      <a:pt x="159" y="64"/>
                    </a:cubicBezTo>
                    <a:cubicBezTo>
                      <a:pt x="108" y="64"/>
                      <a:pt x="29" y="73"/>
                      <a:pt x="3" y="87"/>
                    </a:cubicBezTo>
                    <a:lnTo>
                      <a:pt x="3" y="150"/>
                    </a:lnTo>
                    <a:cubicBezTo>
                      <a:pt x="46" y="166"/>
                      <a:pt x="188" y="186"/>
                      <a:pt x="264" y="185"/>
                    </a:cubicBezTo>
                    <a:cubicBezTo>
                      <a:pt x="340" y="184"/>
                      <a:pt x="426" y="156"/>
                      <a:pt x="462" y="144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grpSp>
            <p:nvGrpSpPr>
              <p:cNvPr id="201" name=""/>
              <p:cNvGrpSpPr/>
              <p:nvPr/>
            </p:nvGrpSpPr>
            <p:grpSpPr>
              <a:xfrm>
                <a:off x="2332440" y="3868920"/>
                <a:ext cx="1585080" cy="1267920"/>
                <a:chOff x="2332440" y="3868920"/>
                <a:chExt cx="1585080" cy="1267920"/>
              </a:xfrm>
            </p:grpSpPr>
            <p:sp>
              <p:nvSpPr>
                <p:cNvPr id="202" name=""/>
                <p:cNvSpPr/>
                <p:nvPr/>
              </p:nvSpPr>
              <p:spPr>
                <a:xfrm flipH="1" rot="21429000">
                  <a:off x="2353320" y="4097520"/>
                  <a:ext cx="610560" cy="87696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 rot="20854800">
                  <a:off x="3219840" y="3924360"/>
                  <a:ext cx="610560" cy="87696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2958480" y="4129920"/>
                  <a:ext cx="409680" cy="1006920"/>
                </a:xfrm>
                <a:custGeom>
                  <a:avLst/>
                  <a:gdLst/>
                  <a:ahLst/>
                  <a:rect l="l" t="t" r="r" b="b"/>
                  <a:pathLst>
                    <a:path w="980" h="2408">
                      <a:moveTo>
                        <a:pt x="253" y="1432"/>
                      </a:moveTo>
                      <a:cubicBezTo>
                        <a:pt x="184" y="1264"/>
                        <a:pt x="122" y="1070"/>
                        <a:pt x="82" y="881"/>
                      </a:cubicBezTo>
                      <a:cubicBezTo>
                        <a:pt x="42" y="692"/>
                        <a:pt x="0" y="433"/>
                        <a:pt x="12" y="296"/>
                      </a:cubicBezTo>
                      <a:cubicBezTo>
                        <a:pt x="24" y="159"/>
                        <a:pt x="84" y="96"/>
                        <a:pt x="156" y="56"/>
                      </a:cubicBezTo>
                      <a:cubicBezTo>
                        <a:pt x="228" y="16"/>
                        <a:pt x="364" y="0"/>
                        <a:pt x="444" y="56"/>
                      </a:cubicBezTo>
                      <a:cubicBezTo>
                        <a:pt x="524" y="112"/>
                        <a:pt x="564" y="216"/>
                        <a:pt x="636" y="392"/>
                      </a:cubicBezTo>
                      <a:cubicBezTo>
                        <a:pt x="708" y="568"/>
                        <a:pt x="820" y="840"/>
                        <a:pt x="876" y="1112"/>
                      </a:cubicBezTo>
                      <a:cubicBezTo>
                        <a:pt x="932" y="1384"/>
                        <a:pt x="964" y="1816"/>
                        <a:pt x="972" y="2024"/>
                      </a:cubicBezTo>
                      <a:cubicBezTo>
                        <a:pt x="980" y="2232"/>
                        <a:pt x="940" y="2312"/>
                        <a:pt x="924" y="2360"/>
                      </a:cubicBezTo>
                      <a:cubicBezTo>
                        <a:pt x="908" y="2408"/>
                        <a:pt x="892" y="2384"/>
                        <a:pt x="876" y="2312"/>
                      </a:cubicBezTo>
                      <a:cubicBezTo>
                        <a:pt x="860" y="2240"/>
                        <a:pt x="860" y="2096"/>
                        <a:pt x="828" y="1928"/>
                      </a:cubicBezTo>
                      <a:cubicBezTo>
                        <a:pt x="796" y="1760"/>
                        <a:pt x="756" y="1544"/>
                        <a:pt x="684" y="1304"/>
                      </a:cubicBezTo>
                      <a:cubicBezTo>
                        <a:pt x="612" y="1064"/>
                        <a:pt x="460" y="648"/>
                        <a:pt x="396" y="488"/>
                      </a:cubicBezTo>
                      <a:cubicBezTo>
                        <a:pt x="332" y="328"/>
                        <a:pt x="316" y="352"/>
                        <a:pt x="300" y="344"/>
                      </a:cubicBezTo>
                      <a:cubicBezTo>
                        <a:pt x="284" y="336"/>
                        <a:pt x="260" y="320"/>
                        <a:pt x="300" y="440"/>
                      </a:cubicBezTo>
                      <a:cubicBezTo>
                        <a:pt x="340" y="560"/>
                        <a:pt x="468" y="840"/>
                        <a:pt x="540" y="1064"/>
                      </a:cubicBezTo>
                      <a:cubicBezTo>
                        <a:pt x="612" y="1288"/>
                        <a:pt x="692" y="1584"/>
                        <a:pt x="732" y="1784"/>
                      </a:cubicBezTo>
                      <a:cubicBezTo>
                        <a:pt x="772" y="1984"/>
                        <a:pt x="780" y="2176"/>
                        <a:pt x="780" y="2264"/>
                      </a:cubicBezTo>
                      <a:cubicBezTo>
                        <a:pt x="780" y="2352"/>
                        <a:pt x="779" y="2375"/>
                        <a:pt x="732" y="2312"/>
                      </a:cubicBezTo>
                      <a:cubicBezTo>
                        <a:pt x="685" y="2249"/>
                        <a:pt x="576" y="2034"/>
                        <a:pt x="496" y="1887"/>
                      </a:cubicBezTo>
                      <a:cubicBezTo>
                        <a:pt x="416" y="1740"/>
                        <a:pt x="304" y="1527"/>
                        <a:pt x="253" y="1432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5" name=""/>
              <p:cNvGrpSpPr/>
              <p:nvPr/>
            </p:nvGrpSpPr>
            <p:grpSpPr>
              <a:xfrm>
                <a:off x="2356560" y="92160"/>
                <a:ext cx="1585080" cy="1267920"/>
                <a:chOff x="2356560" y="92160"/>
                <a:chExt cx="1585080" cy="1267920"/>
              </a:xfrm>
            </p:grpSpPr>
            <p:sp>
              <p:nvSpPr>
                <p:cNvPr id="206" name=""/>
                <p:cNvSpPr/>
                <p:nvPr/>
              </p:nvSpPr>
              <p:spPr>
                <a:xfrm flipH="1" rot="21429000">
                  <a:off x="2377440" y="320760"/>
                  <a:ext cx="610560" cy="87696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 rot="20854800">
                  <a:off x="3243960" y="147600"/>
                  <a:ext cx="610560" cy="87696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2982600" y="353160"/>
                  <a:ext cx="409680" cy="1006920"/>
                </a:xfrm>
                <a:custGeom>
                  <a:avLst/>
                  <a:gdLst/>
                  <a:ahLst/>
                  <a:rect l="l" t="t" r="r" b="b"/>
                  <a:pathLst>
                    <a:path w="980" h="2408">
                      <a:moveTo>
                        <a:pt x="253" y="1432"/>
                      </a:moveTo>
                      <a:cubicBezTo>
                        <a:pt x="184" y="1264"/>
                        <a:pt x="122" y="1070"/>
                        <a:pt x="82" y="881"/>
                      </a:cubicBezTo>
                      <a:cubicBezTo>
                        <a:pt x="42" y="692"/>
                        <a:pt x="0" y="433"/>
                        <a:pt x="12" y="296"/>
                      </a:cubicBezTo>
                      <a:cubicBezTo>
                        <a:pt x="24" y="159"/>
                        <a:pt x="84" y="96"/>
                        <a:pt x="156" y="56"/>
                      </a:cubicBezTo>
                      <a:cubicBezTo>
                        <a:pt x="228" y="16"/>
                        <a:pt x="364" y="0"/>
                        <a:pt x="444" y="56"/>
                      </a:cubicBezTo>
                      <a:cubicBezTo>
                        <a:pt x="524" y="112"/>
                        <a:pt x="564" y="216"/>
                        <a:pt x="636" y="392"/>
                      </a:cubicBezTo>
                      <a:cubicBezTo>
                        <a:pt x="708" y="568"/>
                        <a:pt x="820" y="840"/>
                        <a:pt x="876" y="1112"/>
                      </a:cubicBezTo>
                      <a:cubicBezTo>
                        <a:pt x="932" y="1384"/>
                        <a:pt x="964" y="1816"/>
                        <a:pt x="972" y="2024"/>
                      </a:cubicBezTo>
                      <a:cubicBezTo>
                        <a:pt x="980" y="2232"/>
                        <a:pt x="940" y="2312"/>
                        <a:pt x="924" y="2360"/>
                      </a:cubicBezTo>
                      <a:cubicBezTo>
                        <a:pt x="908" y="2408"/>
                        <a:pt x="892" y="2384"/>
                        <a:pt x="876" y="2312"/>
                      </a:cubicBezTo>
                      <a:cubicBezTo>
                        <a:pt x="860" y="2240"/>
                        <a:pt x="860" y="2096"/>
                        <a:pt x="828" y="1928"/>
                      </a:cubicBezTo>
                      <a:cubicBezTo>
                        <a:pt x="796" y="1760"/>
                        <a:pt x="756" y="1544"/>
                        <a:pt x="684" y="1304"/>
                      </a:cubicBezTo>
                      <a:cubicBezTo>
                        <a:pt x="612" y="1064"/>
                        <a:pt x="460" y="648"/>
                        <a:pt x="396" y="488"/>
                      </a:cubicBezTo>
                      <a:cubicBezTo>
                        <a:pt x="332" y="328"/>
                        <a:pt x="316" y="352"/>
                        <a:pt x="300" y="344"/>
                      </a:cubicBezTo>
                      <a:cubicBezTo>
                        <a:pt x="284" y="336"/>
                        <a:pt x="260" y="320"/>
                        <a:pt x="300" y="440"/>
                      </a:cubicBezTo>
                      <a:cubicBezTo>
                        <a:pt x="340" y="560"/>
                        <a:pt x="468" y="840"/>
                        <a:pt x="540" y="1064"/>
                      </a:cubicBezTo>
                      <a:cubicBezTo>
                        <a:pt x="612" y="1288"/>
                        <a:pt x="692" y="1584"/>
                        <a:pt x="732" y="1784"/>
                      </a:cubicBezTo>
                      <a:cubicBezTo>
                        <a:pt x="772" y="1984"/>
                        <a:pt x="780" y="2176"/>
                        <a:pt x="780" y="2264"/>
                      </a:cubicBezTo>
                      <a:cubicBezTo>
                        <a:pt x="780" y="2352"/>
                        <a:pt x="779" y="2375"/>
                        <a:pt x="732" y="2312"/>
                      </a:cubicBezTo>
                      <a:cubicBezTo>
                        <a:pt x="685" y="2249"/>
                        <a:pt x="576" y="2034"/>
                        <a:pt x="496" y="1887"/>
                      </a:cubicBezTo>
                      <a:cubicBezTo>
                        <a:pt x="416" y="1740"/>
                        <a:pt x="304" y="1527"/>
                        <a:pt x="253" y="1432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9" name=""/>
              <p:cNvSpPr/>
              <p:nvPr/>
            </p:nvSpPr>
            <p:spPr>
              <a:xfrm>
                <a:off x="4755960" y="5686200"/>
                <a:ext cx="1076400" cy="1171800"/>
              </a:xfrm>
              <a:custGeom>
                <a:avLst/>
                <a:gdLst/>
                <a:ahLst/>
                <a:rect l="l" t="t" r="r" b="b"/>
                <a:pathLst>
                  <a:path w="678" h="738">
                    <a:moveTo>
                      <a:pt x="577" y="17"/>
                    </a:moveTo>
                    <a:cubicBezTo>
                      <a:pt x="525" y="19"/>
                      <a:pt x="428" y="0"/>
                      <a:pt x="341" y="100"/>
                    </a:cubicBezTo>
                    <a:cubicBezTo>
                      <a:pt x="253" y="202"/>
                      <a:pt x="108" y="515"/>
                      <a:pt x="54" y="621"/>
                    </a:cubicBezTo>
                    <a:cubicBezTo>
                      <a:pt x="0" y="727"/>
                      <a:pt x="3" y="716"/>
                      <a:pt x="17" y="735"/>
                    </a:cubicBezTo>
                    <a:lnTo>
                      <a:pt x="140" y="738"/>
                    </a:lnTo>
                    <a:cubicBezTo>
                      <a:pt x="170" y="718"/>
                      <a:pt x="159" y="688"/>
                      <a:pt x="198" y="614"/>
                    </a:cubicBezTo>
                    <a:cubicBezTo>
                      <a:pt x="237" y="540"/>
                      <a:pt x="318" y="375"/>
                      <a:pt x="375" y="292"/>
                    </a:cubicBezTo>
                    <a:cubicBezTo>
                      <a:pt x="431" y="209"/>
                      <a:pt x="503" y="140"/>
                      <a:pt x="534" y="115"/>
                    </a:cubicBezTo>
                    <a:cubicBezTo>
                      <a:pt x="565" y="89"/>
                      <a:pt x="574" y="113"/>
                      <a:pt x="559" y="138"/>
                    </a:cubicBezTo>
                    <a:cubicBezTo>
                      <a:pt x="544" y="162"/>
                      <a:pt x="487" y="206"/>
                      <a:pt x="445" y="264"/>
                    </a:cubicBezTo>
                    <a:cubicBezTo>
                      <a:pt x="404" y="323"/>
                      <a:pt x="354" y="408"/>
                      <a:pt x="311" y="487"/>
                    </a:cubicBezTo>
                    <a:cubicBezTo>
                      <a:pt x="268" y="566"/>
                      <a:pt x="181" y="696"/>
                      <a:pt x="188" y="738"/>
                    </a:cubicBezTo>
                    <a:lnTo>
                      <a:pt x="353" y="738"/>
                    </a:lnTo>
                    <a:cubicBezTo>
                      <a:pt x="391" y="724"/>
                      <a:pt x="370" y="727"/>
                      <a:pt x="417" y="651"/>
                    </a:cubicBezTo>
                    <a:cubicBezTo>
                      <a:pt x="464" y="575"/>
                      <a:pt x="599" y="373"/>
                      <a:pt x="638" y="279"/>
                    </a:cubicBezTo>
                    <a:cubicBezTo>
                      <a:pt x="678" y="185"/>
                      <a:pt x="663" y="128"/>
                      <a:pt x="653" y="85"/>
                    </a:cubicBezTo>
                    <a:cubicBezTo>
                      <a:pt x="643" y="41"/>
                      <a:pt x="629" y="14"/>
                      <a:pt x="577" y="17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20854800">
                <a:off x="6339960" y="5365800"/>
                <a:ext cx="1157400" cy="1662120"/>
              </a:xfrm>
              <a:custGeom>
                <a:avLst/>
                <a:gdLst/>
                <a:ahLst/>
                <a:rect l="l" t="t" r="r" b="b"/>
                <a:pathLst>
                  <a:path w="1456" h="2088">
                    <a:moveTo>
                      <a:pt x="184" y="48"/>
                    </a:moveTo>
                    <a:cubicBezTo>
                      <a:pt x="288" y="48"/>
                      <a:pt x="480" y="0"/>
                      <a:pt x="664" y="192"/>
                    </a:cubicBezTo>
                    <a:cubicBezTo>
                      <a:pt x="848" y="384"/>
                      <a:pt x="1160" y="904"/>
                      <a:pt x="1288" y="1200"/>
                    </a:cubicBezTo>
                    <a:cubicBezTo>
                      <a:pt x="1416" y="1496"/>
                      <a:pt x="1416" y="1848"/>
                      <a:pt x="1432" y="1968"/>
                    </a:cubicBezTo>
                    <a:cubicBezTo>
                      <a:pt x="1448" y="2088"/>
                      <a:pt x="1456" y="2048"/>
                      <a:pt x="1384" y="1920"/>
                    </a:cubicBezTo>
                    <a:cubicBezTo>
                      <a:pt x="1312" y="1792"/>
                      <a:pt x="1128" y="1424"/>
                      <a:pt x="1000" y="1200"/>
                    </a:cubicBezTo>
                    <a:cubicBezTo>
                      <a:pt x="872" y="976"/>
                      <a:pt x="736" y="736"/>
                      <a:pt x="616" y="576"/>
                    </a:cubicBezTo>
                    <a:cubicBezTo>
                      <a:pt x="496" y="416"/>
                      <a:pt x="344" y="288"/>
                      <a:pt x="280" y="240"/>
                    </a:cubicBezTo>
                    <a:cubicBezTo>
                      <a:pt x="216" y="192"/>
                      <a:pt x="200" y="240"/>
                      <a:pt x="232" y="288"/>
                    </a:cubicBezTo>
                    <a:cubicBezTo>
                      <a:pt x="264" y="336"/>
                      <a:pt x="384" y="416"/>
                      <a:pt x="472" y="528"/>
                    </a:cubicBezTo>
                    <a:cubicBezTo>
                      <a:pt x="560" y="640"/>
                      <a:pt x="648" y="776"/>
                      <a:pt x="760" y="960"/>
                    </a:cubicBezTo>
                    <a:cubicBezTo>
                      <a:pt x="872" y="1144"/>
                      <a:pt x="1040" y="1456"/>
                      <a:pt x="1144" y="1632"/>
                    </a:cubicBezTo>
                    <a:cubicBezTo>
                      <a:pt x="1248" y="1808"/>
                      <a:pt x="1352" y="1952"/>
                      <a:pt x="1384" y="2016"/>
                    </a:cubicBezTo>
                    <a:cubicBezTo>
                      <a:pt x="1416" y="2080"/>
                      <a:pt x="1384" y="2048"/>
                      <a:pt x="1336" y="2016"/>
                    </a:cubicBezTo>
                    <a:cubicBezTo>
                      <a:pt x="1288" y="1984"/>
                      <a:pt x="1224" y="1944"/>
                      <a:pt x="1096" y="1824"/>
                    </a:cubicBezTo>
                    <a:cubicBezTo>
                      <a:pt x="968" y="1704"/>
                      <a:pt x="736" y="1504"/>
                      <a:pt x="568" y="1296"/>
                    </a:cubicBezTo>
                    <a:cubicBezTo>
                      <a:pt x="400" y="1088"/>
                      <a:pt x="176" y="760"/>
                      <a:pt x="88" y="576"/>
                    </a:cubicBezTo>
                    <a:cubicBezTo>
                      <a:pt x="0" y="392"/>
                      <a:pt x="24" y="280"/>
                      <a:pt x="40" y="192"/>
                    </a:cubicBezTo>
                    <a:cubicBezTo>
                      <a:pt x="56" y="104"/>
                      <a:pt x="80" y="48"/>
                      <a:pt x="184" y="48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5846760" y="5756040"/>
                <a:ext cx="749160" cy="1152720"/>
              </a:xfrm>
              <a:custGeom>
                <a:avLst/>
                <a:gdLst/>
                <a:ahLst/>
                <a:rect l="l" t="t" r="r" b="b"/>
                <a:pathLst>
                  <a:path w="472" h="726">
                    <a:moveTo>
                      <a:pt x="116" y="694"/>
                    </a:moveTo>
                    <a:cubicBezTo>
                      <a:pt x="71" y="652"/>
                      <a:pt x="59" y="531"/>
                      <a:pt x="41" y="440"/>
                    </a:cubicBezTo>
                    <a:cubicBezTo>
                      <a:pt x="23" y="349"/>
                      <a:pt x="0" y="216"/>
                      <a:pt x="6" y="148"/>
                    </a:cubicBezTo>
                    <a:cubicBezTo>
                      <a:pt x="12" y="79"/>
                      <a:pt x="42" y="48"/>
                      <a:pt x="78" y="28"/>
                    </a:cubicBezTo>
                    <a:cubicBezTo>
                      <a:pt x="114" y="8"/>
                      <a:pt x="182" y="0"/>
                      <a:pt x="222" y="28"/>
                    </a:cubicBezTo>
                    <a:cubicBezTo>
                      <a:pt x="261" y="56"/>
                      <a:pt x="281" y="108"/>
                      <a:pt x="317" y="196"/>
                    </a:cubicBezTo>
                    <a:cubicBezTo>
                      <a:pt x="353" y="284"/>
                      <a:pt x="414" y="473"/>
                      <a:pt x="437" y="555"/>
                    </a:cubicBezTo>
                    <a:cubicBezTo>
                      <a:pt x="460" y="637"/>
                      <a:pt x="472" y="668"/>
                      <a:pt x="458" y="691"/>
                    </a:cubicBezTo>
                    <a:lnTo>
                      <a:pt x="350" y="694"/>
                    </a:lnTo>
                    <a:cubicBezTo>
                      <a:pt x="331" y="687"/>
                      <a:pt x="366" y="726"/>
                      <a:pt x="341" y="651"/>
                    </a:cubicBezTo>
                    <a:cubicBezTo>
                      <a:pt x="316" y="576"/>
                      <a:pt x="230" y="323"/>
                      <a:pt x="198" y="244"/>
                    </a:cubicBezTo>
                    <a:cubicBezTo>
                      <a:pt x="166" y="164"/>
                      <a:pt x="158" y="176"/>
                      <a:pt x="150" y="172"/>
                    </a:cubicBezTo>
                    <a:cubicBezTo>
                      <a:pt x="142" y="168"/>
                      <a:pt x="130" y="160"/>
                      <a:pt x="150" y="220"/>
                    </a:cubicBezTo>
                    <a:cubicBezTo>
                      <a:pt x="170" y="280"/>
                      <a:pt x="242" y="453"/>
                      <a:pt x="269" y="531"/>
                    </a:cubicBezTo>
                    <a:cubicBezTo>
                      <a:pt x="296" y="609"/>
                      <a:pt x="337" y="664"/>
                      <a:pt x="311" y="691"/>
                    </a:cubicBezTo>
                    <a:lnTo>
                      <a:pt x="116" y="694"/>
                    </a:ln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6258240" y="528480"/>
                <a:ext cx="2760120" cy="2088720"/>
                <a:chOff x="6258240" y="528480"/>
                <a:chExt cx="2760120" cy="2088720"/>
              </a:xfrm>
            </p:grpSpPr>
            <p:sp>
              <p:nvSpPr>
                <p:cNvPr id="213" name=""/>
                <p:cNvSpPr/>
                <p:nvPr/>
              </p:nvSpPr>
              <p:spPr>
                <a:xfrm rot="20854800">
                  <a:off x="7980480" y="845280"/>
                  <a:ext cx="864720" cy="124128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7628040" y="1191960"/>
                  <a:ext cx="580320" cy="1425240"/>
                </a:xfrm>
                <a:custGeom>
                  <a:avLst/>
                  <a:gdLst/>
                  <a:ahLst/>
                  <a:rect l="l" t="t" r="r" b="b"/>
                  <a:pathLst>
                    <a:path w="980" h="2408">
                      <a:moveTo>
                        <a:pt x="253" y="1432"/>
                      </a:moveTo>
                      <a:cubicBezTo>
                        <a:pt x="184" y="1264"/>
                        <a:pt x="122" y="1070"/>
                        <a:pt x="82" y="881"/>
                      </a:cubicBezTo>
                      <a:cubicBezTo>
                        <a:pt x="42" y="692"/>
                        <a:pt x="0" y="433"/>
                        <a:pt x="12" y="296"/>
                      </a:cubicBezTo>
                      <a:cubicBezTo>
                        <a:pt x="24" y="159"/>
                        <a:pt x="84" y="96"/>
                        <a:pt x="156" y="56"/>
                      </a:cubicBezTo>
                      <a:cubicBezTo>
                        <a:pt x="228" y="16"/>
                        <a:pt x="364" y="0"/>
                        <a:pt x="444" y="56"/>
                      </a:cubicBezTo>
                      <a:cubicBezTo>
                        <a:pt x="524" y="112"/>
                        <a:pt x="564" y="216"/>
                        <a:pt x="636" y="392"/>
                      </a:cubicBezTo>
                      <a:cubicBezTo>
                        <a:pt x="708" y="568"/>
                        <a:pt x="820" y="840"/>
                        <a:pt x="876" y="1112"/>
                      </a:cubicBezTo>
                      <a:cubicBezTo>
                        <a:pt x="932" y="1384"/>
                        <a:pt x="964" y="1816"/>
                        <a:pt x="972" y="2024"/>
                      </a:cubicBezTo>
                      <a:cubicBezTo>
                        <a:pt x="980" y="2232"/>
                        <a:pt x="940" y="2312"/>
                        <a:pt x="924" y="2360"/>
                      </a:cubicBezTo>
                      <a:cubicBezTo>
                        <a:pt x="908" y="2408"/>
                        <a:pt x="892" y="2384"/>
                        <a:pt x="876" y="2312"/>
                      </a:cubicBezTo>
                      <a:cubicBezTo>
                        <a:pt x="860" y="2240"/>
                        <a:pt x="860" y="2096"/>
                        <a:pt x="828" y="1928"/>
                      </a:cubicBezTo>
                      <a:cubicBezTo>
                        <a:pt x="796" y="1760"/>
                        <a:pt x="756" y="1544"/>
                        <a:pt x="684" y="1304"/>
                      </a:cubicBezTo>
                      <a:cubicBezTo>
                        <a:pt x="612" y="1064"/>
                        <a:pt x="460" y="648"/>
                        <a:pt x="396" y="488"/>
                      </a:cubicBezTo>
                      <a:cubicBezTo>
                        <a:pt x="332" y="328"/>
                        <a:pt x="316" y="352"/>
                        <a:pt x="300" y="344"/>
                      </a:cubicBezTo>
                      <a:cubicBezTo>
                        <a:pt x="284" y="336"/>
                        <a:pt x="260" y="320"/>
                        <a:pt x="300" y="440"/>
                      </a:cubicBezTo>
                      <a:cubicBezTo>
                        <a:pt x="340" y="560"/>
                        <a:pt x="468" y="840"/>
                        <a:pt x="540" y="1064"/>
                      </a:cubicBezTo>
                      <a:cubicBezTo>
                        <a:pt x="612" y="1288"/>
                        <a:pt x="692" y="1584"/>
                        <a:pt x="732" y="1784"/>
                      </a:cubicBezTo>
                      <a:cubicBezTo>
                        <a:pt x="772" y="1984"/>
                        <a:pt x="780" y="2176"/>
                        <a:pt x="780" y="2264"/>
                      </a:cubicBezTo>
                      <a:cubicBezTo>
                        <a:pt x="780" y="2352"/>
                        <a:pt x="779" y="2375"/>
                        <a:pt x="732" y="2312"/>
                      </a:cubicBezTo>
                      <a:cubicBezTo>
                        <a:pt x="685" y="2249"/>
                        <a:pt x="576" y="2034"/>
                        <a:pt x="496" y="1887"/>
                      </a:cubicBezTo>
                      <a:cubicBezTo>
                        <a:pt x="416" y="1740"/>
                        <a:pt x="304" y="1527"/>
                        <a:pt x="253" y="1432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7820280" y="528480"/>
                  <a:ext cx="1198080" cy="406440"/>
                </a:xfrm>
                <a:custGeom>
                  <a:avLst/>
                  <a:gdLst/>
                  <a:ahLst/>
                  <a:rect l="l" t="t" r="r" b="b"/>
                  <a:pathLst>
                    <a:path w="2020" h="688">
                      <a:moveTo>
                        <a:pt x="96" y="464"/>
                      </a:moveTo>
                      <a:cubicBezTo>
                        <a:pt x="0" y="416"/>
                        <a:pt x="48" y="408"/>
                        <a:pt x="48" y="368"/>
                      </a:cubicBezTo>
                      <a:cubicBezTo>
                        <a:pt x="48" y="328"/>
                        <a:pt x="40" y="280"/>
                        <a:pt x="96" y="224"/>
                      </a:cubicBezTo>
                      <a:cubicBezTo>
                        <a:pt x="152" y="168"/>
                        <a:pt x="240" y="64"/>
                        <a:pt x="384" y="32"/>
                      </a:cubicBezTo>
                      <a:cubicBezTo>
                        <a:pt x="528" y="0"/>
                        <a:pt x="760" y="0"/>
                        <a:pt x="960" y="32"/>
                      </a:cubicBezTo>
                      <a:cubicBezTo>
                        <a:pt x="1160" y="64"/>
                        <a:pt x="1424" y="160"/>
                        <a:pt x="1584" y="224"/>
                      </a:cubicBezTo>
                      <a:cubicBezTo>
                        <a:pt x="1744" y="288"/>
                        <a:pt x="1850" y="363"/>
                        <a:pt x="1920" y="416"/>
                      </a:cubicBezTo>
                      <a:cubicBezTo>
                        <a:pt x="1990" y="469"/>
                        <a:pt x="2020" y="520"/>
                        <a:pt x="2004" y="544"/>
                      </a:cubicBezTo>
                      <a:cubicBezTo>
                        <a:pt x="1988" y="568"/>
                        <a:pt x="1910" y="573"/>
                        <a:pt x="1824" y="560"/>
                      </a:cubicBezTo>
                      <a:cubicBezTo>
                        <a:pt x="1738" y="547"/>
                        <a:pt x="1632" y="504"/>
                        <a:pt x="1488" y="464"/>
                      </a:cubicBezTo>
                      <a:cubicBezTo>
                        <a:pt x="1344" y="424"/>
                        <a:pt x="1128" y="344"/>
                        <a:pt x="960" y="320"/>
                      </a:cubicBezTo>
                      <a:cubicBezTo>
                        <a:pt x="792" y="296"/>
                        <a:pt x="584" y="312"/>
                        <a:pt x="480" y="320"/>
                      </a:cubicBezTo>
                      <a:cubicBezTo>
                        <a:pt x="376" y="328"/>
                        <a:pt x="360" y="352"/>
                        <a:pt x="336" y="368"/>
                      </a:cubicBezTo>
                      <a:cubicBezTo>
                        <a:pt x="312" y="384"/>
                        <a:pt x="304" y="416"/>
                        <a:pt x="336" y="416"/>
                      </a:cubicBezTo>
                      <a:cubicBezTo>
                        <a:pt x="368" y="416"/>
                        <a:pt x="424" y="376"/>
                        <a:pt x="528" y="368"/>
                      </a:cubicBezTo>
                      <a:cubicBezTo>
                        <a:pt x="632" y="360"/>
                        <a:pt x="784" y="336"/>
                        <a:pt x="960" y="368"/>
                      </a:cubicBezTo>
                      <a:cubicBezTo>
                        <a:pt x="1136" y="400"/>
                        <a:pt x="1472" y="520"/>
                        <a:pt x="1584" y="560"/>
                      </a:cubicBezTo>
                      <a:cubicBezTo>
                        <a:pt x="1696" y="600"/>
                        <a:pt x="1664" y="592"/>
                        <a:pt x="1632" y="608"/>
                      </a:cubicBezTo>
                      <a:cubicBezTo>
                        <a:pt x="1600" y="624"/>
                        <a:pt x="1560" y="648"/>
                        <a:pt x="1392" y="656"/>
                      </a:cubicBezTo>
                      <a:cubicBezTo>
                        <a:pt x="1224" y="664"/>
                        <a:pt x="840" y="688"/>
                        <a:pt x="624" y="656"/>
                      </a:cubicBezTo>
                      <a:cubicBezTo>
                        <a:pt x="408" y="624"/>
                        <a:pt x="192" y="512"/>
                        <a:pt x="96" y="464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 flipH="1" rot="745200">
                  <a:off x="6576120" y="1030320"/>
                  <a:ext cx="864720" cy="124164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505800">
                  <a:off x="6281280" y="693000"/>
                  <a:ext cx="1198080" cy="406440"/>
                </a:xfrm>
                <a:custGeom>
                  <a:avLst/>
                  <a:gdLst/>
                  <a:ahLst/>
                  <a:rect l="l" t="t" r="r" b="b"/>
                  <a:pathLst>
                    <a:path w="2020" h="688">
                      <a:moveTo>
                        <a:pt x="96" y="464"/>
                      </a:moveTo>
                      <a:cubicBezTo>
                        <a:pt x="0" y="416"/>
                        <a:pt x="48" y="408"/>
                        <a:pt x="48" y="368"/>
                      </a:cubicBezTo>
                      <a:cubicBezTo>
                        <a:pt x="48" y="328"/>
                        <a:pt x="40" y="280"/>
                        <a:pt x="96" y="224"/>
                      </a:cubicBezTo>
                      <a:cubicBezTo>
                        <a:pt x="152" y="168"/>
                        <a:pt x="240" y="64"/>
                        <a:pt x="384" y="32"/>
                      </a:cubicBezTo>
                      <a:cubicBezTo>
                        <a:pt x="528" y="0"/>
                        <a:pt x="760" y="0"/>
                        <a:pt x="960" y="32"/>
                      </a:cubicBezTo>
                      <a:cubicBezTo>
                        <a:pt x="1160" y="64"/>
                        <a:pt x="1424" y="160"/>
                        <a:pt x="1584" y="224"/>
                      </a:cubicBezTo>
                      <a:cubicBezTo>
                        <a:pt x="1744" y="288"/>
                        <a:pt x="1850" y="363"/>
                        <a:pt x="1920" y="416"/>
                      </a:cubicBezTo>
                      <a:cubicBezTo>
                        <a:pt x="1990" y="469"/>
                        <a:pt x="2020" y="520"/>
                        <a:pt x="2004" y="544"/>
                      </a:cubicBezTo>
                      <a:cubicBezTo>
                        <a:pt x="1988" y="568"/>
                        <a:pt x="1910" y="573"/>
                        <a:pt x="1824" y="560"/>
                      </a:cubicBezTo>
                      <a:cubicBezTo>
                        <a:pt x="1738" y="547"/>
                        <a:pt x="1632" y="504"/>
                        <a:pt x="1488" y="464"/>
                      </a:cubicBezTo>
                      <a:cubicBezTo>
                        <a:pt x="1344" y="424"/>
                        <a:pt x="1128" y="344"/>
                        <a:pt x="960" y="320"/>
                      </a:cubicBezTo>
                      <a:cubicBezTo>
                        <a:pt x="792" y="296"/>
                        <a:pt x="584" y="312"/>
                        <a:pt x="480" y="320"/>
                      </a:cubicBezTo>
                      <a:cubicBezTo>
                        <a:pt x="376" y="328"/>
                        <a:pt x="360" y="352"/>
                        <a:pt x="336" y="368"/>
                      </a:cubicBezTo>
                      <a:cubicBezTo>
                        <a:pt x="312" y="384"/>
                        <a:pt x="304" y="416"/>
                        <a:pt x="336" y="416"/>
                      </a:cubicBezTo>
                      <a:cubicBezTo>
                        <a:pt x="368" y="416"/>
                        <a:pt x="424" y="376"/>
                        <a:pt x="528" y="368"/>
                      </a:cubicBezTo>
                      <a:cubicBezTo>
                        <a:pt x="632" y="360"/>
                        <a:pt x="784" y="336"/>
                        <a:pt x="960" y="368"/>
                      </a:cubicBezTo>
                      <a:cubicBezTo>
                        <a:pt x="1136" y="400"/>
                        <a:pt x="1472" y="520"/>
                        <a:pt x="1584" y="560"/>
                      </a:cubicBezTo>
                      <a:cubicBezTo>
                        <a:pt x="1696" y="600"/>
                        <a:pt x="1664" y="592"/>
                        <a:pt x="1632" y="608"/>
                      </a:cubicBezTo>
                      <a:cubicBezTo>
                        <a:pt x="1600" y="624"/>
                        <a:pt x="1560" y="648"/>
                        <a:pt x="1392" y="656"/>
                      </a:cubicBezTo>
                      <a:cubicBezTo>
                        <a:pt x="1224" y="664"/>
                        <a:pt x="840" y="688"/>
                        <a:pt x="624" y="656"/>
                      </a:cubicBezTo>
                      <a:cubicBezTo>
                        <a:pt x="408" y="624"/>
                        <a:pt x="192" y="512"/>
                        <a:pt x="96" y="464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8" name=""/>
              <p:cNvGrpSpPr/>
              <p:nvPr/>
            </p:nvGrpSpPr>
            <p:grpSpPr>
              <a:xfrm>
                <a:off x="236520" y="1080"/>
                <a:ext cx="331920" cy="6852240"/>
                <a:chOff x="236520" y="1080"/>
                <a:chExt cx="331920" cy="6852240"/>
              </a:xfrm>
            </p:grpSpPr>
            <p:sp>
              <p:nvSpPr>
                <p:cNvPr id="219" name=""/>
                <p:cNvSpPr/>
                <p:nvPr/>
              </p:nvSpPr>
              <p:spPr>
                <a:xfrm>
                  <a:off x="236520" y="4680"/>
                  <a:ext cx="331920" cy="6848640"/>
                </a:xfrm>
                <a:custGeom>
                  <a:avLst/>
                  <a:gdLst/>
                  <a:ahLst/>
                  <a:rect l="l" t="t" r="r" b="b"/>
                  <a:pathLst>
                    <a:path w="209" h="4314">
                      <a:moveTo>
                        <a:pt x="14" y="4314"/>
                      </a:moveTo>
                      <a:cubicBezTo>
                        <a:pt x="11" y="4130"/>
                        <a:pt x="21" y="3515"/>
                        <a:pt x="19" y="3207"/>
                      </a:cubicBezTo>
                      <a:cubicBezTo>
                        <a:pt x="17" y="2899"/>
                        <a:pt x="5" y="2613"/>
                        <a:pt x="3" y="2467"/>
                      </a:cubicBezTo>
                      <a:cubicBezTo>
                        <a:pt x="0" y="2321"/>
                        <a:pt x="2" y="2360"/>
                        <a:pt x="3" y="2330"/>
                      </a:cubicBezTo>
                      <a:cubicBezTo>
                        <a:pt x="3" y="2300"/>
                        <a:pt x="7" y="2302"/>
                        <a:pt x="8" y="2288"/>
                      </a:cubicBezTo>
                      <a:cubicBezTo>
                        <a:pt x="10" y="2274"/>
                        <a:pt x="11" y="2260"/>
                        <a:pt x="10" y="2244"/>
                      </a:cubicBezTo>
                      <a:cubicBezTo>
                        <a:pt x="9" y="2228"/>
                        <a:pt x="4" y="2217"/>
                        <a:pt x="3" y="2193"/>
                      </a:cubicBezTo>
                      <a:cubicBezTo>
                        <a:pt x="1" y="2169"/>
                        <a:pt x="1" y="2159"/>
                        <a:pt x="3" y="2103"/>
                      </a:cubicBezTo>
                      <a:cubicBezTo>
                        <a:pt x="4" y="2046"/>
                        <a:pt x="11" y="1988"/>
                        <a:pt x="12" y="1849"/>
                      </a:cubicBezTo>
                      <a:cubicBezTo>
                        <a:pt x="13" y="1710"/>
                        <a:pt x="10" y="1578"/>
                        <a:pt x="10" y="1270"/>
                      </a:cubicBezTo>
                      <a:cubicBezTo>
                        <a:pt x="10" y="961"/>
                        <a:pt x="8" y="211"/>
                        <a:pt x="12" y="0"/>
                      </a:cubicBezTo>
                      <a:lnTo>
                        <a:pt x="34" y="4"/>
                      </a:lnTo>
                      <a:cubicBezTo>
                        <a:pt x="38" y="175"/>
                        <a:pt x="37" y="711"/>
                        <a:pt x="37" y="1026"/>
                      </a:cubicBezTo>
                      <a:cubicBezTo>
                        <a:pt x="38" y="1342"/>
                        <a:pt x="38" y="1717"/>
                        <a:pt x="36" y="1897"/>
                      </a:cubicBezTo>
                      <a:cubicBezTo>
                        <a:pt x="39" y="1973"/>
                        <a:pt x="29" y="2051"/>
                        <a:pt x="25" y="2105"/>
                      </a:cubicBezTo>
                      <a:cubicBezTo>
                        <a:pt x="22" y="2164"/>
                        <a:pt x="20" y="2202"/>
                        <a:pt x="39" y="2212"/>
                      </a:cubicBezTo>
                      <a:cubicBezTo>
                        <a:pt x="57" y="2226"/>
                        <a:pt x="81" y="2231"/>
                        <a:pt x="102" y="2228"/>
                      </a:cubicBezTo>
                      <a:cubicBezTo>
                        <a:pt x="123" y="2231"/>
                        <a:pt x="150" y="2235"/>
                        <a:pt x="163" y="2228"/>
                      </a:cubicBezTo>
                      <a:cubicBezTo>
                        <a:pt x="176" y="2221"/>
                        <a:pt x="178" y="2209"/>
                        <a:pt x="181" y="2184"/>
                      </a:cubicBezTo>
                      <a:cubicBezTo>
                        <a:pt x="184" y="2159"/>
                        <a:pt x="180" y="2113"/>
                        <a:pt x="180" y="2077"/>
                      </a:cubicBezTo>
                      <a:cubicBezTo>
                        <a:pt x="179" y="2041"/>
                        <a:pt x="179" y="2012"/>
                        <a:pt x="178" y="1969"/>
                      </a:cubicBezTo>
                      <a:cubicBezTo>
                        <a:pt x="174" y="1922"/>
                        <a:pt x="175" y="2145"/>
                        <a:pt x="173" y="1817"/>
                      </a:cubicBezTo>
                      <a:cubicBezTo>
                        <a:pt x="171" y="1490"/>
                        <a:pt x="163" y="305"/>
                        <a:pt x="167" y="3"/>
                      </a:cubicBezTo>
                      <a:lnTo>
                        <a:pt x="202" y="6"/>
                      </a:lnTo>
                      <a:cubicBezTo>
                        <a:pt x="206" y="122"/>
                        <a:pt x="195" y="395"/>
                        <a:pt x="195" y="701"/>
                      </a:cubicBezTo>
                      <a:cubicBezTo>
                        <a:pt x="194" y="1006"/>
                        <a:pt x="196" y="1600"/>
                        <a:pt x="198" y="1841"/>
                      </a:cubicBezTo>
                      <a:cubicBezTo>
                        <a:pt x="197" y="1985"/>
                        <a:pt x="209" y="2095"/>
                        <a:pt x="209" y="2148"/>
                      </a:cubicBezTo>
                      <a:cubicBezTo>
                        <a:pt x="209" y="2201"/>
                        <a:pt x="203" y="2212"/>
                        <a:pt x="198" y="2264"/>
                      </a:cubicBezTo>
                      <a:cubicBezTo>
                        <a:pt x="208" y="2285"/>
                        <a:pt x="205" y="2289"/>
                        <a:pt x="206" y="2330"/>
                      </a:cubicBezTo>
                      <a:cubicBezTo>
                        <a:pt x="208" y="2371"/>
                        <a:pt x="209" y="2352"/>
                        <a:pt x="206" y="2512"/>
                      </a:cubicBezTo>
                      <a:cubicBezTo>
                        <a:pt x="204" y="2672"/>
                        <a:pt x="194" y="2987"/>
                        <a:pt x="193" y="3287"/>
                      </a:cubicBezTo>
                      <a:cubicBezTo>
                        <a:pt x="192" y="3587"/>
                        <a:pt x="200" y="4143"/>
                        <a:pt x="197" y="4314"/>
                      </a:cubicBezTo>
                      <a:lnTo>
                        <a:pt x="176" y="4313"/>
                      </a:lnTo>
                      <a:cubicBezTo>
                        <a:pt x="172" y="4225"/>
                        <a:pt x="176" y="3940"/>
                        <a:pt x="175" y="3786"/>
                      </a:cubicBezTo>
                      <a:cubicBezTo>
                        <a:pt x="174" y="3632"/>
                        <a:pt x="171" y="3568"/>
                        <a:pt x="171" y="3391"/>
                      </a:cubicBezTo>
                      <a:cubicBezTo>
                        <a:pt x="172" y="3213"/>
                        <a:pt x="176" y="2892"/>
                        <a:pt x="178" y="2720"/>
                      </a:cubicBezTo>
                      <a:cubicBezTo>
                        <a:pt x="180" y="2547"/>
                        <a:pt x="186" y="2428"/>
                        <a:pt x="185" y="2356"/>
                      </a:cubicBezTo>
                      <a:cubicBezTo>
                        <a:pt x="183" y="2332"/>
                        <a:pt x="187" y="2295"/>
                        <a:pt x="170" y="2288"/>
                      </a:cubicBezTo>
                      <a:cubicBezTo>
                        <a:pt x="158" y="2275"/>
                        <a:pt x="125" y="2307"/>
                        <a:pt x="103" y="2308"/>
                      </a:cubicBezTo>
                      <a:cubicBezTo>
                        <a:pt x="82" y="2309"/>
                        <a:pt x="54" y="2270"/>
                        <a:pt x="41" y="2296"/>
                      </a:cubicBezTo>
                      <a:cubicBezTo>
                        <a:pt x="27" y="2322"/>
                        <a:pt x="23" y="2357"/>
                        <a:pt x="23" y="2467"/>
                      </a:cubicBezTo>
                      <a:cubicBezTo>
                        <a:pt x="22" y="2577"/>
                        <a:pt x="35" y="2745"/>
                        <a:pt x="37" y="2955"/>
                      </a:cubicBezTo>
                      <a:cubicBezTo>
                        <a:pt x="40" y="3166"/>
                        <a:pt x="39" y="3503"/>
                        <a:pt x="39" y="3730"/>
                      </a:cubicBezTo>
                      <a:cubicBezTo>
                        <a:pt x="39" y="3957"/>
                        <a:pt x="41" y="4216"/>
                        <a:pt x="37" y="4313"/>
                      </a:cubicBezTo>
                      <a:lnTo>
                        <a:pt x="14" y="4314"/>
                      </a:ln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 flipV="1">
                  <a:off x="409680" y="360"/>
                  <a:ext cx="74520" cy="3490920"/>
                </a:xfrm>
                <a:custGeom>
                  <a:avLst/>
                  <a:gdLst/>
                  <a:ahLst/>
                  <a:rect l="l" t="t" r="r" b="b"/>
                  <a:pathLst>
                    <a:path w="110" h="2131">
                      <a:moveTo>
                        <a:pt x="27" y="477"/>
                      </a:moveTo>
                      <a:cubicBezTo>
                        <a:pt x="24" y="266"/>
                        <a:pt x="26" y="283"/>
                        <a:pt x="23" y="217"/>
                      </a:cubicBezTo>
                      <a:cubicBezTo>
                        <a:pt x="20" y="151"/>
                        <a:pt x="14" y="112"/>
                        <a:pt x="11" y="81"/>
                      </a:cubicBezTo>
                      <a:cubicBezTo>
                        <a:pt x="8" y="50"/>
                        <a:pt x="0" y="42"/>
                        <a:pt x="3" y="29"/>
                      </a:cubicBezTo>
                      <a:cubicBezTo>
                        <a:pt x="6" y="16"/>
                        <a:pt x="18" y="9"/>
                        <a:pt x="31" y="5"/>
                      </a:cubicBezTo>
                      <a:cubicBezTo>
                        <a:pt x="44" y="1"/>
                        <a:pt x="71" y="0"/>
                        <a:pt x="83" y="5"/>
                      </a:cubicBezTo>
                      <a:cubicBezTo>
                        <a:pt x="95" y="10"/>
                        <a:pt x="99" y="12"/>
                        <a:pt x="103" y="33"/>
                      </a:cubicBezTo>
                      <a:cubicBezTo>
                        <a:pt x="107" y="54"/>
                        <a:pt x="110" y="77"/>
                        <a:pt x="107" y="133"/>
                      </a:cubicBezTo>
                      <a:cubicBezTo>
                        <a:pt x="104" y="189"/>
                        <a:pt x="90" y="249"/>
                        <a:pt x="87" y="369"/>
                      </a:cubicBezTo>
                      <a:cubicBezTo>
                        <a:pt x="84" y="489"/>
                        <a:pt x="88" y="646"/>
                        <a:pt x="87" y="853"/>
                      </a:cubicBezTo>
                      <a:cubicBezTo>
                        <a:pt x="86" y="1060"/>
                        <a:pt x="79" y="1414"/>
                        <a:pt x="79" y="1613"/>
                      </a:cubicBezTo>
                      <a:cubicBezTo>
                        <a:pt x="79" y="1812"/>
                        <a:pt x="87" y="1959"/>
                        <a:pt x="87" y="2045"/>
                      </a:cubicBezTo>
                      <a:cubicBezTo>
                        <a:pt x="87" y="2131"/>
                        <a:pt x="87" y="2115"/>
                        <a:pt x="79" y="2129"/>
                      </a:cubicBezTo>
                      <a:lnTo>
                        <a:pt x="39" y="2129"/>
                      </a:lnTo>
                      <a:cubicBezTo>
                        <a:pt x="32" y="2021"/>
                        <a:pt x="42" y="1757"/>
                        <a:pt x="39" y="1481"/>
                      </a:cubicBezTo>
                      <a:cubicBezTo>
                        <a:pt x="36" y="1205"/>
                        <a:pt x="30" y="688"/>
                        <a:pt x="27" y="477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21" name=""/>
            <p:cNvSpPr/>
            <p:nvPr/>
          </p:nvSpPr>
          <p:spPr>
            <a:xfrm>
              <a:off x="1174680" y="3430440"/>
              <a:ext cx="7962840" cy="77760"/>
            </a:xfrm>
            <a:prstGeom prst="rect">
              <a:avLst/>
            </a:prstGeom>
            <a:solidFill>
              <a:srgbClr val="b2c2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79360" y="219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5032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425032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2503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25032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25032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25032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2503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DB511-E45B-4F1B-8EE0-D1E88545E5F7}" type="slidenum">
              <a:rPr b="0" lang="en-GB" sz="1400" spc="-1" strike="noStrike">
                <a:solidFill>
                  <a:srgbClr val="425032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b89040"/>
              </a:buClr>
              <a:buSzPct val="90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b89040"/>
              </a:buClr>
              <a:buSzPct val="90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b89040"/>
              </a:buClr>
              <a:buSzPct val="9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333333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333333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1.chinaculture.org/focus/images/attachement/jpg/site1/20071101/00096b7d27910893e9a12c.jpg&amp;imgrefurl=http://www1.chinaculture.org/info/2007-10/22/content_121005.htm&amp;h=266&amp;w=414&amp;sz=13&amp;hl=en&amp;start=56&amp;tbnid=ePYua4Z_rih_yM:&amp;tbnh=80&amp;tbnw=125&amp;prev=/images%3Fq%3Dfour%2Btreasures%2Bof%2Bchinese%2Bstudy%26start%3D54%26gbv%3D2%26ndsp%3D18%26hl%3Den%26sa%3DN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orientgallery.org/chinesecalligraphy/original/chineseCalligraph0021.jpg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www.orientgallery.org/chinesecalligraphy/original/chineseCalligraph0037.jpg" TargetMode="External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orientgallery.org/chinesecalligraphy/original/chineseCalligraph0057.jpg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www.orientgallery.org/chinesecalligraphy/original/chineseCalligraph0062.jpg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orientgallery.org/chinesecalligraphy/original/chineseCalligraph0045.jpg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images.google.co.uk/imgres?imgurl=http://www.xabusiness.com/chinese-paintings-picture/chinese-calligraphy/cc-0023b.jpg&amp;imgrefurl=http://www.xabusiness.com/chinese-calligraphy/cc-0023-chinese-paintings.htm&amp;usg=__R62KyYzdHRefKfGrkI3Q06hKOkI=&amp;h=264&amp;w=600&amp;sz=32&amp;hl=en&amp;start=63&amp;um=1&amp;tbnid=-GyrbKh8WSajWM:&amp;tbnh=59&amp;tbnw=135&amp;prev=/images%3Fq%3Dchinese%2Bcalligraphy%26start%3D60%26ndsp%3D20%26um%3D1%26hl%3Den%26sa%3DN" TargetMode="External"/><Relationship Id="rId4" Type="http://schemas.openxmlformats.org/officeDocument/2006/relationships/image" Target="../media/image8.jpeg"/><Relationship Id="rId5" Type="http://schemas.openxmlformats.org/officeDocument/2006/relationships/hyperlink" Target="http://images.google.co.uk/imgres?imgurl=http://james.seng.sg/files/public/Sun-Caligraphy.jpg&amp;imgrefurl=http://james.seng.sg/2005/04/28/chinese-calligraphy/&amp;usg=__7Q_i_h3yT_UQLPApvjHXB3pSk8k=&amp;h=188&amp;w=400&amp;sz=18&amp;hl=en&amp;start=151&amp;um=1&amp;tbnid=Rihx0OngaNm3wM:&amp;tbnh=58&amp;tbnw=124&amp;prev=/images%3Fq%3Dchinese%2Bcalligraphy%26start%3D140%26ndsp%3D20%26um%3D1%26hl%3Den%26sa%3DN" TargetMode="External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china-phoenix.net/images/fenghuang.jpg&amp;imgrefurl=http://china-phoenix.net/&amp;usg=__gB1WG1LLpabIZr-mfr4XUK3q-kk=&amp;h=640&amp;w=415&amp;sz=54&amp;hl=en&amp;start=55&amp;um=1&amp;tbnid=3fPGpNsXSWSIJM:&amp;tbnh=137&amp;tbnw=89&amp;prev=/images%3Fq%3Dchinese%2Bcalligraphy%26start%3D40%26ndsp%3D20%26um%3D1%26hl%3Den%26sa%3DN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images.google.co.uk/imgres?imgurl=http://chinesecalligraphystore.com/chinese-zodiac-signs/chinese-zodiac-sign-pictures/12-chinese-zodiac-animals.gif&amp;imgrefurl=http://chinesecalligraphystore.com/chinese-zodiac-signs/&amp;usg=__DD2ZDK6Eoxag503sfrKZUlRWCs8=&amp;h=600&amp;w=640&amp;sz=26&amp;hl=en&amp;start=59&amp;um=1&amp;tbnid=TzQwumk1_OLrWM:&amp;tbnh=128&amp;tbnw=137&amp;prev=/images%3Fq%3Dchinese%2Bcalligraphy%2Banimals%26start%3D40%26gbv%3D2%26ndsp%3D20%26um%3D1%26hl%3Den%26sa%3DN" TargetMode="External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thunderhoofdesigns.com/main_laportel_horse.jpg&amp;imgrefurl=http://www.thunderhoofdesigns.com/&amp;h=352&amp;w=480&amp;sz=100&amp;hl=en&amp;start=18&amp;um=1&amp;tbnid=WaFJddmHAaLJ8M:&amp;tbnh=95&amp;tbnw=129&amp;prev=/images%3Fq%3Dhorse%2Bchinese%2Bpainting%26um%3D1%26hl%3Den" TargetMode="External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hyperlink" Target="http://z.about.com/d/chineseculture/1/0/O/d/5/zi00068.gif" TargetMode="External"/><Relationship Id="rId7" Type="http://schemas.openxmlformats.org/officeDocument/2006/relationships/image" Target="../media/image16.jpeg"/><Relationship Id="rId8" Type="http://schemas.openxmlformats.org/officeDocument/2006/relationships/package" Target="../embeddings/oleObject1.pptx"/><Relationship Id="rId9" Type="http://schemas.openxmlformats.org/officeDocument/2006/relationships/image" Target="../media/image17.wmf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e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1619280" y="1773360"/>
            <a:ext cx="5545080" cy="30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Chinese calligraphy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26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88000" y="3573360"/>
            <a:ext cx="3235320" cy="207036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45720" y="5950080"/>
            <a:ext cx="19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ahoma"/>
              </a:rPr>
              <a:t>Qiaochao Zhang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ahoma"/>
              </a:rPr>
              <a:t>Aston University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e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" descr="chineseCalligraph002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3343320" cy="685800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chineseCalligraph0037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348000" y="0"/>
            <a:ext cx="3086280" cy="685800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5"/>
          <a:stretch/>
        </p:blipFill>
        <p:spPr>
          <a:xfrm>
            <a:off x="6443640" y="0"/>
            <a:ext cx="267804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e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314360" y="20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271" name="" descr="chineseCalligraph0057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chineseCalligraph0062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e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314360" y="20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275" name="" descr="chineseCalligraph0045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162396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1628640"/>
            <a:ext cx="9144000" cy="237672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4005360"/>
            <a:ext cx="9144000" cy="28526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e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14360" y="20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28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4456080" cy="685800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319640" y="0"/>
            <a:ext cx="482436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e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-189720" y="6491160"/>
            <a:ext cx="668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ahoma"/>
                <a:ea typeface="宋体"/>
              </a:rPr>
              <a:t>http://en.wikipedia.org/wiki/Chinese_character_classification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0" y="309564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0" y="370692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0" y="156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0" y="259092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0" y="326232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387360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0" y="454500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9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2057400" cy="151452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2514600" y="685800"/>
            <a:ext cx="685800" cy="0"/>
          </a:xfrm>
          <a:prstGeom prst="line">
            <a:avLst/>
          </a:prstGeom>
          <a:ln w="5400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0" y="169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0" y="246204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0" y="37450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0" y="441648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3"/>
          <a:stretch/>
        </p:blipFill>
        <p:spPr>
          <a:xfrm>
            <a:off x="3505320" y="0"/>
            <a:ext cx="1981080" cy="150984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0" y="156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5756400" y="304920"/>
            <a:ext cx="3387600" cy="965160"/>
            <a:chOff x="5756400" y="304920"/>
            <a:chExt cx="3387600" cy="965160"/>
          </a:xfrm>
        </p:grpSpPr>
        <p:grpSp>
          <p:nvGrpSpPr>
            <p:cNvPr id="299" name=""/>
            <p:cNvGrpSpPr/>
            <p:nvPr/>
          </p:nvGrpSpPr>
          <p:grpSpPr>
            <a:xfrm>
              <a:off x="5762880" y="321120"/>
              <a:ext cx="3374640" cy="932760"/>
              <a:chOff x="5762880" y="321120"/>
              <a:chExt cx="3374640" cy="932760"/>
            </a:xfrm>
          </p:grpSpPr>
          <p:sp>
            <p:nvSpPr>
              <p:cNvPr id="300" name=""/>
              <p:cNvSpPr/>
              <p:nvPr/>
            </p:nvSpPr>
            <p:spPr>
              <a:xfrm>
                <a:off x="5762880" y="321120"/>
                <a:ext cx="3374640" cy="93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b89040"/>
                    </a:solidFill>
                    <a:latin typeface="Arial"/>
                    <a:ea typeface="宋体"/>
                  </a:rPr>
                  <a:t>Oracle-bone script</a:t>
                </a:r>
                <a:br>
                  <a:rPr sz="2000"/>
                </a:br>
                <a:r>
                  <a:rPr b="1" lang="en-GB" sz="2000" spc="-1" strike="noStrike">
                    <a:solidFill>
                      <a:srgbClr val="b89040"/>
                    </a:solidFill>
                    <a:latin typeface="Arial"/>
                    <a:ea typeface="宋体"/>
                  </a:rPr>
                  <a:t>12th - 11th centuries B.C.E. </a:t>
                </a:r>
                <a:endParaRPr b="0" lang="en-US" sz="20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5762880" y="321120"/>
                <a:ext cx="3374640" cy="93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sp>
          <p:nvSpPr>
            <p:cNvPr id="302" name=""/>
            <p:cNvSpPr/>
            <p:nvPr/>
          </p:nvSpPr>
          <p:spPr>
            <a:xfrm>
              <a:off x="5756400" y="304920"/>
              <a:ext cx="3387600" cy="9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303" name=""/>
          <p:cNvSpPr/>
          <p:nvPr/>
        </p:nvSpPr>
        <p:spPr>
          <a:xfrm>
            <a:off x="0" y="259092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0" y="387360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0" y="454500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0" y="165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0" y="25066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0" y="317808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0" y="446076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3505320" y="1600200"/>
            <a:ext cx="1981080" cy="152100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0" y="156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5715000" y="1828800"/>
            <a:ext cx="2532240" cy="990720"/>
            <a:chOff x="5715000" y="1828800"/>
            <a:chExt cx="2532240" cy="990720"/>
          </a:xfrm>
        </p:grpSpPr>
        <p:grpSp>
          <p:nvGrpSpPr>
            <p:cNvPr id="313" name=""/>
            <p:cNvGrpSpPr/>
            <p:nvPr/>
          </p:nvGrpSpPr>
          <p:grpSpPr>
            <a:xfrm>
              <a:off x="5719680" y="1845360"/>
              <a:ext cx="2522520" cy="957240"/>
              <a:chOff x="5719680" y="1845360"/>
              <a:chExt cx="2522520" cy="957240"/>
            </a:xfrm>
          </p:grpSpPr>
          <p:sp>
            <p:nvSpPr>
              <p:cNvPr id="314" name=""/>
              <p:cNvSpPr/>
              <p:nvPr/>
            </p:nvSpPr>
            <p:spPr>
              <a:xfrm>
                <a:off x="5719680" y="1845360"/>
                <a:ext cx="2522520" cy="95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b89040"/>
                    </a:solidFill>
                    <a:latin typeface="Arial"/>
                    <a:ea typeface="宋体"/>
                  </a:rPr>
                  <a:t>Small-seal script</a:t>
                </a:r>
                <a:br>
                  <a:rPr sz="2000"/>
                </a:br>
                <a:r>
                  <a:rPr b="1" lang="en-GB" sz="2000" spc="-1" strike="noStrike">
                    <a:solidFill>
                      <a:srgbClr val="b89040"/>
                    </a:solidFill>
                    <a:latin typeface="Arial"/>
                    <a:ea typeface="宋体"/>
                  </a:rPr>
                  <a:t>2nd century B.C.E. </a:t>
                </a:r>
                <a:endParaRPr b="0" lang="en-US" sz="20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719680" y="1845360"/>
                <a:ext cx="2522520" cy="95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sp>
          <p:nvSpPr>
            <p:cNvPr id="316" name=""/>
            <p:cNvSpPr/>
            <p:nvPr/>
          </p:nvSpPr>
          <p:spPr>
            <a:xfrm>
              <a:off x="5715000" y="1828800"/>
              <a:ext cx="253224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317" name=""/>
          <p:cNvSpPr/>
          <p:nvPr/>
        </p:nvSpPr>
        <p:spPr>
          <a:xfrm>
            <a:off x="0" y="259092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0" y="326232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0" y="387360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0" y="454500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0" y="1711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0" y="244620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0" y="37288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0" y="440064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5"/>
          <a:stretch/>
        </p:blipFill>
        <p:spPr>
          <a:xfrm>
            <a:off x="3505320" y="3200400"/>
            <a:ext cx="1981080" cy="152388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/>
          <p:nvPr/>
        </p:nvSpPr>
        <p:spPr>
          <a:xfrm>
            <a:off x="0" y="156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5715000" y="3505320"/>
            <a:ext cx="3141720" cy="990360"/>
            <a:chOff x="5715000" y="3505320"/>
            <a:chExt cx="3141720" cy="990360"/>
          </a:xfrm>
        </p:grpSpPr>
        <p:grpSp>
          <p:nvGrpSpPr>
            <p:cNvPr id="328" name=""/>
            <p:cNvGrpSpPr/>
            <p:nvPr/>
          </p:nvGrpSpPr>
          <p:grpSpPr>
            <a:xfrm>
              <a:off x="5720760" y="3521880"/>
              <a:ext cx="3129840" cy="956880"/>
              <a:chOff x="5720760" y="3521880"/>
              <a:chExt cx="3129840" cy="956880"/>
            </a:xfrm>
          </p:grpSpPr>
          <p:sp>
            <p:nvSpPr>
              <p:cNvPr id="329" name=""/>
              <p:cNvSpPr/>
              <p:nvPr/>
            </p:nvSpPr>
            <p:spPr>
              <a:xfrm>
                <a:off x="5720760" y="3521880"/>
                <a:ext cx="3129840" cy="956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b89040"/>
                    </a:solidFill>
                    <a:latin typeface="Arial"/>
                    <a:ea typeface="宋体"/>
                  </a:rPr>
                  <a:t>Standard script</a:t>
                </a:r>
                <a:br>
                  <a:rPr sz="2000"/>
                </a:br>
                <a:r>
                  <a:rPr b="1" lang="en-GB" sz="2000" spc="-1" strike="noStrike">
                    <a:solidFill>
                      <a:srgbClr val="b89040"/>
                    </a:solidFill>
                    <a:latin typeface="Arial"/>
                    <a:ea typeface="宋体"/>
                  </a:rPr>
                  <a:t>since c. 4th century C.E. </a:t>
                </a:r>
                <a:endParaRPr b="0" lang="en-US" sz="20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5720760" y="3521880"/>
                <a:ext cx="3129840" cy="956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sp>
          <p:nvSpPr>
            <p:cNvPr id="331" name=""/>
            <p:cNvSpPr/>
            <p:nvPr/>
          </p:nvSpPr>
          <p:spPr>
            <a:xfrm>
              <a:off x="5715000" y="3505320"/>
              <a:ext cx="3141720" cy="9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332" name=""/>
          <p:cNvSpPr/>
          <p:nvPr/>
        </p:nvSpPr>
        <p:spPr>
          <a:xfrm>
            <a:off x="0" y="259092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0" y="326232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0" y="387360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335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505320" y="4800600"/>
            <a:ext cx="1981080" cy="167652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5715000" y="5334120"/>
            <a:ext cx="28954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89040"/>
                </a:solidFill>
                <a:latin typeface="Arial"/>
                <a:ea typeface="宋体"/>
              </a:rPr>
              <a:t>Simplified character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89040"/>
                </a:solidFill>
                <a:latin typeface="Arial"/>
                <a:ea typeface="宋体"/>
              </a:rPr>
              <a:t>now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8" spid="">
              <p:embed/>
              <p:pic>
                <p:nvPicPr>
                  <p:cNvPr id="338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9" name=""/>
          <p:cNvSpPr/>
          <p:nvPr/>
        </p:nvSpPr>
        <p:spPr>
          <a:xfrm>
            <a:off x="914400" y="4876920"/>
            <a:ext cx="23623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  <a:ea typeface="宋体"/>
              </a:rPr>
              <a:t>      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  <a:ea typeface="宋体"/>
              </a:rPr>
              <a:t>Horse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  <a:ea typeface="宋体"/>
              </a:rPr>
              <a:t>          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  <a:ea typeface="宋体"/>
              </a:rPr>
              <a:t>m</a:t>
            </a:r>
            <a:r>
              <a:rPr b="0" lang="en-GB" sz="3200" spc="-1" strike="noStrike">
                <a:solidFill>
                  <a:srgbClr val="333333"/>
                </a:solidFill>
                <a:latin typeface="宋体"/>
                <a:ea typeface="宋体"/>
              </a:rPr>
              <a:t>ǎ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  <a:ea typeface="宋体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895480" y="5943600"/>
            <a:ext cx="457200" cy="0"/>
          </a:xfrm>
          <a:prstGeom prst="line">
            <a:avLst/>
          </a:prstGeom>
          <a:ln w="5400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e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e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" descr="evolution of chinese characters"/>
          <p:cNvPicPr/>
          <p:nvPr/>
        </p:nvPicPr>
        <p:blipFill>
          <a:blip r:embed="rId1"/>
          <a:stretch/>
        </p:blipFill>
        <p:spPr>
          <a:xfrm>
            <a:off x="1908000" y="0"/>
            <a:ext cx="5761080" cy="6993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e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250920" y="2773800"/>
            <a:ext cx="871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Tahoma"/>
                <a:ea typeface="宋体"/>
              </a:rPr>
              <a:t>http://video.google.co.uk/videosearch?hl=en&amp;q=chinese%20calligraphy&amp;um=1&amp;ie=UTF-8&amp;sa=N&amp;tab=wv#q=how%20to%20write%20chinese%20calligraphy&amp;hl=en&amp;emb=0&amp;start=70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10:45:19Z</dcterms:created>
  <dc:creator>Information Services Division</dc:creator>
  <dc:description/>
  <dc:language>en-US</dc:language>
  <cp:lastModifiedBy>isastaff</cp:lastModifiedBy>
  <dcterms:modified xsi:type="dcterms:W3CDTF">2009-02-27T09:48:16Z</dcterms:modified>
  <cp:revision>31</cp:revision>
  <dc:subject/>
  <dc:title>Slide 1</dc:title>
</cp:coreProperties>
</file>