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3D2-B7B3-43C5-B02D-ED260701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BCB-0326-40C3-9B9E-2D5CBB52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E54-9167-4D6E-9731-043B6290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DEE-97F2-4AE5-82C3-FCE11697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AA1E-C7AA-4A66-A9B1-124E3038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562C-2B48-4AE8-869E-2BEC137D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F3F5-CE42-49F2-9B18-5F502241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779D-8141-4B3E-A44D-57FD472D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BD06-0B7E-4AC9-9453-9F4AD907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22E1-7D1A-4EF2-9676-316F8441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F6C1-281E-4D1D-AA2A-8A6DA91D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1575-DCBF-48A9-8C8F-51505C2C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7E58-001A-4D22-A787-54B4E1D9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6E47-E9CA-4CFC-BD59-CE0AF652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01E1-F15A-4F3E-91B0-D82812BF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2D9A-ABA4-4DC8-998C-642B8440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72CA-49E6-4981-923D-14B75239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7F3-E571-4962-BBCF-E9863C91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677-D3E0-424A-9724-697937C0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B10-8495-496F-A96A-1AB3C325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6B2-A003-4770-86CE-80358DE9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21A-F9AB-4464-BBCF-FDEF7CCF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57A-D73D-4B3E-B548-E1B3F31F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185-C099-4036-9017-86FF3209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8D54-FD85-44CD-B9D7-12A05B067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24F9-F6F6-4512-97F1-5C2F397FD5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66"/>
                </a:solidFill>
                <a:latin typeface="Arial"/>
              </a:rPr>
              <a:t>Quiz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3227040" y="1571760"/>
            <a:ext cx="21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ump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o mi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s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s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6643800" y="428760"/>
            <a:ext cx="1908000" cy="27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1571760" y="4786200"/>
            <a:ext cx="2660400" cy="1866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4"/>
          <a:stretch/>
        </p:blipFill>
        <p:spPr>
          <a:xfrm>
            <a:off x="5643720" y="4071960"/>
            <a:ext cx="3119400" cy="2550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"/>
          <p:cNvSpPr/>
          <p:nvPr/>
        </p:nvSpPr>
        <p:spPr>
          <a:xfrm>
            <a:off x="1746360" y="857160"/>
            <a:ext cx="6237000" cy="5205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61700"/>
                </a:solidFill>
                <a:latin typeface="Arial"/>
              </a:rPr>
              <a:t>Which of these is </a:t>
            </a:r>
            <a:r>
              <a:rPr b="1" lang="en-GB" sz="2800" spc="-1" strike="noStrike" u="sng">
                <a:solidFill>
                  <a:srgbClr val="461700"/>
                </a:solidFill>
                <a:uFillTx/>
                <a:latin typeface="Arial"/>
              </a:rPr>
              <a:t>not</a:t>
            </a:r>
            <a:r>
              <a:rPr b="0" lang="en-GB" sz="2800" spc="-1" strike="noStrike">
                <a:solidFill>
                  <a:srgbClr val="461700"/>
                </a:solidFill>
                <a:latin typeface="Arial"/>
              </a:rPr>
              <a:t> a Chinese fo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1428840" y="214200"/>
            <a:ext cx="628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61700"/>
                </a:solidFill>
                <a:latin typeface="Arial"/>
              </a:rPr>
              <a:t>If a Chinese person says “</a:t>
            </a:r>
            <a:r>
              <a:rPr b="0" lang="en-US" sz="2800" spc="-1" strike="noStrike">
                <a:solidFill>
                  <a:srgbClr val="461700"/>
                </a:solidFill>
                <a:latin typeface="Arial"/>
              </a:rPr>
              <a:t>Ni jiao shen me ming zi? “ to you, what are they ask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952200" y="1928880"/>
            <a:ext cx="4599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 are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your na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ere do you come fro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 you like Chinese fo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572080" y="1857240"/>
            <a:ext cx="3333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01680" y="160020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66"/>
                </a:solidFill>
                <a:latin typeface="Arial"/>
              </a:rPr>
              <a:t>Answers!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1737720" y="35712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61700"/>
                </a:solidFill>
                <a:latin typeface="Arial"/>
              </a:rPr>
              <a:t>What is the capital of Chi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869120" y="1357200"/>
            <a:ext cx="202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eij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angh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gap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k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000840" y="2143080"/>
            <a:ext cx="2212920" cy="2524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1785960" y="4572000"/>
            <a:ext cx="3000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0" dur="indefinite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1857240" y="107316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700"/>
                </a:solidFill>
                <a:latin typeface="Arial"/>
                <a:ea typeface="Times New Roman"/>
              </a:rPr>
              <a:t>What is the population of Chi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012040" y="2000160"/>
            <a:ext cx="2187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.3 b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5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00 b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gadz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china"/>
          <p:cNvPicPr/>
          <p:nvPr/>
        </p:nvPicPr>
        <p:blipFill>
          <a:blip r:embed="rId1"/>
          <a:stretch/>
        </p:blipFill>
        <p:spPr>
          <a:xfrm>
            <a:off x="4786200" y="1785960"/>
            <a:ext cx="33339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indefinite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928800" y="576720"/>
            <a:ext cx="70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700"/>
                </a:solidFill>
                <a:latin typeface="Arial"/>
                <a:ea typeface="Times New Roman"/>
              </a:rPr>
              <a:t>China is one of the four ancient civilizations in the world. How many years has Chinese civilization existed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071720" y="2286000"/>
            <a:ext cx="4143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thousand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housand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hundred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ve thousand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5715000" y="2143080"/>
            <a:ext cx="26528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2" dur="indefinite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1643040" y="646200"/>
            <a:ext cx="60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700"/>
                </a:solidFill>
                <a:latin typeface="Arial"/>
              </a:rPr>
              <a:t>What does the following Chinese character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214960" y="1714680"/>
            <a:ext cx="150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SimHei"/>
              </a:rPr>
              <a:t>火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796760" y="2071800"/>
            <a:ext cx="1868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olc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unt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" dur="indefinite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2651400" y="1000080"/>
            <a:ext cx="1393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61700"/>
                </a:solidFill>
                <a:latin typeface="Arial"/>
              </a:rPr>
              <a:t>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G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3000240" y="4214880"/>
            <a:ext cx="1614600" cy="22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714240" y="1714680"/>
            <a:ext cx="1503360" cy="3895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6072120" y="357120"/>
            <a:ext cx="2446560" cy="3262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4"/>
          <a:stretch/>
        </p:blipFill>
        <p:spPr>
          <a:xfrm>
            <a:off x="5775480" y="4429080"/>
            <a:ext cx="3368520" cy="24289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891000" y="285840"/>
            <a:ext cx="6795000" cy="5205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61700"/>
                </a:solidFill>
                <a:latin typeface="Arial"/>
              </a:rPr>
              <a:t>What colour is considered lucky in Chi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indefinite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1643040" y="428760"/>
            <a:ext cx="585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61700"/>
                </a:solidFill>
                <a:latin typeface="Arial"/>
              </a:rPr>
              <a:t>Each Chinese year is signified by one of 12 animals. 2009 is the Year of which anim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1865880" y="2286000"/>
            <a:ext cx="1650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o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ra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4429080" y="2000160"/>
            <a:ext cx="42386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indefinite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2071800" y="2071800"/>
            <a:ext cx="1866960" cy="12477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1360800" y="207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4718160" y="207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4861440" y="3643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1432440" y="3714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5429160" y="3643200"/>
            <a:ext cx="1857600" cy="1238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3"/>
          <a:stretch/>
        </p:blipFill>
        <p:spPr>
          <a:xfrm>
            <a:off x="5429160" y="2071800"/>
            <a:ext cx="2308320" cy="1214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4"/>
          <a:stretch/>
        </p:blipFill>
        <p:spPr>
          <a:xfrm>
            <a:off x="2071800" y="3714840"/>
            <a:ext cx="1857240" cy="12380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1"/>
          <p:cNvSpPr/>
          <p:nvPr/>
        </p:nvSpPr>
        <p:spPr>
          <a:xfrm>
            <a:off x="1742400" y="857160"/>
            <a:ext cx="57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61700"/>
                </a:solidFill>
                <a:latin typeface="Arial"/>
              </a:rPr>
              <a:t>Which of these is the flag of Chi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6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8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5"/>
          <p:cNvSpPr/>
          <p:nvPr/>
        </p:nvSpPr>
        <p:spPr>
          <a:xfrm>
            <a:off x="1737720" y="35712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61700"/>
                </a:solidFill>
                <a:latin typeface="Arial"/>
              </a:rPr>
              <a:t>What is the capital of Chi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869120" y="1357200"/>
            <a:ext cx="202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ij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angh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gap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k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6000840" y="2143080"/>
            <a:ext cx="2212920" cy="252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1785960" y="4572000"/>
            <a:ext cx="3000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785960" y="500040"/>
            <a:ext cx="542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61700"/>
                </a:solidFill>
                <a:latin typeface="Arial"/>
              </a:rPr>
              <a:t>Which country does NOT have a border with Chi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1865160" y="2143080"/>
            <a:ext cx="1492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3571920" y="1785960"/>
            <a:ext cx="50292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indefinite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3227040" y="1571760"/>
            <a:ext cx="21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ump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o mi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s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us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6643800" y="428760"/>
            <a:ext cx="1908000" cy="2728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3"/>
          <a:stretch/>
        </p:blipFill>
        <p:spPr>
          <a:xfrm>
            <a:off x="1571760" y="4786200"/>
            <a:ext cx="2660400" cy="1866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4"/>
          <a:stretch/>
        </p:blipFill>
        <p:spPr>
          <a:xfrm>
            <a:off x="5643720" y="4071960"/>
            <a:ext cx="3119400" cy="25509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1746360" y="857160"/>
            <a:ext cx="6237000" cy="520560"/>
          </a:xfrm>
          <a:prstGeom prst="rect">
            <a:avLst/>
          </a:prstGeom>
          <a:solidFill>
            <a:srgbClr val="4617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ich of these is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 Chinese fo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indefinite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"/>
          <p:cNvSpPr/>
          <p:nvPr/>
        </p:nvSpPr>
        <p:spPr>
          <a:xfrm>
            <a:off x="1428840" y="214200"/>
            <a:ext cx="628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61700"/>
                </a:solidFill>
                <a:latin typeface="Arial"/>
              </a:rPr>
              <a:t>If a Chinese person says “</a:t>
            </a:r>
            <a:r>
              <a:rPr b="0" lang="en-US" sz="2800" spc="-1" strike="noStrike">
                <a:solidFill>
                  <a:srgbClr val="461700"/>
                </a:solidFill>
                <a:latin typeface="Arial"/>
              </a:rPr>
              <a:t>Ni jiao shen me ming zi? “ to you, what are they ask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952200" y="1928880"/>
            <a:ext cx="4599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 are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What is your na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ere do you come fro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 you like Chinese fo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5572080" y="1857240"/>
            <a:ext cx="3333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indefinite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857240" y="107316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700"/>
                </a:solidFill>
                <a:latin typeface="Arial"/>
                <a:ea typeface="Times New Roman"/>
              </a:rPr>
              <a:t>What is the population of Chi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012040" y="2000160"/>
            <a:ext cx="2187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3 b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5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00 b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gadz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7" descr="china"/>
          <p:cNvPicPr/>
          <p:nvPr/>
        </p:nvPicPr>
        <p:blipFill>
          <a:blip r:embed="rId1"/>
          <a:stretch/>
        </p:blipFill>
        <p:spPr>
          <a:xfrm>
            <a:off x="4786200" y="1785960"/>
            <a:ext cx="33339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928800" y="576720"/>
            <a:ext cx="70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700"/>
                </a:solidFill>
                <a:latin typeface="Arial"/>
                <a:ea typeface="Times New Roman"/>
              </a:rPr>
              <a:t>China is one of the four ancient civilizations in the world. How many years has Chinese civilization existed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71720" y="2286000"/>
            <a:ext cx="4143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thousand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housand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hundred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thousand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143080"/>
            <a:ext cx="26528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1643040" y="646200"/>
            <a:ext cx="60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700"/>
                </a:solidFill>
                <a:latin typeface="Arial"/>
              </a:rPr>
              <a:t>What does the following Chinese character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214960" y="1714680"/>
            <a:ext cx="150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SimHei"/>
              </a:rPr>
              <a:t>火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1796760" y="2071800"/>
            <a:ext cx="1868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olc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unt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2651400" y="1000080"/>
            <a:ext cx="1393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61700"/>
                </a:solidFill>
                <a:latin typeface="Arial"/>
              </a:rPr>
              <a:t>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G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3000240" y="4214880"/>
            <a:ext cx="1614600" cy="227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714240" y="1714680"/>
            <a:ext cx="1503360" cy="3895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6072120" y="357120"/>
            <a:ext cx="2446560" cy="32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5775480" y="4429080"/>
            <a:ext cx="3368520" cy="2428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319680" y="357120"/>
            <a:ext cx="6795000" cy="5205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61700"/>
                </a:solidFill>
                <a:latin typeface="Arial"/>
              </a:rPr>
              <a:t>What colour is considered lucky in Chi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1643040" y="428760"/>
            <a:ext cx="585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61700"/>
                </a:solidFill>
                <a:latin typeface="Arial"/>
              </a:rPr>
              <a:t>Each Chinese year is signified by one of 12 animals. 2009 is the Year of which anim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865880" y="2286000"/>
            <a:ext cx="1650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o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ra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429080" y="2000160"/>
            <a:ext cx="42386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071800" y="2071800"/>
            <a:ext cx="1866960" cy="12477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360800" y="207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718160" y="207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861440" y="3643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1432440" y="3714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5429160" y="3643200"/>
            <a:ext cx="1857600" cy="1238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5429160" y="2071800"/>
            <a:ext cx="2308320" cy="1214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/>
          <a:stretch/>
        </p:blipFill>
        <p:spPr>
          <a:xfrm>
            <a:off x="2071800" y="3714840"/>
            <a:ext cx="1857240" cy="1238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1"/>
          <p:cNvSpPr/>
          <p:nvPr/>
        </p:nvSpPr>
        <p:spPr>
          <a:xfrm>
            <a:off x="1742400" y="857160"/>
            <a:ext cx="57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61700"/>
                </a:solidFill>
                <a:latin typeface="Arial"/>
              </a:rPr>
              <a:t>Which of these is the flag of Chi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1785960" y="500040"/>
            <a:ext cx="542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61700"/>
                </a:solidFill>
                <a:latin typeface="Arial"/>
              </a:rPr>
              <a:t>Which country does NOT have a border with Chi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1865160" y="2143080"/>
            <a:ext cx="1492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571920" y="1785960"/>
            <a:ext cx="50292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4:05:50Z</dcterms:created>
  <dc:creator>微软用户</dc:creator>
  <dc:description/>
  <dc:language>en-US</dc:language>
  <cp:lastModifiedBy>stevenke</cp:lastModifiedBy>
  <dcterms:modified xsi:type="dcterms:W3CDTF">2009-06-19T10:20:09Z</dcterms:modified>
  <cp:revision>37</cp:revision>
  <dc:subject/>
  <dc:title>幻灯片 1</dc:title>
</cp:coreProperties>
</file>