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13.png" ContentType="image/png"/>
  <Override PartName="/ppt/media/image37.jpeg" ContentType="image/jpeg"/>
  <Override PartName="/ppt/media/image9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121932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53640" y="121932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rot="5400000">
            <a:off x="8402040" y="6116400"/>
            <a:ext cx="720720" cy="762120"/>
          </a:xfrm>
          <a:prstGeom prst="rtTriangle">
            <a:avLst/>
          </a:prstGeom>
          <a:solidFill>
            <a:srgbClr val="fb4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b4f14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9"/>
          <a:stretch/>
        </p:blipFill>
        <p:spPr>
          <a:xfrm>
            <a:off x="237960" y="252360"/>
            <a:ext cx="2162520" cy="8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1441440"/>
            <a:ext cx="9144000" cy="5416560"/>
          </a:xfrm>
          <a:prstGeom prst="rect">
            <a:avLst/>
          </a:prstGeom>
          <a:solidFill>
            <a:srgbClr val="fb4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1" name="AutoShape 3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37960" y="252360"/>
            <a:ext cx="2162520" cy="8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b4f14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8.jpeg"/><Relationship Id="rId6" Type="http://schemas.openxmlformats.org/officeDocument/2006/relationships/image" Target="../media/image33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28.jpeg"/><Relationship Id="rId7" Type="http://schemas.openxmlformats.org/officeDocument/2006/relationships/image" Target="../media/image26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632720" cy="23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ffff"/>
                </a:solidFill>
                <a:latin typeface="Arial"/>
              </a:rPr>
              <a:t>Deutsch International:</a:t>
            </a:r>
            <a:br>
              <a:rPr sz="5000"/>
            </a:br>
            <a:br>
              <a:rPr sz="2000"/>
            </a:br>
            <a:r>
              <a:rPr b="0" lang="de-DE" sz="5000" spc="-1" strike="noStrike">
                <a:solidFill>
                  <a:srgbClr val="ffffff"/>
                </a:solidFill>
                <a:latin typeface="Arial"/>
              </a:rPr>
              <a:t>Österreich und Schweiz</a:t>
            </a:r>
            <a:endParaRPr b="0" lang="en-US" sz="5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7360" y="5908320"/>
            <a:ext cx="7875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ag. Elisabeth Wielander – Austrian Lektorin – 4. März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outes_into_languages_cmyk"/>
          <p:cNvPicPr/>
          <p:nvPr/>
        </p:nvPicPr>
        <p:blipFill>
          <a:blip r:embed="rId1"/>
          <a:stretch/>
        </p:blipFill>
        <p:spPr>
          <a:xfrm>
            <a:off x="7740720" y="168120"/>
            <a:ext cx="1187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35290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er ist das?</a:t>
            </a:r>
            <a:endParaRPr b="0" lang="en-US" sz="4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12484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7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u siehst neun Bilder auf Seite 2 im Hando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Finde den richtigen Namen zu jedem Bil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rbeite mit deinen Freunden in der Grup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routes_into_languages_cmyk"/>
          <p:cNvPicPr/>
          <p:nvPr/>
        </p:nvPicPr>
        <p:blipFill>
          <a:blip r:embed="rId4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44600" y="259920"/>
            <a:ext cx="308268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b4f14"/>
                </a:solidFill>
                <a:latin typeface="Arial"/>
              </a:rPr>
              <a:t>Wer ist das?</a:t>
            </a:r>
            <a:endParaRPr b="0" lang="en-US" sz="3800" spc="-1" strike="noStrike">
              <a:solidFill>
                <a:srgbClr val="fb4f14"/>
              </a:solidFill>
              <a:latin typeface="Arial"/>
            </a:endParaRPr>
          </a:p>
        </p:txBody>
      </p:sp>
      <p:pic>
        <p:nvPicPr>
          <p:cNvPr id="142" name="Picture 4" descr="routes_into_languages_cmyk"/>
          <p:cNvPicPr/>
          <p:nvPr/>
        </p:nvPicPr>
        <p:blipFill>
          <a:blip r:embed="rId1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Johanna-spyri"/>
          <p:cNvPicPr/>
          <p:nvPr/>
        </p:nvPicPr>
        <p:blipFill>
          <a:blip r:embed="rId2"/>
          <a:stretch/>
        </p:blipFill>
        <p:spPr>
          <a:xfrm>
            <a:off x="179280" y="1844640"/>
            <a:ext cx="134964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Hermann Maier"/>
          <p:cNvPicPr/>
          <p:nvPr/>
        </p:nvPicPr>
        <p:blipFill>
          <a:blip r:embed="rId3"/>
          <a:stretch/>
        </p:blipFill>
        <p:spPr>
          <a:xfrm>
            <a:off x="2004840" y="1052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ild:Christina Stürmer.jpg"/>
          <p:cNvPicPr/>
          <p:nvPr/>
        </p:nvPicPr>
        <p:blipFill>
          <a:blip r:embed="rId4"/>
          <a:stretch/>
        </p:blipFill>
        <p:spPr>
          <a:xfrm>
            <a:off x="3754440" y="907920"/>
            <a:ext cx="1322280" cy="20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alifornia Governor Arnold Schwarzenegger"/>
          <p:cNvPicPr/>
          <p:nvPr/>
        </p:nvPicPr>
        <p:blipFill>
          <a:blip r:embed="rId5"/>
          <a:stretch/>
        </p:blipFill>
        <p:spPr>
          <a:xfrm>
            <a:off x="5292720" y="1628640"/>
            <a:ext cx="1590840" cy="165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Dietrich mateschitz"/>
          <p:cNvPicPr/>
          <p:nvPr/>
        </p:nvPicPr>
        <p:blipFill>
          <a:blip r:embed="rId6"/>
          <a:stretch/>
        </p:blipFill>
        <p:spPr>
          <a:xfrm>
            <a:off x="7236000" y="2508120"/>
            <a:ext cx="1800000" cy="1425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DJ Bobo"/>
          <p:cNvPicPr/>
          <p:nvPr/>
        </p:nvPicPr>
        <p:blipFill>
          <a:blip r:embed="rId7"/>
          <a:stretch/>
        </p:blipFill>
        <p:spPr>
          <a:xfrm>
            <a:off x="108000" y="4219560"/>
            <a:ext cx="1353960" cy="187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Roger Federer"/>
          <p:cNvPicPr/>
          <p:nvPr/>
        </p:nvPicPr>
        <p:blipFill>
          <a:blip r:embed="rId8"/>
          <a:stretch/>
        </p:blipFill>
        <p:spPr>
          <a:xfrm>
            <a:off x="2050920" y="3716280"/>
            <a:ext cx="1417680" cy="223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albert-einstein"/>
          <p:cNvPicPr/>
          <p:nvPr/>
        </p:nvPicPr>
        <p:blipFill>
          <a:blip r:embed="rId9"/>
          <a:stretch/>
        </p:blipFill>
        <p:spPr>
          <a:xfrm>
            <a:off x="4067280" y="4005360"/>
            <a:ext cx="1657080" cy="21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mozart"/>
          <p:cNvPicPr/>
          <p:nvPr/>
        </p:nvPicPr>
        <p:blipFill>
          <a:blip r:embed="rId10"/>
          <a:stretch/>
        </p:blipFill>
        <p:spPr>
          <a:xfrm>
            <a:off x="6084720" y="4149720"/>
            <a:ext cx="1798920" cy="1943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1690920" y="318780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Hermann Maier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4200" y="138096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4d4f53"/>
                </a:solidFill>
                <a:latin typeface="Arial"/>
              </a:rPr>
              <a:t>Johanna Spyri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5218200" y="9810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Christina Stürmer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6946560" y="1557360"/>
            <a:ext cx="209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Arnold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Schwarzenegger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4930560" y="342900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Dietrich Mateschitz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173520" y="6127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DJ Bobo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1798560" y="602136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Roger Federer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974400" y="6272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Albert Einstein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299640" y="623736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f53"/>
                </a:solidFill>
                <a:latin typeface="Arial"/>
              </a:rPr>
              <a:t>W. A. Mozar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35290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as ist das?</a:t>
            </a:r>
            <a:endParaRPr b="0" lang="en-US" sz="4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f Seite drei und vier auf dem Handout siehst du 10 Produkte aus Deutschland, Österreich und der Schwei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iskutiere mit deinen Freunden in der Grupp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as für ein Produkt ist d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s welchem Land kommt das Produk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routes_into_languages_cmyk"/>
          <p:cNvPicPr/>
          <p:nvPr/>
        </p:nvPicPr>
        <p:blipFill>
          <a:blip r:embed="rId5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outes_into_languages_cmyk"/>
          <p:cNvPicPr/>
          <p:nvPr/>
        </p:nvPicPr>
        <p:blipFill>
          <a:blip r:embed="rId1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3492360" y="333360"/>
            <a:ext cx="3529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as ist das?</a:t>
            </a:r>
            <a:endParaRPr b="0" lang="en-US" sz="4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6448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heißt die richtige Antw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utsch!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ist… eine Kräuterlimon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Bild zeigt… eine Armbanduh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Bild sieht man… Schoko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Schokolade kommt a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98048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4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ie Schokolade (x2)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as Auto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as Stofftier 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as Klappmess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ie Marmelade 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ie Schokowaffel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ie Kräuterlimonade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ie Handcrem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as Energy-Getränk 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ieUh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routes_into_languages_cmyk"/>
          <p:cNvPicPr/>
          <p:nvPr/>
        </p:nvPicPr>
        <p:blipFill>
          <a:blip r:embed="rId1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3492360" y="333360"/>
            <a:ext cx="3529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as ist das?</a:t>
            </a:r>
            <a:endParaRPr b="0" lang="en-US" sz="4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routes_into_languages_cmyk"/>
          <p:cNvPicPr/>
          <p:nvPr/>
        </p:nvPicPr>
        <p:blipFill>
          <a:blip r:embed="rId1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492360" y="333360"/>
            <a:ext cx="3529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as ist das?</a:t>
            </a:r>
            <a:endParaRPr b="0" lang="en-US" sz="40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72" name="Picture 7" descr="Mozartkugeln"/>
          <p:cNvPicPr/>
          <p:nvPr/>
        </p:nvPicPr>
        <p:blipFill>
          <a:blip r:embed="rId2"/>
          <a:stretch/>
        </p:blipFill>
        <p:spPr>
          <a:xfrm>
            <a:off x="611280" y="1484280"/>
            <a:ext cx="1728720" cy="1290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2971440" y="157464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Schokolade - Mozartkugel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74" name="Picture 9" descr="o653846b"/>
          <p:cNvPicPr/>
          <p:nvPr/>
        </p:nvPicPr>
        <p:blipFill>
          <a:blip r:embed="rId3"/>
          <a:stretch/>
        </p:blipFill>
        <p:spPr>
          <a:xfrm>
            <a:off x="6859440" y="1484280"/>
            <a:ext cx="952560" cy="63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Love for Swatch"/>
          <p:cNvPicPr/>
          <p:nvPr/>
        </p:nvPicPr>
        <p:blipFill>
          <a:blip r:embed="rId4"/>
          <a:stretch/>
        </p:blipFill>
        <p:spPr>
          <a:xfrm>
            <a:off x="684360" y="306864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1"/>
          <p:cNvSpPr/>
          <p:nvPr/>
        </p:nvSpPr>
        <p:spPr>
          <a:xfrm>
            <a:off x="2487960" y="342756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Swatch - Armbanduhren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77" name="Picture 12" descr="schweiz"/>
          <p:cNvPicPr/>
          <p:nvPr/>
        </p:nvPicPr>
        <p:blipFill>
          <a:blip r:embed="rId5"/>
          <a:stretch/>
        </p:blipFill>
        <p:spPr>
          <a:xfrm>
            <a:off x="6445080" y="3357720"/>
            <a:ext cx="935280" cy="70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prodpicnr2255-manner-austriaonlineshop"/>
          <p:cNvPicPr/>
          <p:nvPr/>
        </p:nvPicPr>
        <p:blipFill>
          <a:blip r:embed="rId6"/>
          <a:stretch/>
        </p:blipFill>
        <p:spPr>
          <a:xfrm>
            <a:off x="611280" y="472428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4"/>
          <p:cNvSpPr/>
          <p:nvPr/>
        </p:nvSpPr>
        <p:spPr>
          <a:xfrm>
            <a:off x="2559240" y="530064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Manner - Schokowaffeln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80" name="Picture 15" descr="o653846b"/>
          <p:cNvPicPr/>
          <p:nvPr/>
        </p:nvPicPr>
        <p:blipFill>
          <a:blip r:embed="rId7"/>
          <a:stretch/>
        </p:blipFill>
        <p:spPr>
          <a:xfrm>
            <a:off x="6715080" y="5229360"/>
            <a:ext cx="952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outes_into_languages_cmyk"/>
          <p:cNvPicPr/>
          <p:nvPr/>
        </p:nvPicPr>
        <p:blipFill>
          <a:blip r:embed="rId1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3492360" y="333360"/>
            <a:ext cx="3529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as ist das?</a:t>
            </a:r>
            <a:endParaRPr b="0" lang="en-US" sz="40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83" name="Picture 6" descr="800px-Toblerone-1"/>
          <p:cNvPicPr/>
          <p:nvPr/>
        </p:nvPicPr>
        <p:blipFill>
          <a:blip r:embed="rId2"/>
          <a:stretch/>
        </p:blipFill>
        <p:spPr>
          <a:xfrm>
            <a:off x="826920" y="1557360"/>
            <a:ext cx="2016360" cy="105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Nivea-Creme"/>
          <p:cNvPicPr/>
          <p:nvPr/>
        </p:nvPicPr>
        <p:blipFill>
          <a:blip r:embed="rId3"/>
          <a:stretch/>
        </p:blipFill>
        <p:spPr>
          <a:xfrm>
            <a:off x="971640" y="2997360"/>
            <a:ext cx="1552320" cy="1584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Red_Bull"/>
          <p:cNvPicPr/>
          <p:nvPr/>
        </p:nvPicPr>
        <p:blipFill>
          <a:blip r:embed="rId4"/>
          <a:stretch/>
        </p:blipFill>
        <p:spPr>
          <a:xfrm>
            <a:off x="1042920" y="4724280"/>
            <a:ext cx="1305000" cy="1739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1"/>
          <p:cNvSpPr/>
          <p:nvPr/>
        </p:nvSpPr>
        <p:spPr>
          <a:xfrm>
            <a:off x="3270240" y="1700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Schokolade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847240" y="35719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Nivea - Handcreme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703960" y="54435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Red Bull – Energy-Getränk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89" name="Picture 14" descr="schweiz"/>
          <p:cNvPicPr/>
          <p:nvPr/>
        </p:nvPicPr>
        <p:blipFill>
          <a:blip r:embed="rId5"/>
          <a:stretch/>
        </p:blipFill>
        <p:spPr>
          <a:xfrm>
            <a:off x="6156360" y="1628640"/>
            <a:ext cx="934920" cy="70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flagge_deutschland"/>
          <p:cNvPicPr/>
          <p:nvPr/>
        </p:nvPicPr>
        <p:blipFill>
          <a:blip r:embed="rId6"/>
          <a:stretch/>
        </p:blipFill>
        <p:spPr>
          <a:xfrm>
            <a:off x="6356520" y="3419640"/>
            <a:ext cx="1095120" cy="73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o653846b"/>
          <p:cNvPicPr/>
          <p:nvPr/>
        </p:nvPicPr>
        <p:blipFill>
          <a:blip r:embed="rId7"/>
          <a:stretch/>
        </p:blipFill>
        <p:spPr>
          <a:xfrm>
            <a:off x="6932520" y="5315040"/>
            <a:ext cx="952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o653846b"/>
          <p:cNvPicPr/>
          <p:nvPr/>
        </p:nvPicPr>
        <p:blipFill>
          <a:blip r:embed="rId1"/>
          <a:stretch/>
        </p:blipFill>
        <p:spPr>
          <a:xfrm>
            <a:off x="4356000" y="3789360"/>
            <a:ext cx="952560" cy="635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492360" y="333360"/>
            <a:ext cx="3529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as ist das?</a:t>
            </a:r>
            <a:endParaRPr b="0" lang="en-US" sz="40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94" name="Picture 6" descr="800px-Swiss_Army_Knife"/>
          <p:cNvPicPr/>
          <p:nvPr/>
        </p:nvPicPr>
        <p:blipFill>
          <a:blip r:embed="rId2"/>
          <a:stretch/>
        </p:blipFill>
        <p:spPr>
          <a:xfrm>
            <a:off x="684360" y="1341360"/>
            <a:ext cx="1584000" cy="118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Almdudler"/>
          <p:cNvPicPr/>
          <p:nvPr/>
        </p:nvPicPr>
        <p:blipFill>
          <a:blip r:embed="rId3"/>
          <a:stretch/>
        </p:blipFill>
        <p:spPr>
          <a:xfrm>
            <a:off x="905040" y="2997360"/>
            <a:ext cx="952200" cy="1726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Steiff Teddybär"/>
          <p:cNvPicPr/>
          <p:nvPr/>
        </p:nvPicPr>
        <p:blipFill>
          <a:blip r:embed="rId4"/>
          <a:stretch/>
        </p:blipFill>
        <p:spPr>
          <a:xfrm>
            <a:off x="7236000" y="1413000"/>
            <a:ext cx="1226880" cy="1743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rose-marille-darbo-fruechte"/>
          <p:cNvPicPr/>
          <p:nvPr/>
        </p:nvPicPr>
        <p:blipFill>
          <a:blip r:embed="rId5"/>
          <a:stretch/>
        </p:blipFill>
        <p:spPr>
          <a:xfrm>
            <a:off x="250920" y="5187960"/>
            <a:ext cx="1882800" cy="1344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"/>
          <p:cNvSpPr/>
          <p:nvPr/>
        </p:nvSpPr>
        <p:spPr>
          <a:xfrm>
            <a:off x="2559960" y="174960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Schweizermesser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985040" y="3260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Almdudler - Kräuterlimonade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980720" y="5589720"/>
            <a:ext cx="323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Marmelade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- Aprikose / Marille (Ö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7079400" y="321300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Stofftier -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Firma Steiff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202" name="Picture 14" descr="schweiz"/>
          <p:cNvPicPr/>
          <p:nvPr/>
        </p:nvPicPr>
        <p:blipFill>
          <a:blip r:embed="rId6"/>
          <a:stretch/>
        </p:blipFill>
        <p:spPr>
          <a:xfrm>
            <a:off x="5292720" y="1628640"/>
            <a:ext cx="934920" cy="70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o653846b"/>
          <p:cNvPicPr/>
          <p:nvPr/>
        </p:nvPicPr>
        <p:blipFill>
          <a:blip r:embed="rId7"/>
          <a:stretch/>
        </p:blipFill>
        <p:spPr>
          <a:xfrm>
            <a:off x="5348160" y="5734080"/>
            <a:ext cx="952560" cy="635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flagge_deutschland"/>
          <p:cNvPicPr/>
          <p:nvPr/>
        </p:nvPicPr>
        <p:blipFill>
          <a:blip r:embed="rId8"/>
          <a:stretch/>
        </p:blipFill>
        <p:spPr>
          <a:xfrm>
            <a:off x="7380360" y="4282920"/>
            <a:ext cx="10954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79804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anke fürs Mitmach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ute Heimrei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360" y="1219320"/>
            <a:ext cx="6251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b4f14"/>
                </a:solidFill>
                <a:latin typeface="Arial"/>
              </a:rPr>
              <a:t>Gruppeneinteilung</a:t>
            </a:r>
            <a:endParaRPr b="0" lang="en-US" sz="36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790884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ieh dir das Bild an – Wer hat es noch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as ist deine Grupp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etz dich mit deiner Gruppe an den Tisch mit deinem Symb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routes_into_languages_cmyk"/>
          <p:cNvPicPr/>
          <p:nvPr/>
        </p:nvPicPr>
        <p:blipFill>
          <a:blip r:embed="rId4"/>
          <a:stretch/>
        </p:blipFill>
        <p:spPr>
          <a:xfrm>
            <a:off x="8028000" y="168120"/>
            <a:ext cx="90000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4920" y="325080"/>
            <a:ext cx="316872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Wer bin ich?</a:t>
            </a:r>
            <a:endParaRPr b="0" lang="en-US" sz="4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75928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n Name ist Elisabeth Wiela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bin 35 Jahre 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komme aus Niederösterre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ne Famili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ter Leopold und Mutter 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wister Helga und Bern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ltern Leopold und Marga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routes_into_languages_cmyk"/>
          <p:cNvPicPr/>
          <p:nvPr/>
        </p:nvPicPr>
        <p:blipFill>
          <a:blip r:embed="rId8"/>
          <a:stretch/>
        </p:blipFill>
        <p:spPr>
          <a:xfrm>
            <a:off x="8028000" y="168120"/>
            <a:ext cx="900000" cy="72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Leo_Helga_Lena"/>
          <p:cNvPicPr/>
          <p:nvPr/>
        </p:nvPicPr>
        <p:blipFill>
          <a:blip r:embed="rId9"/>
          <a:stretch/>
        </p:blipFill>
        <p:spPr>
          <a:xfrm>
            <a:off x="324000" y="479736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Papa_Lena"/>
          <p:cNvPicPr/>
          <p:nvPr/>
        </p:nvPicPr>
        <p:blipFill>
          <a:blip r:embed="rId10"/>
          <a:stretch/>
        </p:blipFill>
        <p:spPr>
          <a:xfrm>
            <a:off x="6516720" y="436572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Opa 87"/>
          <p:cNvPicPr/>
          <p:nvPr/>
        </p:nvPicPr>
        <p:blipFill>
          <a:blip r:embed="rId11"/>
          <a:stretch/>
        </p:blipFill>
        <p:spPr>
          <a:xfrm>
            <a:off x="6227640" y="160956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Oma und Gregor"/>
          <p:cNvPicPr/>
          <p:nvPr/>
        </p:nvPicPr>
        <p:blipFill>
          <a:blip r:embed="rId12"/>
          <a:stretch/>
        </p:blipFill>
        <p:spPr>
          <a:xfrm>
            <a:off x="3348000" y="4797360"/>
            <a:ext cx="24796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181080"/>
            <a:ext cx="53294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b4f14"/>
                </a:solidFill>
                <a:latin typeface="Arial"/>
              </a:rPr>
              <a:t>Wo spricht man Deutsch?</a:t>
            </a:r>
            <a:endParaRPr b="0" lang="en-US" sz="3600" spc="-1" strike="noStrike">
              <a:solidFill>
                <a:srgbClr val="fb4f14"/>
              </a:solidFill>
              <a:latin typeface="Arial"/>
            </a:endParaRPr>
          </a:p>
        </p:txBody>
      </p:sp>
      <p:pic>
        <p:nvPicPr>
          <p:cNvPr id="95" name="Picture 4" descr="routes_into_languages_cmyk"/>
          <p:cNvPicPr/>
          <p:nvPr/>
        </p:nvPicPr>
        <p:blipFill>
          <a:blip r:embed="rId1"/>
          <a:stretch/>
        </p:blipFill>
        <p:spPr>
          <a:xfrm>
            <a:off x="8028000" y="168120"/>
            <a:ext cx="900000" cy="72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Abb"/>
          <p:cNvPicPr/>
          <p:nvPr/>
        </p:nvPicPr>
        <p:blipFill>
          <a:blip r:embed="rId2"/>
          <a:stretch/>
        </p:blipFill>
        <p:spPr>
          <a:xfrm>
            <a:off x="2463840" y="981000"/>
            <a:ext cx="5564160" cy="579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83240" y="1628640"/>
            <a:ext cx="1974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in: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Deutschland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Österreich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Schweiz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Liechtenstein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80720" y="4038480"/>
            <a:ext cx="1994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auch in: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Luxemburg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Südtirol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Ostbelgien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f53"/>
                </a:solidFill>
                <a:latin typeface="Arial"/>
              </a:rPr>
              <a:t>Ostfrankreich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1363320"/>
            <a:ext cx="540072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Das Österreich-Puzzle</a:t>
            </a:r>
            <a:endParaRPr b="0" lang="en-US" sz="4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3520" y="2709360"/>
            <a:ext cx="790884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4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Das Puzzle hat neun Tei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Nimm die Teile aus dem Umschlag 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lege sie richtig zusammen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routes_into_languages_cmyk"/>
          <p:cNvPicPr/>
          <p:nvPr/>
        </p:nvPicPr>
        <p:blipFill>
          <a:blip r:embed="rId4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404640"/>
            <a:ext cx="475308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b4f14"/>
                </a:solidFill>
                <a:latin typeface="Arial"/>
              </a:rPr>
              <a:t>Das Österreich-Puzzle II</a:t>
            </a:r>
            <a:endParaRPr b="0" lang="en-US" sz="34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50920" y="1413000"/>
            <a:ext cx="8064000" cy="4536720"/>
            <a:chOff x="250920" y="1413000"/>
            <a:chExt cx="8064000" cy="4536720"/>
          </a:xfrm>
        </p:grpSpPr>
        <p:pic>
          <p:nvPicPr>
            <p:cNvPr id="105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8064000" cy="45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7"/>
            <p:cNvSpPr/>
            <p:nvPr/>
          </p:nvSpPr>
          <p:spPr>
            <a:xfrm>
              <a:off x="250920" y="1413000"/>
              <a:ext cx="8064000" cy="45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f53"/>
                </a:solidFill>
                <a:latin typeface="Arial"/>
              </a:endParaRPr>
            </a:p>
          </p:txBody>
        </p:sp>
      </p:grpSp>
      <p:pic>
        <p:nvPicPr>
          <p:cNvPr id="107" name="Picture 8" descr="routes_into_languages_cmyk"/>
          <p:cNvPicPr/>
          <p:nvPr/>
        </p:nvPicPr>
        <p:blipFill>
          <a:blip r:embed="rId2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  <p:sp>
        <p:nvSpPr>
          <p:cNvPr id="108" name="Line 9"/>
          <p:cNvSpPr/>
          <p:nvPr/>
        </p:nvSpPr>
        <p:spPr>
          <a:xfrm>
            <a:off x="324000" y="3645000"/>
            <a:ext cx="8569080" cy="0"/>
          </a:xfrm>
          <a:prstGeom prst="line">
            <a:avLst/>
          </a:prstGeom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54360" y="15764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Nordwest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070160" y="10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Nord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26000" y="3213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West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903240" y="56610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Südwest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3998520" y="63025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Süd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7167240" y="5438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Südost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7167600" y="12682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Nordost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7850520" y="36450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f53"/>
                </a:solidFill>
                <a:latin typeface="Arial"/>
              </a:rPr>
              <a:t>der Osten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0920" y="1290600"/>
            <a:ext cx="56181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b4f14"/>
                </a:solidFill>
                <a:latin typeface="Arial"/>
              </a:rPr>
              <a:t>Das Österreich-Puzzle II</a:t>
            </a:r>
            <a:endParaRPr b="0" lang="en-US" sz="4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064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4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Nimm die Streifen mit den Namen der Bundesländer 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lege die Namen zu den richtigen Bundesländern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outes_into_languages_cmyk"/>
          <p:cNvPicPr/>
          <p:nvPr/>
        </p:nvPicPr>
        <p:blipFill>
          <a:blip r:embed="rId3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3640" y="121932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b4f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routes_into_languages_cmyk"/>
          <p:cNvPicPr/>
          <p:nvPr/>
        </p:nvPicPr>
        <p:blipFill>
          <a:blip r:embed="rId1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8064360" cy="4818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2774520" y="1488960"/>
            <a:ext cx="23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4. Oberösterreich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693800" y="2930400"/>
            <a:ext cx="159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5. Salzburg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295240" y="858960"/>
            <a:ext cx="25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3. Niederösterreich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7929360" y="2209680"/>
            <a:ext cx="112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9. Wien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7238160" y="3956040"/>
            <a:ext cx="192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1. Burgenland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7095960" y="5035680"/>
            <a:ext cx="184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6. Steiermark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861800" y="5972040"/>
            <a:ext cx="146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2. Kärnten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126160" y="5378400"/>
            <a:ext cx="103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7. Tirol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-33480" y="5234040"/>
            <a:ext cx="17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f53"/>
                </a:solidFill>
                <a:latin typeface="Arial"/>
              </a:rPr>
              <a:t>8. Vorarlberg</a:t>
            </a:r>
            <a:endParaRPr b="0" lang="en-US" sz="2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2627280" y="189000"/>
            <a:ext cx="4753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b4f14"/>
                </a:solidFill>
                <a:latin typeface="Arial"/>
              </a:rPr>
              <a:t>Das Österreich-Puzzle II</a:t>
            </a:r>
            <a:endParaRPr b="0" lang="en-US" sz="3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280" y="2781000"/>
            <a:ext cx="82090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st Österreich am Me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Gibt es in der Schweiz viel Schnee im Win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as isst man in Österrei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Kann man in der Schweiz gute Schokolade kauf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907640" y="1341360"/>
            <a:ext cx="626436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b4f14"/>
                </a:solidFill>
                <a:latin typeface="Arial"/>
              </a:rPr>
              <a:t>Was weißt du über </a:t>
            </a:r>
            <a:br>
              <a:rPr sz="3400"/>
            </a:br>
            <a:r>
              <a:rPr b="1" lang="de-DE" sz="3400" spc="-1" strike="noStrike">
                <a:solidFill>
                  <a:srgbClr val="fb4f14"/>
                </a:solidFill>
                <a:latin typeface="Arial"/>
              </a:rPr>
              <a:t>Österreich</a:t>
            </a:r>
            <a:r>
              <a:rPr b="0" lang="de-DE" sz="3400" spc="-1" strike="noStrike">
                <a:solidFill>
                  <a:srgbClr val="fb4f14"/>
                </a:solidFill>
                <a:latin typeface="Arial"/>
              </a:rPr>
              <a:t> und die </a:t>
            </a:r>
            <a:r>
              <a:rPr b="1" lang="de-DE" sz="3400" spc="-1" strike="noStrike">
                <a:solidFill>
                  <a:srgbClr val="fb4f14"/>
                </a:solidFill>
                <a:latin typeface="Arial"/>
              </a:rPr>
              <a:t>Schweiz</a:t>
            </a:r>
            <a:r>
              <a:rPr b="0" lang="de-DE" sz="3400" spc="-1" strike="noStrike">
                <a:solidFill>
                  <a:srgbClr val="fb4f14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fb4f14"/>
              </a:solidFill>
              <a:latin typeface="Arial"/>
            </a:endParaRPr>
          </a:p>
        </p:txBody>
      </p:sp>
      <p:pic>
        <p:nvPicPr>
          <p:cNvPr id="137" name="Picture 4" descr="routes_into_languages_cmyk"/>
          <p:cNvPicPr/>
          <p:nvPr/>
        </p:nvPicPr>
        <p:blipFill>
          <a:blip r:embed="rId5"/>
          <a:stretch/>
        </p:blipFill>
        <p:spPr>
          <a:xfrm>
            <a:off x="7956720" y="168120"/>
            <a:ext cx="9712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41:00Z</dcterms:created>
  <dc:creator>wielande</dc:creator>
  <dc:description/>
  <dc:language>en-US</dc:language>
  <cp:lastModifiedBy>wielande</cp:lastModifiedBy>
  <dcterms:modified xsi:type="dcterms:W3CDTF">2009-06-25T13:38:37Z</dcterms:modified>
  <cp:revision>16</cp:revision>
  <dc:subject/>
  <dc:title>Deutsch International:  German beyond Germany</dc:title>
</cp:coreProperties>
</file>