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687-AB3D-4897-8FE9-B0D7781D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37B-246B-40CC-8C53-B2BCAD08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6EF-461D-45C0-A4B5-6FB245C6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AFF-86EA-4AF1-BEAE-35E9A658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56F-5455-45FE-B8C1-EE802D93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5E9-A639-45C3-A693-59929647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ABE-8E20-4593-B558-B2116320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D22-3B03-4302-87AD-4395A359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BDE-EDE2-4DBB-A9A3-FA46F923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0D3-753D-4E7D-B775-3FB1696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AB7-9095-48EB-A7CF-E3374F38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745-B9A9-42DA-8F43-78C9FFDB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62760"/>
            <a:ext cx="2050920" cy="795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9ADB-95F7-4BC4-BEB0-6B6C361975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uot2@aston.ac.uk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chinese/index.shtml?survey=no&amp;url=www.bbc.co.uk/languages/chinese/index.shtml&amp;site=languagesmandarin&amp;js=yes" TargetMode="External"/><Relationship Id="rId2" Type="http://schemas.openxmlformats.org/officeDocument/2006/relationships/hyperlink" Target="http://www.instantspeakchinese.com/pinyin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chinese/real_chinese/start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中文</a:t>
            </a:r>
            <a:br>
              <a:rPr sz="48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ndari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nes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ebrating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ng G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uot2@aston.ac.u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785-211A-4980-A6DF-17C3E11510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nese numbers one to 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ī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èr(2)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sān(3)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ì(4)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ǔ(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八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ù(6) qī(7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bā(8)   jiǔ (9)    shí 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E7A-FC08-4CF0-9577-804A2ADECE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í y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十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í èr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十二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, 14, 15, 16, 17, 18,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è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í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十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, 40, 50, 60, 70, 80, 9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è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í y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十一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,23,24,25,26,27,28,29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ībǎi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cou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Prepare three numbers (1-100) for your partner to count in Chinese Mandar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FA0-725C-4C47-935B-A91BD018B8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rases that make you sound like Chin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Bícǐ Bícǐ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  (bee tsuh bee tsuh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Same to you; You to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i Wán Xiào (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ky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(rhymes with pie)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wahn shyaow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Just kidding, or You’ve got to be kidding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ū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  (mah mah hoo hoo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So-s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670-19CD-4CC5-9741-EEB5AD677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BC Languag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bc.co.uk/languages/chinese/index.shtml?survey=no&amp;url=www.bbc.co.uk/languages/chinese/index.shtml&amp;site=languagesmandarin&amp;js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 Chinese Piny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nstantspeakchinese.com/pinyi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302-3034-4027-AC67-B7B5A3D9F8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! I am Ting! I am from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4537080" cy="417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63640" y="5516640"/>
            <a:ext cx="62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ihao! Wo Jiao T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o lai zi Zhongg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D91-A98C-45AD-9C01-73E68EB5D7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 of this session you should be abl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the origin of Chines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e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e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 from one to ten in C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s to be sound like a C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AC0-4C9E-4CD1-AE79-F556E1C480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834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Letters but characte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66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69923a"/>
                </a:solidFill>
                <a:latin typeface="Arial"/>
              </a:rPr>
              <a:t>Jiaguwen (Script in oracle b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79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93636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258920" y="206064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0360" y="2708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348000" y="2276640"/>
            <a:ext cx="1582920" cy="111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003640" y="2276640"/>
            <a:ext cx="792360" cy="115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000" y="1341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69923a"/>
                </a:solidFill>
                <a:latin typeface="Arial"/>
              </a:rPr>
              <a:t>Jinwen </a:t>
            </a:r>
            <a:r>
              <a:rPr b="0" lang="zh-CN" sz="1800" spc="-1" strike="noStrike">
                <a:solidFill>
                  <a:srgbClr val="69923a"/>
                </a:solidFill>
                <a:latin typeface="Arial"/>
              </a:rPr>
              <a:t>(Script in the me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093080" y="2060640"/>
            <a:ext cx="1255680" cy="1511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516720" y="13413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69923a"/>
                </a:solidFill>
                <a:latin typeface="Arial"/>
              </a:rPr>
              <a:t>Xiaozhuan</a:t>
            </a:r>
            <a:r>
              <a:rPr b="0" lang="zh-CN" sz="1800" spc="-1" strike="noStrike">
                <a:solidFill>
                  <a:srgbClr val="69923a"/>
                </a:solidFill>
                <a:latin typeface="Arial"/>
              </a:rPr>
              <a:t> (Script in  bamboo and w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3645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5373720"/>
            <a:ext cx="576000" cy="216000"/>
          </a:xfrm>
          <a:prstGeom prst="leftArrow">
            <a:avLst>
              <a:gd name="adj1" fmla="val 50000"/>
              <a:gd name="adj2" fmla="val 6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7236000" y="4869000"/>
            <a:ext cx="990360" cy="151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48360" y="4149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69923a"/>
                </a:solidFill>
                <a:latin typeface="Arial"/>
              </a:rPr>
              <a:t>Lishu</a:t>
            </a:r>
            <a:r>
              <a:rPr b="0" lang="zh-CN" sz="1800" spc="-1" strike="noStrike">
                <a:solidFill>
                  <a:srgbClr val="69923a"/>
                </a:solidFill>
                <a:latin typeface="Arial"/>
              </a:rPr>
              <a:t> (script used by the sla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637000"/>
            <a:ext cx="576000" cy="215640"/>
          </a:xfrm>
          <a:prstGeom prst="rightArrow">
            <a:avLst>
              <a:gd name="adj1" fmla="val 50000"/>
              <a:gd name="adj2" fmla="val 6677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3924360" y="5084640"/>
            <a:ext cx="2314440" cy="1438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95640" y="4221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69923a"/>
                </a:solidFill>
                <a:latin typeface="Arial"/>
              </a:rPr>
              <a:t>Kaishu </a:t>
            </a:r>
            <a:r>
              <a:rPr b="0" lang="zh-CN" sz="1800" spc="-1" strike="noStrike">
                <a:solidFill>
                  <a:srgbClr val="69923a"/>
                </a:solidFill>
                <a:latin typeface="Arial"/>
              </a:rPr>
              <a:t>(standard scr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5373720"/>
            <a:ext cx="577800" cy="216000"/>
          </a:xfrm>
          <a:prstGeom prst="leftArrow">
            <a:avLst>
              <a:gd name="adj1" fmla="val 50000"/>
              <a:gd name="adj2" fmla="val 6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47242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1" lang="en-US" sz="7200" spc="-1" strike="noStrike">
                <a:solidFill>
                  <a:srgbClr val="8c1439"/>
                </a:solidFill>
                <a:latin typeface="Britannic Bold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5E5-E2B4-4050-B642-210D9969CF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12493" t="0" r="0" b="0"/>
          <a:stretch/>
        </p:blipFill>
        <p:spPr>
          <a:xfrm>
            <a:off x="1547640" y="260280"/>
            <a:ext cx="7062840" cy="636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478-9E8C-4140-BA2E-45D47EB6B2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n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tones and a toneless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bc.co.uk/languages/chinese/real_chinese/start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1E1-89B8-4316-9326-2DC089079B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īn Nián K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(Happy New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年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nǐ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hǎo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zài jiàn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xiè xiè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你好             再见              谢谢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llo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ood-by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ǒ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我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I, 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63E-FEF2-4841-8915-0B54F58EC1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Gr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6911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ǎo 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ā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好吗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ǒ hěn hǎ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iè xiè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很好。谢谢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 am fine, 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ài jiàn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再见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B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ài jiàn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再见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B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242100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00440" y="5338800"/>
            <a:ext cx="5443560" cy="15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621-4814-4D29-9A6B-0C5D686D4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7966"/>
            </a:gs>
            <a:gs pos="100000">
              <a:srgbClr val="f9d7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ing yourself -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ǐ jiào shěn me?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叫什么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3200" spc="-1" strike="noStrike">
                <a:solidFill>
                  <a:srgbClr val="009999"/>
                </a:solidFill>
                <a:latin typeface="Times New Roman"/>
              </a:rPr>
              <a:t>(What’s your name?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ǒ jiào …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叫 </a:t>
            </a:r>
            <a:r>
              <a:rPr b="0" lang="en-GB" sz="3200" spc="-1" strike="noStrike">
                <a:solidFill>
                  <a:srgbClr val="009999"/>
                </a:solidFill>
                <a:latin typeface="Times New Roman"/>
              </a:rPr>
              <a:t>(My name is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B7C-0F3E-4B56-A81A-5C99CC9F67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5:54:34Z</dcterms:created>
  <dc:creator>Haotian Ren</dc:creator>
  <dc:description/>
  <dc:language>en-US</dc:language>
  <cp:lastModifiedBy>isastaff</cp:lastModifiedBy>
  <dcterms:modified xsi:type="dcterms:W3CDTF">2009-03-02T14:05:45Z</dcterms:modified>
  <cp:revision>34</cp:revision>
  <dc:subject/>
  <dc:title>中文 Chinese Mandarin  Taster Session</dc:title>
</cp:coreProperties>
</file>