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28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1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9.png" ContentType="image/png"/>
  <Override PartName="/ppt/media/image33.jpeg" ContentType="image/jpeg"/>
  <Override PartName="/ppt/media/image27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20.png" ContentType="image/png"/>
  <Override PartName="/ppt/media/image2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53F8-1F8A-4B3F-A473-34E001EC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5FED-932F-40DD-959A-7A9E899F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B339-0A1F-471A-89A7-625A25CD3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231D-B55C-4843-A940-52ABDBAB0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5723-B002-49F4-BDB5-5E6DC508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1C08-F713-4C17-A422-7484EE48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5E69-9A2F-49E4-9805-2D7EBA03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EB9C-0B51-4720-8F7F-6C24A1B3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A18C-3149-435B-B9BC-0C59F9AC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32F9-9F82-4A03-BB3E-2841B014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4DAA-4A3E-4D5F-9201-ABF04909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192E-9B4D-4073-A895-AAD080DB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A6E4-313B-4573-96B3-8187643F0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hinagoodgift.com/image/Chinese%20Hand%20Fans/hand%20blue%20silkfans003.jpg" TargetMode="External"/><Relationship Id="rId2" Type="http://schemas.openxmlformats.org/officeDocument/2006/relationships/image" Target="../media/image21.png"/><Relationship Id="rId3" Type="http://schemas.openxmlformats.org/officeDocument/2006/relationships/hyperlink" Target="http://www.chinagoodgift.com/image/Chinese%20Crafts%20Combs/happiness%20and%20prosperity%20comb002.jpg" TargetMode="External"/><Relationship Id="rId4" Type="http://schemas.openxmlformats.org/officeDocument/2006/relationships/image" Target="../media/image22.png"/><Relationship Id="rId5" Type="http://schemas.openxmlformats.org/officeDocument/2006/relationships/hyperlink" Target="http://www.chinagoodgift.com/image/Crafts%20Baskets/crafts%20bamboo%20basket001.jpg" TargetMode="External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inese Art Worksh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3860280"/>
            <a:ext cx="66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i L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488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hinese paper cu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47640" y="2205000"/>
            <a:ext cx="5472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26436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24200" y="1576440"/>
            <a:ext cx="529560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88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835280" y="824040"/>
            <a:ext cx="554508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95640" y="771480"/>
            <a:ext cx="468144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589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Embroidery scr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49280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hinese kno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2476800" cy="4114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508720" y="1989000"/>
            <a:ext cx="180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Other Chinese craft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1773360"/>
            <a:ext cx="2519640" cy="1981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9960" y="2205000"/>
            <a:ext cx="3498840" cy="3743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3640" y="3933720"/>
            <a:ext cx="30956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 Narrow"/>
              </a:rPr>
              <a:t>VISUAL A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28400" y="1523880"/>
            <a:ext cx="30481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alli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inese pai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84720" y="1989000"/>
            <a:ext cx="1719360" cy="3597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124000" y="3645000"/>
            <a:ext cx="38102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hinese mus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66680" y="4724280"/>
            <a:ext cx="2819520" cy="849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037040" y="4038480"/>
            <a:ext cx="1028520" cy="152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105520" y="1828800"/>
            <a:ext cx="698400" cy="2057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066680" y="5702400"/>
            <a:ext cx="4038840" cy="687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5943600" y="1828800"/>
            <a:ext cx="893880" cy="2057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5257800" y="4038480"/>
            <a:ext cx="3352680" cy="2308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4114800" y="1828800"/>
            <a:ext cx="812880" cy="2057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7016760" y="1219320"/>
            <a:ext cx="1552680" cy="2666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>
            <a:off x="1763640" y="3573360"/>
            <a:ext cx="820800" cy="966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>
            <a:off x="2700360" y="2492280"/>
            <a:ext cx="12826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GB" sz="6000" spc="-1" strike="noStrike">
                <a:solidFill>
                  <a:srgbClr val="3333cc"/>
                </a:solidFill>
                <a:latin typeface="Times New Roman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0" i="1" lang="en-GB" sz="6000" spc="-1" strike="noStrike">
                <a:solidFill>
                  <a:srgbClr val="3333cc"/>
                </a:solidFill>
                <a:latin typeface="Times New Roman"/>
              </a:rPr>
              <a:t>Xie xi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hinese calligrap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58920" y="2071800"/>
            <a:ext cx="697068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36600" y="1197000"/>
            <a:ext cx="1909800" cy="4176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08400" y="1125360"/>
            <a:ext cx="22003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784224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alligraphy &amp; Pain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685520"/>
            <a:ext cx="57150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Four valuable items 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pap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pen brus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ink stick (</a:t>
            </a:r>
            <a:r>
              <a:rPr b="0" i="1" lang="en-GB" sz="2000" spc="-1" strike="noStrike">
                <a:solidFill>
                  <a:srgbClr val="000000"/>
                </a:solidFill>
                <a:latin typeface="Arial Narrow"/>
              </a:rPr>
              <a:t>bar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)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ink stone (</a:t>
            </a:r>
            <a:r>
              <a:rPr b="0" i="1" lang="en-GB" sz="2000" spc="-1" strike="noStrike">
                <a:solidFill>
                  <a:srgbClr val="000000"/>
                </a:solidFill>
                <a:latin typeface="Arial Narrow"/>
              </a:rPr>
              <a:t>for ink-producing through grinding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he use of seals, including seal car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n practice, once a stroke has been executed, it cannot be reconsidered or corrected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n China, painting is usually linked to wr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16640" y="706320"/>
            <a:ext cx="2152800" cy="5099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hinese pain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14680" y="2548080"/>
            <a:ext cx="571500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2666880" cy="4835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219640" y="1268280"/>
            <a:ext cx="266724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5640" y="665280"/>
            <a:ext cx="7777080" cy="54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cky Fox</cp:lastModifiedBy>
  <dcterms:modified xsi:type="dcterms:W3CDTF">2008-08-08T13:51:30Z</dcterms:modified>
  <cp:revision>3</cp:revision>
  <dc:subject/>
  <dc:title>PowerPoint Presentation</dc:title>
</cp:coreProperties>
</file>